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15B6-11B3-44F0-A15B-F2CF3F335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254A-57D1-4CB8-9CD6-19101413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ACA6-3B76-4F8B-849F-28A7B831D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7B48-21A0-484D-AD4E-4396A0B3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5E6D-D8EA-4FEF-ACC7-D05FD8D6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EF20-9FC8-4256-804F-1D2ED4AE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BBF4-312D-4829-B1A2-6CCB19FF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0289-7681-485B-9F04-9B2B1368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42560" y="115560"/>
            <a:ext cx="698508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AD37-84C8-4DF2-A8E1-3290DB81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956C-1A09-487E-BEA2-D830E144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7D02-55F4-4AD1-B5BE-6EFAE17C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FF03-5E90-41B0-B77A-3AAD1551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252840"/>
            <a:ext cx="244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B865-3B6B-4819-A912-E382B724DA25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sa 2 (FT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X / </a:t>
            </a:r>
            <a:fld id="{D7C520D1-E2EE-4314-B0A6-9570551FC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logosttt"/>
          <p:cNvPicPr/>
          <p:nvPr/>
        </p:nvPicPr>
        <p:blipFill>
          <a:blip r:embed="rId2"/>
          <a:stretch/>
        </p:blipFill>
        <p:spPr>
          <a:xfrm>
            <a:off x="250920" y="18900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6" name="varkom.avi" descr=""/>
          <p:cNvPicPr/>
          <p:nvPr/>
        </p:nvPicPr>
        <p:blipFill>
          <a:blip r:embed="rId3"/>
          <a:stretch/>
        </p:blipFill>
        <p:spPr>
          <a:xfrm>
            <a:off x="8101080" y="189000"/>
            <a:ext cx="934920" cy="576000"/>
          </a:xfrm>
          <a:prstGeom prst="rect">
            <a:avLst/>
          </a:prstGeom>
          <a:ln w="0">
            <a:noFill/>
          </a:ln>
        </p:spPr>
      </p:pic>
      <p:sp>
        <p:nvSpPr>
          <p:cNvPr id="7" name="Line 13"/>
          <p:cNvSpPr/>
          <p:nvPr/>
        </p:nvSpPr>
        <p:spPr>
          <a:xfrm>
            <a:off x="468360" y="6093000"/>
            <a:ext cx="820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Date Placeholder 3"/>
          <p:cNvSpPr/>
          <p:nvPr/>
        </p:nvSpPr>
        <p:spPr>
          <a:xfrm>
            <a:off x="468360" y="62532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46E5-FD03-4093-99F1-98EE48C880B9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sa 2 (FT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X / </a:t>
            </a:r>
            <a:fld id="{AC2FE72C-7912-4B17-8DBF-03A12EEBB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Rectangle 6" descr=""/>
          <p:cNvPicPr/>
          <p:nvPr/>
        </p:nvPicPr>
        <p:blipFill>
          <a:blip r:embed="rId1"/>
          <a:stretch/>
        </p:blipFill>
        <p:spPr>
          <a:xfrm>
            <a:off x="1285920" y="2766960"/>
            <a:ext cx="6894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3"/>
          <p:cNvSpPr/>
          <p:nvPr/>
        </p:nvSpPr>
        <p:spPr>
          <a:xfrm>
            <a:off x="468360" y="62532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DB6A-0598-4075-BCC8-E77CEF588957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sa 2 (FT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X / </a:t>
            </a:r>
            <a:fld id="{C2741908-0B43-410D-B43E-EC5D45A0B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Turunan Fungsi Analitik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114560" y="1052640"/>
            <a:ext cx="66974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al f(z) analitik di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itik interior) dari C , lintasan tutup dan arah positif, maka integral Cauchy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5"/>
              <p:cNvSpPr txBox="1"/>
              <p:nvPr/>
            </p:nvSpPr>
            <p:spPr>
              <a:xfrm>
                <a:off x="1647720" y="1844640"/>
                <a:ext cx="3024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r>
                          <m:t xml:space="preserve">i</m:t>
                        </m:r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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7"/>
              <p:cNvSpPr txBox="1"/>
              <p:nvPr/>
            </p:nvSpPr>
            <p:spPr>
              <a:xfrm>
                <a:off x="1647720" y="2781360"/>
                <a:ext cx="342900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den>
                    </m:f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sSup>
                              <m:e>
                                <m:r>
                                  <m:t xml:space="preserve"> 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9"/>
              <p:cNvSpPr txBox="1"/>
              <p:nvPr/>
            </p:nvSpPr>
            <p:spPr>
              <a:xfrm>
                <a:off x="1647720" y="3789360"/>
                <a:ext cx="331164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left (z rSub { size 8{0} }  right )= {  {2}  over  {2π`i} }  lInt cSub { size 8{C} }  { {  {f \( z \) }  over  { left (z - z rSub { size 8{0} }  right ) rSup { size 8{3} } } } } ` ital </m:t>
                    </m:r>
                    <m:r>
                      <m:t xml:space="preserve">dz</m:t>
                    </m:r>
                    <m:r>
                      <m:rPr>
                        <m:lit/>
                        <m:nor/>
                      </m:rPr>
                      <m:t xml:space="preserve">} {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3"/>
              <p:cNvSpPr txBox="1"/>
              <p:nvPr/>
            </p:nvSpPr>
            <p:spPr>
              <a:xfrm>
                <a:off x="1816200" y="4673520"/>
                <a:ext cx="29732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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z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Rectangle 20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2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468360" y="62532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07DC-D750-4347-B515-6ABB26673156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sa 2 (FT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X / </a:t>
            </a:r>
            <a:fld id="{FC89A03A-7FBB-4FB3-989E-29EA693B3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1258920" y="1132560"/>
            <a:ext cx="649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66"/>
                </a:solidFill>
                <a:latin typeface="Arial"/>
              </a:rPr>
              <a:t>Hitung integral dari g(z) atas lintasan  C berupa | z | = 2 dan berlawanan jarum jam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10"/>
              <p:cNvSpPr txBox="1"/>
              <p:nvPr/>
            </p:nvSpPr>
            <p:spPr>
              <a:xfrm>
                <a:off x="2025720" y="1773360"/>
                <a:ext cx="175428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z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" name="Rectangle 11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12"/>
              <p:cNvSpPr txBox="1"/>
              <p:nvPr/>
            </p:nvSpPr>
            <p:spPr>
              <a:xfrm>
                <a:off x="2017800" y="3989520"/>
                <a:ext cx="240984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t xml:space="preserve">z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z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z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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left (i right )} } {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2" name="Rectangle 13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14"/>
              <p:cNvSpPr txBox="1"/>
              <p:nvPr/>
            </p:nvSpPr>
            <p:spPr>
              <a:xfrm>
                <a:off x="4484520" y="4005360"/>
                <a:ext cx="210348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 </m:t>
                    </m:r>
                    <m:r>
                      <m:t xml:space="preserve">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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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15"/>
              <p:cNvSpPr txBox="1"/>
              <p:nvPr/>
            </p:nvSpPr>
            <p:spPr>
              <a:xfrm>
                <a:off x="3419640" y="5054760"/>
                <a:ext cx="468144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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</m:t>
                        </m:r>
                        <m:r>
                          <m:t xml:space="preserve">1</m:t>
                        </m:r>
                        <m:r>
                          <m:t xml:space="preserve"></m:t>
                        </m:r>
                      </m:e>
                    </m:d>
                    <m:r>
                      <m:t xml:space="preserve">+</m:t>
                    </m:r>
                    <m:r>
                      <m:t xml:space="preserve">π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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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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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5" name="Text Box 16"/>
          <p:cNvSpPr/>
          <p:nvPr/>
        </p:nvSpPr>
        <p:spPr>
          <a:xfrm>
            <a:off x="1981440" y="2965320"/>
            <a:ext cx="125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z) = z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3257640" y="2928960"/>
            <a:ext cx="228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‘(z) =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z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8"/>
          <p:cNvSpPr/>
          <p:nvPr/>
        </p:nvSpPr>
        <p:spPr>
          <a:xfrm>
            <a:off x="3275640" y="3470400"/>
            <a:ext cx="245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“(z) = 2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z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9"/>
          <p:cNvSpPr/>
          <p:nvPr/>
        </p:nvSpPr>
        <p:spPr>
          <a:xfrm>
            <a:off x="4861080" y="1886040"/>
            <a:ext cx="2087280" cy="718920"/>
          </a:xfrm>
          <a:prstGeom prst="wedgeRoundRectCallout">
            <a:avLst>
              <a:gd name="adj1" fmla="val -97074"/>
              <a:gd name="adj2" fmla="val 2097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tik interior dari  C: z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=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468360" y="62532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4E43-2D89-42ED-8B3C-F17BF4377C7B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sa 2 (FT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X / </a:t>
            </a:r>
            <a:fld id="{6C965864-A2FB-4571-9694-C5F14B12B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468360" y="2205000"/>
                <a:ext cx="17175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Text Box 6"/>
          <p:cNvSpPr/>
          <p:nvPr/>
        </p:nvSpPr>
        <p:spPr>
          <a:xfrm>
            <a:off x="324000" y="1038240"/>
            <a:ext cx="813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tung integral dari g(z) atas lintasan tutup C dengan arah positif bi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: | z + 1 | = 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: | z |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20400" y="2997360"/>
            <a:ext cx="4159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C : | z + 1 | = ½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rior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8"/>
              <p:cNvSpPr txBox="1"/>
              <p:nvPr/>
            </p:nvSpPr>
            <p:spPr>
              <a:xfrm>
                <a:off x="468360" y="3573360"/>
                <a:ext cx="16556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Text Box 10"/>
          <p:cNvSpPr/>
          <p:nvPr/>
        </p:nvSpPr>
        <p:spPr>
          <a:xfrm>
            <a:off x="2175480" y="37101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1"/>
              <p:cNvSpPr txBox="1"/>
              <p:nvPr/>
            </p:nvSpPr>
            <p:spPr>
              <a:xfrm>
                <a:off x="2700360" y="3573360"/>
                <a:ext cx="13669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13"/>
              <p:cNvSpPr txBox="1"/>
              <p:nvPr/>
            </p:nvSpPr>
            <p:spPr>
              <a:xfrm>
                <a:off x="541440" y="4437000"/>
                <a:ext cx="23749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5"/>
              <p:cNvSpPr txBox="1"/>
              <p:nvPr/>
            </p:nvSpPr>
            <p:spPr>
              <a:xfrm>
                <a:off x="468360" y="5133960"/>
                <a:ext cx="34560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18"/>
              <p:cNvSpPr txBox="1"/>
              <p:nvPr/>
            </p:nvSpPr>
            <p:spPr>
              <a:xfrm>
                <a:off x="4859280" y="4797360"/>
                <a:ext cx="2846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z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 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20"/>
              <p:cNvSpPr txBox="1"/>
              <p:nvPr/>
            </p:nvSpPr>
            <p:spPr>
              <a:xfrm>
                <a:off x="5003640" y="5516640"/>
                <a:ext cx="28069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6" name="Rectangle 24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30"/>
          <p:cNvSpPr/>
          <p:nvPr/>
        </p:nvSpPr>
        <p:spPr>
          <a:xfrm>
            <a:off x="4643280" y="3213000"/>
            <a:ext cx="3745080" cy="1440000"/>
          </a:xfrm>
          <a:prstGeom prst="wedgeRoundRectCallout">
            <a:avLst>
              <a:gd name="adj1" fmla="val -63268"/>
              <a:gd name="adj2" fmla="val 1273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z) analitik pada C, sebab f(z) tidak analitik di z = 0, sedangkan z = 0 terletak dilua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36"/>
          <p:cNvGrpSpPr/>
          <p:nvPr/>
        </p:nvGrpSpPr>
        <p:grpSpPr>
          <a:xfrm>
            <a:off x="3564000" y="1628640"/>
            <a:ext cx="1942920" cy="1224000"/>
            <a:chOff x="3564000" y="1628640"/>
            <a:chExt cx="1942920" cy="1224000"/>
          </a:xfrm>
        </p:grpSpPr>
        <p:grpSp>
          <p:nvGrpSpPr>
            <p:cNvPr id="199" name="Group 34"/>
            <p:cNvGrpSpPr/>
            <p:nvPr/>
          </p:nvGrpSpPr>
          <p:grpSpPr>
            <a:xfrm>
              <a:off x="3564000" y="1628640"/>
              <a:ext cx="1942920" cy="1224000"/>
              <a:chOff x="3564000" y="1628640"/>
              <a:chExt cx="1942920" cy="1224000"/>
            </a:xfrm>
          </p:grpSpPr>
          <p:sp>
            <p:nvSpPr>
              <p:cNvPr id="200" name="Oval 31"/>
              <p:cNvSpPr/>
              <p:nvPr/>
            </p:nvSpPr>
            <p:spPr>
              <a:xfrm>
                <a:off x="3564000" y="1844640"/>
                <a:ext cx="1008000" cy="9367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32"/>
              <p:cNvSpPr/>
              <p:nvPr/>
            </p:nvSpPr>
            <p:spPr>
              <a:xfrm flipV="1">
                <a:off x="4932360" y="1628640"/>
                <a:ext cx="0" cy="12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33"/>
              <p:cNvSpPr/>
              <p:nvPr/>
            </p:nvSpPr>
            <p:spPr>
              <a:xfrm>
                <a:off x="4067280" y="2276280"/>
                <a:ext cx="14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Text Box 35"/>
            <p:cNvSpPr/>
            <p:nvPr/>
          </p:nvSpPr>
          <p:spPr>
            <a:xfrm>
              <a:off x="3832200" y="227016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8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5"/>
          <p:cNvSpPr/>
          <p:nvPr/>
        </p:nvSpPr>
        <p:spPr>
          <a:xfrm>
            <a:off x="468360" y="62532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C903-442F-4D93-8014-D49473580688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6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sa 2 (FT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X / </a:t>
            </a:r>
            <a:fld id="{4C3173A2-679B-44AF-961F-2D9AE0213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# 2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21"/>
              <p:cNvSpPr txBox="1"/>
              <p:nvPr/>
            </p:nvSpPr>
            <p:spPr>
              <a:xfrm>
                <a:off x="468360" y="3098880"/>
                <a:ext cx="381636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z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z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30"/>
              <p:cNvSpPr txBox="1"/>
              <p:nvPr/>
            </p:nvSpPr>
            <p:spPr>
              <a:xfrm>
                <a:off x="395280" y="1413000"/>
                <a:ext cx="180036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324000" y="981000"/>
            <a:ext cx="756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C : |z| = 2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rior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1 dan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20"/>
              <p:cNvSpPr txBox="1"/>
              <p:nvPr/>
            </p:nvSpPr>
            <p:spPr>
              <a:xfrm>
                <a:off x="395280" y="2205000"/>
                <a:ext cx="36766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z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z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16" name="Group 26"/>
          <p:cNvGrpSpPr/>
          <p:nvPr/>
        </p:nvGrpSpPr>
        <p:grpSpPr>
          <a:xfrm>
            <a:off x="4932360" y="1341000"/>
            <a:ext cx="2879640" cy="2087640"/>
            <a:chOff x="4932360" y="1341000"/>
            <a:chExt cx="2879640" cy="2087640"/>
          </a:xfrm>
        </p:grpSpPr>
        <p:sp>
          <p:nvSpPr>
            <p:cNvPr id="217" name="Oval 22"/>
            <p:cNvSpPr/>
            <p:nvPr/>
          </p:nvSpPr>
          <p:spPr>
            <a:xfrm>
              <a:off x="5651640" y="1628640"/>
              <a:ext cx="1657080" cy="15130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23"/>
            <p:cNvSpPr/>
            <p:nvPr/>
          </p:nvSpPr>
          <p:spPr>
            <a:xfrm>
              <a:off x="4932360" y="242100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4"/>
            <p:cNvSpPr/>
            <p:nvPr/>
          </p:nvSpPr>
          <p:spPr>
            <a:xfrm flipV="1">
              <a:off x="6516720" y="1341000"/>
              <a:ext cx="0" cy="208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5"/>
            <p:cNvSpPr/>
            <p:nvPr/>
          </p:nvSpPr>
          <p:spPr>
            <a:xfrm>
              <a:off x="7290000" y="2513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Line 27"/>
          <p:cNvSpPr/>
          <p:nvPr/>
        </p:nvSpPr>
        <p:spPr>
          <a:xfrm flipH="1">
            <a:off x="6012000" y="242100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8"/>
          <p:cNvSpPr/>
          <p:nvPr/>
        </p:nvSpPr>
        <p:spPr>
          <a:xfrm>
            <a:off x="5842080" y="24145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9"/>
          <p:cNvSpPr/>
          <p:nvPr/>
        </p:nvSpPr>
        <p:spPr>
          <a:xfrm>
            <a:off x="6498000" y="2414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32"/>
              <p:cNvSpPr txBox="1"/>
              <p:nvPr/>
            </p:nvSpPr>
            <p:spPr>
              <a:xfrm>
                <a:off x="395280" y="4149720"/>
                <a:ext cx="48974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t xml:space="preserve">z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z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6" name="Rectangle 3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34"/>
              <p:cNvSpPr txBox="1"/>
              <p:nvPr/>
            </p:nvSpPr>
            <p:spPr>
              <a:xfrm>
                <a:off x="1220760" y="4941720"/>
                <a:ext cx="45036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8" name="Rectangle 3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36"/>
              <p:cNvSpPr txBox="1"/>
              <p:nvPr/>
            </p:nvSpPr>
            <p:spPr>
              <a:xfrm>
                <a:off x="1258920" y="5445000"/>
                <a:ext cx="28083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0" name="Group 42"/>
          <p:cNvGrpSpPr/>
          <p:nvPr/>
        </p:nvGrpSpPr>
        <p:grpSpPr>
          <a:xfrm>
            <a:off x="5724360" y="3860640"/>
            <a:ext cx="3095640" cy="1152720"/>
            <a:chOff x="5724360" y="3860640"/>
            <a:chExt cx="3095640" cy="1152720"/>
          </a:xfrm>
        </p:grpSpPr>
        <p:sp>
          <p:nvSpPr>
            <p:cNvPr id="231" name="AutoShape 38"/>
            <p:cNvSpPr/>
            <p:nvPr/>
          </p:nvSpPr>
          <p:spPr>
            <a:xfrm>
              <a:off x="5724360" y="3860640"/>
              <a:ext cx="3095640" cy="1152720"/>
            </a:xfrm>
            <a:prstGeom prst="wedgeRoundRectCallout">
              <a:avLst>
                <a:gd name="adj1" fmla="val -72564"/>
                <a:gd name="adj2" fmla="val 15013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unakan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Object 39"/>
                <p:cNvSpPr txBox="1"/>
                <p:nvPr/>
              </p:nvSpPr>
              <p:spPr>
                <a:xfrm>
                  <a:off x="6156360" y="4221000"/>
                  <a:ext cx="2376360" cy="70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 </m:t>
                      </m:r>
                      <m:r>
                        <m:t xml:space="preserve">'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 </m:t>
                          </m:r>
                          <m:r>
                            <m:t xml:space="preserve">i</m:t>
                          </m:r>
                        </m:den>
                      </m:f>
                      <m:nary>
                        <m:naryPr>
                          <m:chr m:val="∮"/>
                          <m:supHide m:val="1"/>
                        </m:naryPr>
                        <m:sub>
                          <m:r>
                            <m:t xml:space="preserve">C</m:t>
                          </m:r>
                        </m:sub>
                        <m:sup/>
                        <m:e>
                          <m:f>
                            <m:num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z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z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d>
                              <m:sSup>
                                <m:e>
                                  <m:r>
                                    <m:t xml:space="preserve"> 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</m:e>
                      </m:nary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dz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comb dir="horz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3"/>
          <p:cNvSpPr/>
          <p:nvPr/>
        </p:nvSpPr>
        <p:spPr>
          <a:xfrm>
            <a:off x="468360" y="62532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6DA1-947F-4C4D-9CA9-816FCBA8E4A4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sa 2 (FT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X / </a:t>
            </a:r>
            <a:fld id="{43B6F19E-326B-4944-B857-06D1B702D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tung integral dari f(z) atas lintasan C yang mempunyai arah positif  bil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4"/>
              <p:cNvSpPr txBox="1"/>
              <p:nvPr/>
            </p:nvSpPr>
            <p:spPr>
              <a:xfrm>
                <a:off x="611280" y="1773360"/>
                <a:ext cx="374472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≡</m:t>
                    </m:r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Rectangle 10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9"/>
              <p:cNvSpPr txBox="1"/>
              <p:nvPr/>
            </p:nvSpPr>
            <p:spPr>
              <a:xfrm>
                <a:off x="612720" y="2637000"/>
                <a:ext cx="431964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z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≡</m:t>
                    </m:r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Rectangle 12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11"/>
              <p:cNvSpPr txBox="1"/>
              <p:nvPr/>
            </p:nvSpPr>
            <p:spPr>
              <a:xfrm>
                <a:off x="603360" y="3613320"/>
                <a:ext cx="468936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z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C</m:t>
                    </m:r>
                    <m:r>
                      <m:t xml:space="preserve">≡</m:t>
                    </m:r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Rectangle 14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13"/>
              <p:cNvSpPr txBox="1"/>
              <p:nvPr/>
            </p:nvSpPr>
            <p:spPr>
              <a:xfrm>
                <a:off x="611280" y="4468680"/>
                <a:ext cx="46083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C</m:t>
                    </m:r>
                    <m:r>
                      <m:t xml:space="preserve">≡</m:t>
                    </m:r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68360" y="62532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10F1-5985-4342-A916-9E706C0A92C4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sa 2 (FT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X / </a:t>
            </a:r>
            <a:fld id="{A65AC0DF-A59D-4845-A08E-D544D5296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Integral Kompleks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ik Int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l Cau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unan Fungsi Anali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3"/>
          <p:cNvSpPr/>
          <p:nvPr/>
        </p:nvSpPr>
        <p:spPr>
          <a:xfrm>
            <a:off x="468360" y="62532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E5E8-CB8E-411A-8831-886C9CF189DA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sa 2 (FT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X / </a:t>
            </a:r>
            <a:fld id="{B11BF3C6-F91D-4568-9B12-3B865B402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Titik Interior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611280" y="1012680"/>
            <a:ext cx="792144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tik z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sebut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itik interi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ari lintasan tutup C bila terdapat lingkungan dari z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yang termuat di dalam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4"/>
          <p:cNvGrpSpPr/>
          <p:nvPr/>
        </p:nvGrpSpPr>
        <p:grpSpPr>
          <a:xfrm>
            <a:off x="2630520" y="2193840"/>
            <a:ext cx="3011400" cy="1739880"/>
            <a:chOff x="2630520" y="2193840"/>
            <a:chExt cx="3011400" cy="1739880"/>
          </a:xfrm>
        </p:grpSpPr>
        <p:sp>
          <p:nvSpPr>
            <p:cNvPr id="59" name="Freeform 5"/>
            <p:cNvSpPr/>
            <p:nvPr/>
          </p:nvSpPr>
          <p:spPr>
            <a:xfrm>
              <a:off x="2630520" y="2193840"/>
              <a:ext cx="3011400" cy="1739880"/>
            </a:xfrm>
            <a:prstGeom prst="pie">
              <a:avLst/>
            </a:prstGeom>
            <a:solidFill>
              <a:srgbClr val="ffff99"/>
            </a:solidFill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6"/>
            <p:cNvSpPr/>
            <p:nvPr/>
          </p:nvSpPr>
          <p:spPr>
            <a:xfrm flipH="1">
              <a:off x="3049200" y="2541240"/>
              <a:ext cx="14436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7"/>
            <p:cNvSpPr/>
            <p:nvPr/>
          </p:nvSpPr>
          <p:spPr>
            <a:xfrm>
              <a:off x="3174840" y="239220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8"/>
          <p:cNvSpPr/>
          <p:nvPr/>
        </p:nvSpPr>
        <p:spPr>
          <a:xfrm>
            <a:off x="4273560" y="3160800"/>
            <a:ext cx="512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3141720" y="3710160"/>
            <a:ext cx="512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3711600" y="4076640"/>
            <a:ext cx="2444760" cy="330120"/>
          </a:xfrm>
          <a:solidFill>
            <a:srgbClr val="bbe0e3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kan Titik Interi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4"/>
          <p:cNvSpPr/>
          <p:nvPr/>
        </p:nvSpPr>
        <p:spPr>
          <a:xfrm>
            <a:off x="4143240" y="3068640"/>
            <a:ext cx="503280" cy="50472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468360" y="479736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intasan tutup C arah positif : bila berjalan menyusuri lintasan maka daerah yang dilingkupi oleh C terletak di sebelah kir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468360" y="62532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0E4B-F92B-4411-97D9-F18106CEEF8E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sa 2 (FT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X / </a:t>
            </a:r>
            <a:fld id="{87CE3352-5DF8-4D08-AA6A-C3E8DD5E3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ntegral Cauchy 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12"/>
              <p:cNvSpPr txBox="1"/>
              <p:nvPr/>
            </p:nvSpPr>
            <p:spPr>
              <a:xfrm>
                <a:off x="1979640" y="3573360"/>
                <a:ext cx="424800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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Rectangle 13"/>
          <p:cNvSpPr/>
          <p:nvPr/>
        </p:nvSpPr>
        <p:spPr>
          <a:xfrm>
            <a:off x="1187280" y="1172520"/>
            <a:ext cx="6985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sal lintasan C tutup dengan arah berlawanan jarum jam (arah positif ), z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: interior dari C dan f(z) analitik pada daerah yang dilingkupi oleh C mak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gral Cauchy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Date Placeholder 3"/>
          <p:cNvSpPr/>
          <p:nvPr/>
        </p:nvSpPr>
        <p:spPr>
          <a:xfrm>
            <a:off x="468360" y="62532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3502-E5C9-489B-BA3E-ABAA2B936E85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sa 2 (FT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X / </a:t>
            </a:r>
            <a:fld id="{A61E3608-6795-4AC2-BB37-7ACF94D7C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ntoh 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1116000" y="94932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C berupa | z | = 2 dan berlawanan jarum j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itung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8"/>
              <p:cNvSpPr txBox="1"/>
              <p:nvPr/>
            </p:nvSpPr>
            <p:spPr>
              <a:xfrm>
                <a:off x="1908000" y="1844640"/>
                <a:ext cx="158436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z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7" name="AutoShape 9"/>
          <p:cNvSpPr/>
          <p:nvPr/>
        </p:nvSpPr>
        <p:spPr>
          <a:xfrm>
            <a:off x="4788000" y="2133720"/>
            <a:ext cx="2590560" cy="720720"/>
          </a:xfrm>
          <a:prstGeom prst="wedgeRoundRectCallout">
            <a:avLst>
              <a:gd name="adj1" fmla="val -96629"/>
              <a:gd name="adj2" fmla="val -2203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z) =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itik di dalam C dan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11"/>
              <p:cNvSpPr txBox="1"/>
              <p:nvPr/>
            </p:nvSpPr>
            <p:spPr>
              <a:xfrm>
                <a:off x="1932120" y="3625920"/>
                <a:ext cx="35035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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12"/>
              <p:cNvSpPr txBox="1"/>
              <p:nvPr/>
            </p:nvSpPr>
            <p:spPr>
              <a:xfrm>
                <a:off x="3564000" y="2781360"/>
                <a:ext cx="136836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13"/>
              <p:cNvSpPr txBox="1"/>
              <p:nvPr/>
            </p:nvSpPr>
            <p:spPr>
              <a:xfrm>
                <a:off x="1908000" y="2997360"/>
                <a:ext cx="165600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wheel spokes="2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468360" y="62532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075C-5F89-4B7E-8CBC-8B0D2F3984F7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sa 2 (FT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X / </a:t>
            </a:r>
            <a:fld id="{04539FFC-DBBB-4FD2-B3B7-81CB78774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22200" y="99756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Hitung integral dari g(z) atas lintasan C berupa lingkaran | z | = 4 dengan arah berlawanan jar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5"/>
              <p:cNvSpPr txBox="1"/>
              <p:nvPr/>
            </p:nvSpPr>
            <p:spPr>
              <a:xfrm>
                <a:off x="395280" y="1844640"/>
                <a:ext cx="22320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7"/>
              <p:cNvSpPr txBox="1"/>
              <p:nvPr/>
            </p:nvSpPr>
            <p:spPr>
              <a:xfrm>
                <a:off x="2700360" y="1916280"/>
                <a:ext cx="172728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9"/>
              <p:cNvSpPr txBox="1"/>
              <p:nvPr/>
            </p:nvSpPr>
            <p:spPr>
              <a:xfrm>
                <a:off x="4716360" y="1844640"/>
                <a:ext cx="10080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1"/>
              <p:cNvSpPr txBox="1"/>
              <p:nvPr/>
            </p:nvSpPr>
            <p:spPr>
              <a:xfrm>
                <a:off x="6351480" y="1833480"/>
                <a:ext cx="16765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5"/>
              <p:cNvSpPr txBox="1"/>
              <p:nvPr/>
            </p:nvSpPr>
            <p:spPr>
              <a:xfrm>
                <a:off x="684360" y="4653000"/>
                <a:ext cx="36558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z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2" name="AutoShape 17"/>
          <p:cNvSpPr/>
          <p:nvPr/>
        </p:nvSpPr>
        <p:spPr>
          <a:xfrm>
            <a:off x="2411280" y="2781360"/>
            <a:ext cx="2303640" cy="718920"/>
          </a:xfrm>
          <a:prstGeom prst="wedgeRoundRectCallout">
            <a:avLst>
              <a:gd name="adj1" fmla="val 20638"/>
              <a:gd name="adj2" fmla="val -90837"/>
              <a:gd name="adj3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 : interior dari lintasa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5867280" y="270828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z) Analitik pada  daerah yang dilingkupi oleh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5795280" y="1989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20"/>
              <p:cNvSpPr txBox="1"/>
              <p:nvPr/>
            </p:nvSpPr>
            <p:spPr>
              <a:xfrm>
                <a:off x="611280" y="3716280"/>
                <a:ext cx="16174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22"/>
              <p:cNvSpPr txBox="1"/>
              <p:nvPr/>
            </p:nvSpPr>
            <p:spPr>
              <a:xfrm>
                <a:off x="4427640" y="4724280"/>
                <a:ext cx="15127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Rectangle 25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24"/>
              <p:cNvSpPr txBox="1"/>
              <p:nvPr/>
            </p:nvSpPr>
            <p:spPr>
              <a:xfrm>
                <a:off x="6084720" y="4564080"/>
                <a:ext cx="15843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i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26"/>
              <p:cNvSpPr txBox="1"/>
              <p:nvPr/>
            </p:nvSpPr>
            <p:spPr>
              <a:xfrm>
                <a:off x="2843280" y="5300640"/>
                <a:ext cx="180000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68360" y="62532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B24B-7473-4AFC-A308-A2F41834F0E6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sa 2 (FT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X / </a:t>
            </a:r>
            <a:fld id="{7855B333-999B-454F-81C7-3AEE5C0FB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042920" y="1195920"/>
            <a:ext cx="705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Hitung integral dari g(z) atas C berupa | z | = 2 dan berlawanan jarum j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5"/>
              <p:cNvSpPr txBox="1"/>
              <p:nvPr/>
            </p:nvSpPr>
            <p:spPr>
              <a:xfrm>
                <a:off x="1619280" y="1916280"/>
                <a:ext cx="18716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</m:t>
                        </m:r>
                        <m:r>
                          <m:t xml:space="preserve">z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Rectangle 8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7"/>
              <p:cNvSpPr txBox="1"/>
              <p:nvPr/>
            </p:nvSpPr>
            <p:spPr>
              <a:xfrm>
                <a:off x="3708360" y="1844640"/>
                <a:ext cx="22338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</m:t>
                        </m:r>
                        <m:r>
                          <m:t xml:space="preserve">z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Rectangle 1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9"/>
              <p:cNvSpPr txBox="1"/>
              <p:nvPr/>
            </p:nvSpPr>
            <p:spPr>
              <a:xfrm>
                <a:off x="2195640" y="2852640"/>
                <a:ext cx="3095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Rectangle 12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1"/>
              <p:cNvSpPr txBox="1"/>
              <p:nvPr/>
            </p:nvSpPr>
            <p:spPr>
              <a:xfrm>
                <a:off x="1692360" y="3789360"/>
                <a:ext cx="34560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z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Rectangle 14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13"/>
              <p:cNvSpPr txBox="1"/>
              <p:nvPr/>
            </p:nvSpPr>
            <p:spPr>
              <a:xfrm>
                <a:off x="2843280" y="4768920"/>
                <a:ext cx="280836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Rectangle 1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468360" y="62532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1481-FF10-4E26-B9E5-FC631F37B873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sa 2 (FT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X / </a:t>
            </a:r>
            <a:fld id="{6C81F10F-13C6-4455-8CDE-CF70F6229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ontoh (Lanjutan)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15"/>
              <p:cNvSpPr txBox="1"/>
              <p:nvPr/>
            </p:nvSpPr>
            <p:spPr>
              <a:xfrm>
                <a:off x="1547640" y="1197000"/>
                <a:ext cx="511200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t xml:space="preserve">z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</m:t>
                            </m:r>
                            <m:r>
                              <m:t xml:space="preserve">z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</m:sub>
                          <m:sup/>
                          <m:e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den>
                            </m:f>
                            <m:r>
                              <m:t xml:space="preserve">]</m:t>
                            </m:r>
                            <m:r>
                              <m:t xml:space="preserve"> </m:t>
                            </m:r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9" name="Rectangle 1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17"/>
              <p:cNvSpPr txBox="1"/>
              <p:nvPr/>
            </p:nvSpPr>
            <p:spPr>
              <a:xfrm>
                <a:off x="3419640" y="2276640"/>
                <a:ext cx="3673440" cy="83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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18"/>
              <p:cNvSpPr txBox="1"/>
              <p:nvPr/>
            </p:nvSpPr>
            <p:spPr>
              <a:xfrm>
                <a:off x="3459240" y="4149720"/>
                <a:ext cx="26254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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2" name="Text Box 19"/>
          <p:cNvSpPr/>
          <p:nvPr/>
        </p:nvSpPr>
        <p:spPr>
          <a:xfrm>
            <a:off x="3381840" y="472428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0"/>
              <p:cNvSpPr txBox="1"/>
              <p:nvPr/>
            </p:nvSpPr>
            <p:spPr>
              <a:xfrm>
                <a:off x="3419640" y="3284640"/>
                <a:ext cx="367344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468360" y="6253200"/>
            <a:ext cx="244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B682-C8BE-49C3-AA7B-36F74392C612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3059280" y="6237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matika Rekayasa 2 (FT262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X / </a:t>
            </a:r>
            <a:fld id="{820C6B00-329B-4085-8D38-3066DE629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oal Latihan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79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tung integral                       bila C diberikan  beriku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z | = ½ dengan arah posit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z – i| = ½ berlawana arah dengan jarum j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iempat arah positif dengan titik sudut  – ½ , ½ , -½  i dan 2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z | = 2 dengan arah berlawanan dengan jarum j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4613400" y="765000"/>
                <a:ext cx="19746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</m:t>
                            </m:r>
                            <m:r>
                              <m:t xml:space="preserve">z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02:30:10Z</dcterms:created>
  <dc:creator>Danang</dc:creator>
  <dc:description/>
  <dc:language>en-US</dc:language>
  <cp:lastModifiedBy>My Computer</cp:lastModifiedBy>
  <dcterms:modified xsi:type="dcterms:W3CDTF">2012-04-30T03:16:22Z</dcterms:modified>
  <cp:revision>63</cp:revision>
  <dc:subject/>
  <dc:title>Slide 1</dc:title>
</cp:coreProperties>
</file>