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985-4287-4D68-9619-73D740AF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19A-BA63-46C9-A63C-C4B8DD12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718-E87B-43D6-A9B1-B5E3D9E7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F30-165D-4EF7-A2E2-81485885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6475-CED3-4963-AB23-F996705A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27A-E980-46D5-AF0A-0ABFFA94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3AC-B84C-48FA-A96C-FEAA54E3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1D4-D7CB-43F6-9C29-78FDFB19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69850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051-7C0B-49FE-8E38-3703412F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A937-E20E-471F-85A8-A57CAA0D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DC3-C864-4848-A439-E27638E2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2AF-7E58-4859-8944-D9861B76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252840"/>
            <a:ext cx="244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8CAA-DC30-4B33-92BA-7051720F90DB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10754292-71C7-4E51-BA98-49018E666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logosttt"/>
          <p:cNvPicPr/>
          <p:nvPr/>
        </p:nvPicPr>
        <p:blipFill>
          <a:blip r:embed="rId2"/>
          <a:stretch/>
        </p:blipFill>
        <p:spPr>
          <a:xfrm>
            <a:off x="250920" y="189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6" name="varkom.avi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934920" cy="576000"/>
          </a:xfrm>
          <a:prstGeom prst="rect">
            <a:avLst/>
          </a:prstGeom>
          <a:ln w="0">
            <a:noFill/>
          </a:ln>
        </p:spPr>
      </p:pic>
      <p:sp>
        <p:nvSpPr>
          <p:cNvPr id="7" name="Line 13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65B1-06E9-4F81-AA17-346A57B2BC1B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A87FC24D-FCE5-4DE6-BB2D-D9E8B602E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tangle 6" descr=""/>
          <p:cNvPicPr/>
          <p:nvPr/>
        </p:nvPicPr>
        <p:blipFill>
          <a:blip r:embed="rId1"/>
          <a:stretch/>
        </p:blipFill>
        <p:spPr>
          <a:xfrm>
            <a:off x="1285920" y="2766960"/>
            <a:ext cx="6894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4CBC-4899-4E45-91A3-3653A69E75A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A6AFE0E1-7C92-4215-AF7D-F418A2250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urunan Fungsi Analitik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114560" y="1052640"/>
            <a:ext cx="6697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al f(z) analitik di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itik interior) dari C , lintasan tutup dan arah positif, maka integral Cauchy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1647720" y="1844640"/>
                <a:ext cx="3024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1647720" y="2781360"/>
                <a:ext cx="34290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1647720" y="3789360"/>
                <a:ext cx="33116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left (z rSub { size 8{0} }  right )= {  {2}  over  {2π`i} }  lInt cSub { size 8{C} }  { {  {f \( z \) }  over  { left (z - z rSub { size 8{0} }  right ) rSup { size 8{3} } } } } ` ital </m:t>
                    </m:r>
                    <m:r>
                      <m:t xml:space="preserve">dz</m:t>
                    </m:r>
                    <m:r>
                      <m:rPr>
                        <m:lit/>
                        <m:nor/>
                      </m:rPr>
                      <m:t xml:space="preserve">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3"/>
              <p:cNvSpPr txBox="1"/>
              <p:nvPr/>
            </p:nvSpPr>
            <p:spPr>
              <a:xfrm>
                <a:off x="1816200" y="4673520"/>
                <a:ext cx="29732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Rectangle 20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141F-335F-458C-93A2-7282D8BB8163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927B87BD-BE2D-4F7D-807E-4A6EF8B66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258920" y="1132560"/>
            <a:ext cx="64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66"/>
                </a:solidFill>
                <a:latin typeface="Arial"/>
              </a:rPr>
              <a:t>Hitung integral dari g(z) atas lintasan  C berupa | z | = 2 dan berlawanan jarum jam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0"/>
              <p:cNvSpPr txBox="1"/>
              <p:nvPr/>
            </p:nvSpPr>
            <p:spPr>
              <a:xfrm>
                <a:off x="2025720" y="1773360"/>
                <a:ext cx="17542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Rectangle 11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2"/>
              <p:cNvSpPr txBox="1"/>
              <p:nvPr/>
            </p:nvSpPr>
            <p:spPr>
              <a:xfrm>
                <a:off x="2017800" y="3989520"/>
                <a:ext cx="240984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z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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left (i right )} } {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2" name="Rectangle 13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4"/>
              <p:cNvSpPr txBox="1"/>
              <p:nvPr/>
            </p:nvSpPr>
            <p:spPr>
              <a:xfrm>
                <a:off x="4484520" y="4005360"/>
                <a:ext cx="21034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 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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5"/>
              <p:cNvSpPr txBox="1"/>
              <p:nvPr/>
            </p:nvSpPr>
            <p:spPr>
              <a:xfrm>
                <a:off x="3419640" y="5054760"/>
                <a:ext cx="46814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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r>
                          <m:t xml:space="preserve">1</m:t>
                        </m:r>
                        <m:r>
                          <m:t xml:space="preserve"></m:t>
                        </m:r>
                      </m:e>
                    </m:d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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Text Box 16"/>
          <p:cNvSpPr/>
          <p:nvPr/>
        </p:nvSpPr>
        <p:spPr>
          <a:xfrm>
            <a:off x="1981440" y="2965320"/>
            <a:ext cx="12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z) = z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3257640" y="2928960"/>
            <a:ext cx="228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‘(z) =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z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3275640" y="3470400"/>
            <a:ext cx="245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“(z) = 2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z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9"/>
          <p:cNvSpPr/>
          <p:nvPr/>
        </p:nvSpPr>
        <p:spPr>
          <a:xfrm>
            <a:off x="4861080" y="1886040"/>
            <a:ext cx="2087280" cy="718920"/>
          </a:xfrm>
          <a:prstGeom prst="wedgeRoundRectCallout">
            <a:avLst>
              <a:gd name="adj1" fmla="val -97074"/>
              <a:gd name="adj2" fmla="val 209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tik interior dari  C: z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44E7-C989-4C65-865B-8F90DF0D95B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3D246F04-E388-454E-B1D4-AFEDD038F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468360" y="2205000"/>
                <a:ext cx="17175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Text Box 6"/>
          <p:cNvSpPr/>
          <p:nvPr/>
        </p:nvSpPr>
        <p:spPr>
          <a:xfrm>
            <a:off x="324000" y="1038240"/>
            <a:ext cx="81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ung integral dari g(z) atas lintasan tutup C dengan arah positif bi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: | z + 1 | = 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: | z |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20400" y="2997360"/>
            <a:ext cx="4159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C : | z + 1 | = ½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ior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8"/>
              <p:cNvSpPr txBox="1"/>
              <p:nvPr/>
            </p:nvSpPr>
            <p:spPr>
              <a:xfrm>
                <a:off x="468360" y="3573360"/>
                <a:ext cx="16556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10"/>
          <p:cNvSpPr/>
          <p:nvPr/>
        </p:nvSpPr>
        <p:spPr>
          <a:xfrm>
            <a:off x="2175480" y="37101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2700360" y="3573360"/>
                <a:ext cx="1366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3"/>
              <p:cNvSpPr txBox="1"/>
              <p:nvPr/>
            </p:nvSpPr>
            <p:spPr>
              <a:xfrm>
                <a:off x="541440" y="4437000"/>
                <a:ext cx="23749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5"/>
              <p:cNvSpPr txBox="1"/>
              <p:nvPr/>
            </p:nvSpPr>
            <p:spPr>
              <a:xfrm>
                <a:off x="468360" y="5133960"/>
                <a:ext cx="34560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8"/>
              <p:cNvSpPr txBox="1"/>
              <p:nvPr/>
            </p:nvSpPr>
            <p:spPr>
              <a:xfrm>
                <a:off x="4859280" y="4797360"/>
                <a:ext cx="2846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0"/>
              <p:cNvSpPr txBox="1"/>
              <p:nvPr/>
            </p:nvSpPr>
            <p:spPr>
              <a:xfrm>
                <a:off x="5003640" y="5516640"/>
                <a:ext cx="2806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6" name="Rectangle 2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0"/>
          <p:cNvSpPr/>
          <p:nvPr/>
        </p:nvSpPr>
        <p:spPr>
          <a:xfrm>
            <a:off x="4643280" y="3213000"/>
            <a:ext cx="3745080" cy="1440000"/>
          </a:xfrm>
          <a:prstGeom prst="wedgeRoundRectCallout">
            <a:avLst>
              <a:gd name="adj1" fmla="val -63268"/>
              <a:gd name="adj2" fmla="val 127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z) analitik pada C, sebab f(z) tidak analitik di z = 0, sedangkan z = 0 terletak dilua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36"/>
          <p:cNvGrpSpPr/>
          <p:nvPr/>
        </p:nvGrpSpPr>
        <p:grpSpPr>
          <a:xfrm>
            <a:off x="3564000" y="1628640"/>
            <a:ext cx="1942920" cy="1224000"/>
            <a:chOff x="3564000" y="1628640"/>
            <a:chExt cx="1942920" cy="1224000"/>
          </a:xfrm>
        </p:grpSpPr>
        <p:grpSp>
          <p:nvGrpSpPr>
            <p:cNvPr id="199" name="Group 34"/>
            <p:cNvGrpSpPr/>
            <p:nvPr/>
          </p:nvGrpSpPr>
          <p:grpSpPr>
            <a:xfrm>
              <a:off x="3564000" y="1628640"/>
              <a:ext cx="1942920" cy="1224000"/>
              <a:chOff x="3564000" y="1628640"/>
              <a:chExt cx="1942920" cy="1224000"/>
            </a:xfrm>
          </p:grpSpPr>
          <p:sp>
            <p:nvSpPr>
              <p:cNvPr id="200" name="Oval 31"/>
              <p:cNvSpPr/>
              <p:nvPr/>
            </p:nvSpPr>
            <p:spPr>
              <a:xfrm>
                <a:off x="3564000" y="1844640"/>
                <a:ext cx="1008000" cy="936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32"/>
              <p:cNvSpPr/>
              <p:nvPr/>
            </p:nvSpPr>
            <p:spPr>
              <a:xfrm flipV="1">
                <a:off x="4932360" y="1628640"/>
                <a:ext cx="0" cy="12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33"/>
              <p:cNvSpPr/>
              <p:nvPr/>
            </p:nvSpPr>
            <p:spPr>
              <a:xfrm>
                <a:off x="4067280" y="2276280"/>
                <a:ext cx="14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Text Box 35"/>
            <p:cNvSpPr/>
            <p:nvPr/>
          </p:nvSpPr>
          <p:spPr>
            <a:xfrm>
              <a:off x="3832200" y="22701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5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7B14-89DF-4C23-A549-AF14C6061744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6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466FF6E5-8746-4A58-8B91-B2C31A4E6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1"/>
              <p:cNvSpPr txBox="1"/>
              <p:nvPr/>
            </p:nvSpPr>
            <p:spPr>
              <a:xfrm>
                <a:off x="468360" y="3098880"/>
                <a:ext cx="38163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0"/>
              <p:cNvSpPr txBox="1"/>
              <p:nvPr/>
            </p:nvSpPr>
            <p:spPr>
              <a:xfrm>
                <a:off x="395280" y="1413000"/>
                <a:ext cx="180036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324000" y="981000"/>
            <a:ext cx="756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 : |z| = 2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ior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1 dan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0"/>
              <p:cNvSpPr txBox="1"/>
              <p:nvPr/>
            </p:nvSpPr>
            <p:spPr>
              <a:xfrm>
                <a:off x="395280" y="2205000"/>
                <a:ext cx="36766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16" name="Group 26"/>
          <p:cNvGrpSpPr/>
          <p:nvPr/>
        </p:nvGrpSpPr>
        <p:grpSpPr>
          <a:xfrm>
            <a:off x="4932360" y="1341000"/>
            <a:ext cx="2879640" cy="2087640"/>
            <a:chOff x="4932360" y="1341000"/>
            <a:chExt cx="2879640" cy="2087640"/>
          </a:xfrm>
        </p:grpSpPr>
        <p:sp>
          <p:nvSpPr>
            <p:cNvPr id="217" name="Oval 22"/>
            <p:cNvSpPr/>
            <p:nvPr/>
          </p:nvSpPr>
          <p:spPr>
            <a:xfrm>
              <a:off x="5651640" y="1628640"/>
              <a:ext cx="1657080" cy="1513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3"/>
            <p:cNvSpPr/>
            <p:nvPr/>
          </p:nvSpPr>
          <p:spPr>
            <a:xfrm>
              <a:off x="4932360" y="2421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4"/>
            <p:cNvSpPr/>
            <p:nvPr/>
          </p:nvSpPr>
          <p:spPr>
            <a:xfrm flipV="1">
              <a:off x="6516720" y="1341000"/>
              <a:ext cx="0" cy="20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5"/>
            <p:cNvSpPr/>
            <p:nvPr/>
          </p:nvSpPr>
          <p:spPr>
            <a:xfrm>
              <a:off x="7290000" y="2513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27"/>
          <p:cNvSpPr/>
          <p:nvPr/>
        </p:nvSpPr>
        <p:spPr>
          <a:xfrm flipH="1">
            <a:off x="6012000" y="242100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5842080" y="2414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9"/>
          <p:cNvSpPr/>
          <p:nvPr/>
        </p:nvSpPr>
        <p:spPr>
          <a:xfrm>
            <a:off x="6498000" y="241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32"/>
              <p:cNvSpPr txBox="1"/>
              <p:nvPr/>
            </p:nvSpPr>
            <p:spPr>
              <a:xfrm>
                <a:off x="395280" y="4149720"/>
                <a:ext cx="48974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Rectangle 3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4"/>
              <p:cNvSpPr txBox="1"/>
              <p:nvPr/>
            </p:nvSpPr>
            <p:spPr>
              <a:xfrm>
                <a:off x="1220760" y="4941720"/>
                <a:ext cx="4503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8" name="Rectangle 3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36"/>
              <p:cNvSpPr txBox="1"/>
              <p:nvPr/>
            </p:nvSpPr>
            <p:spPr>
              <a:xfrm>
                <a:off x="1258920" y="5445000"/>
                <a:ext cx="2808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0" name="Group 42"/>
          <p:cNvGrpSpPr/>
          <p:nvPr/>
        </p:nvGrpSpPr>
        <p:grpSpPr>
          <a:xfrm>
            <a:off x="5724360" y="3860640"/>
            <a:ext cx="3095640" cy="1152720"/>
            <a:chOff x="5724360" y="3860640"/>
            <a:chExt cx="3095640" cy="1152720"/>
          </a:xfrm>
        </p:grpSpPr>
        <p:sp>
          <p:nvSpPr>
            <p:cNvPr id="231" name="AutoShape 38"/>
            <p:cNvSpPr/>
            <p:nvPr/>
          </p:nvSpPr>
          <p:spPr>
            <a:xfrm>
              <a:off x="5724360" y="3860640"/>
              <a:ext cx="3095640" cy="1152720"/>
            </a:xfrm>
            <a:prstGeom prst="wedgeRoundRectCallout">
              <a:avLst>
                <a:gd name="adj1" fmla="val -72564"/>
                <a:gd name="adj2" fmla="val 1501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unaka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39"/>
                <p:cNvSpPr txBox="1"/>
                <p:nvPr/>
              </p:nvSpPr>
              <p:spPr>
                <a:xfrm>
                  <a:off x="6156360" y="4221000"/>
                  <a:ext cx="2376360" cy="70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 </m:t>
                      </m:r>
                      <m:r>
                        <m:t xml:space="preserve">'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</m:den>
                      </m:f>
                      <m:nary>
                        <m:naryPr>
                          <m:chr m:val="∮"/>
                          <m:supHide m:val="1"/>
                        </m:naryPr>
                        <m:sub>
                          <m:r>
                            <m:t xml:space="preserve">C</m:t>
                          </m:r>
                        </m:sub>
                        <m:sup/>
                        <m:e>
                          <m:f>
                            <m:num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z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z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d>
                              <m:sSup>
                                <m:e>
                                  <m:r>
                                    <m:t xml:space="preserve"> 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z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comb dir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3ADC-40CF-4551-A0DC-5F796947C74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78926F37-A2C8-477C-B725-FA6B75631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ung integral dari f(z) atas lintasan C yang mempunyai arah positif  bil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611280" y="1773360"/>
                <a:ext cx="37447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≡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Rectangle 10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9"/>
              <p:cNvSpPr txBox="1"/>
              <p:nvPr/>
            </p:nvSpPr>
            <p:spPr>
              <a:xfrm>
                <a:off x="612720" y="2637000"/>
                <a:ext cx="431964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≡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Rectangle 12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11"/>
              <p:cNvSpPr txBox="1"/>
              <p:nvPr/>
            </p:nvSpPr>
            <p:spPr>
              <a:xfrm>
                <a:off x="603360" y="3613320"/>
                <a:ext cx="4689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C</m:t>
                    </m:r>
                    <m:r>
                      <m:t xml:space="preserve">≡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Rectangle 14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13"/>
              <p:cNvSpPr txBox="1"/>
              <p:nvPr/>
            </p:nvSpPr>
            <p:spPr>
              <a:xfrm>
                <a:off x="611280" y="4468680"/>
                <a:ext cx="46083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C</m:t>
                    </m:r>
                    <m:r>
                      <m:t xml:space="preserve">≡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D416-280A-496B-8E4D-29D7FFDA8C01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A05FA63E-F6B0-41E0-8C7F-CA26CE03F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ntegral Kompleks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ik I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 Cau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unan Fungsi Anali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184C-020F-4764-B2D2-F8D38704439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F23C7E95-30CC-4CAA-B0F7-6C4AC4210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itik Interior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611280" y="1012680"/>
            <a:ext cx="792144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tik z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sebut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tik interi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ari lintasan tutup C bila terdapat lingkungan dari z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ang termuat di dalam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2630520" y="2193840"/>
            <a:ext cx="3011400" cy="1739880"/>
            <a:chOff x="2630520" y="2193840"/>
            <a:chExt cx="3011400" cy="1739880"/>
          </a:xfrm>
        </p:grpSpPr>
        <p:sp>
          <p:nvSpPr>
            <p:cNvPr id="59" name="Freeform 5"/>
            <p:cNvSpPr/>
            <p:nvPr/>
          </p:nvSpPr>
          <p:spPr>
            <a:xfrm>
              <a:off x="2630520" y="2193840"/>
              <a:ext cx="3011400" cy="1739880"/>
            </a:xfrm>
            <a:prstGeom prst="pie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"/>
            <p:cNvSpPr/>
            <p:nvPr/>
          </p:nvSpPr>
          <p:spPr>
            <a:xfrm flipH="1">
              <a:off x="3049200" y="2541240"/>
              <a:ext cx="144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7"/>
            <p:cNvSpPr/>
            <p:nvPr/>
          </p:nvSpPr>
          <p:spPr>
            <a:xfrm>
              <a:off x="3174840" y="23922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8"/>
          <p:cNvSpPr/>
          <p:nvPr/>
        </p:nvSpPr>
        <p:spPr>
          <a:xfrm>
            <a:off x="4273560" y="3160800"/>
            <a:ext cx="512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141720" y="3710160"/>
            <a:ext cx="512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3711600" y="4076640"/>
            <a:ext cx="2444760" cy="330120"/>
          </a:xfrm>
          <a:solidFill>
            <a:srgbClr val="bbe0e3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kan Titik Inter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4"/>
          <p:cNvSpPr/>
          <p:nvPr/>
        </p:nvSpPr>
        <p:spPr>
          <a:xfrm>
            <a:off x="4143240" y="3068640"/>
            <a:ext cx="503280" cy="5047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468360" y="4797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tasan tutup C arah positif : bila berjalan menyusuri lintasan maka daerah yang dilingkupi oleh C terletak di sebelah ki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27F5-AD0E-43E5-A7B1-72BD382C99F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DBFE76AB-64FD-410A-A8D6-B595FAC68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gral Cauchy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2"/>
              <p:cNvSpPr txBox="1"/>
              <p:nvPr/>
            </p:nvSpPr>
            <p:spPr>
              <a:xfrm>
                <a:off x="1979640" y="3573360"/>
                <a:ext cx="42480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Rectangle 13"/>
          <p:cNvSpPr/>
          <p:nvPr/>
        </p:nvSpPr>
        <p:spPr>
          <a:xfrm>
            <a:off x="1187280" y="1172520"/>
            <a:ext cx="6985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sal lintasan C tutup dengan arah berlawanan jarum jam (arah positif ), z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interior dari C dan f(z) analitik pada daerah yang dilingkupi oleh C mak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gral Cauchy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56C1-7FBA-4633-978D-3403848ADD2E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1E654355-D994-4A2D-9B88-5D815F68D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116000" y="94932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 berupa | z | = 2 dan berlawanan jarum j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itu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8"/>
              <p:cNvSpPr txBox="1"/>
              <p:nvPr/>
            </p:nvSpPr>
            <p:spPr>
              <a:xfrm>
                <a:off x="1908000" y="1844640"/>
                <a:ext cx="158436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z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7" name="AutoShape 9"/>
          <p:cNvSpPr/>
          <p:nvPr/>
        </p:nvSpPr>
        <p:spPr>
          <a:xfrm>
            <a:off x="4788000" y="2133720"/>
            <a:ext cx="2590560" cy="720720"/>
          </a:xfrm>
          <a:prstGeom prst="wedgeRoundRectCallout">
            <a:avLst>
              <a:gd name="adj1" fmla="val -96629"/>
              <a:gd name="adj2" fmla="val -2203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z) =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tik di dalam C dan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1"/>
              <p:cNvSpPr txBox="1"/>
              <p:nvPr/>
            </p:nvSpPr>
            <p:spPr>
              <a:xfrm>
                <a:off x="1932120" y="3625920"/>
                <a:ext cx="35035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2"/>
              <p:cNvSpPr txBox="1"/>
              <p:nvPr/>
            </p:nvSpPr>
            <p:spPr>
              <a:xfrm>
                <a:off x="3564000" y="2781360"/>
                <a:ext cx="13683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3"/>
              <p:cNvSpPr txBox="1"/>
              <p:nvPr/>
            </p:nvSpPr>
            <p:spPr>
              <a:xfrm>
                <a:off x="1908000" y="2997360"/>
                <a:ext cx="165600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wheel spokes="2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5D71-7DD9-477E-8FC6-09822AFCD8C4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6D41C592-BF69-47F8-9507-0AF633236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2200" y="99756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Hitung integral dari g(z) atas lintasan C berupa lingkaran | z | = 4 dengan arah berlawanan jar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395280" y="1844640"/>
                <a:ext cx="2232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7"/>
              <p:cNvSpPr txBox="1"/>
              <p:nvPr/>
            </p:nvSpPr>
            <p:spPr>
              <a:xfrm>
                <a:off x="2700360" y="1916280"/>
                <a:ext cx="172728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4716360" y="1844640"/>
                <a:ext cx="1008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6351480" y="1833480"/>
                <a:ext cx="16765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5"/>
              <p:cNvSpPr txBox="1"/>
              <p:nvPr/>
            </p:nvSpPr>
            <p:spPr>
              <a:xfrm>
                <a:off x="684360" y="4653000"/>
                <a:ext cx="36558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2" name="AutoShape 17"/>
          <p:cNvSpPr/>
          <p:nvPr/>
        </p:nvSpPr>
        <p:spPr>
          <a:xfrm>
            <a:off x="2411280" y="2781360"/>
            <a:ext cx="2303640" cy="718920"/>
          </a:xfrm>
          <a:prstGeom prst="wedgeRoundRectCallout">
            <a:avLst>
              <a:gd name="adj1" fmla="val 20638"/>
              <a:gd name="adj2" fmla="val -90837"/>
              <a:gd name="adj3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 : interior dari lintasa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5867280" y="270828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z) Analitik pada  daerah yang dilingkupi oleh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5795280" y="1989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20"/>
              <p:cNvSpPr txBox="1"/>
              <p:nvPr/>
            </p:nvSpPr>
            <p:spPr>
              <a:xfrm>
                <a:off x="611280" y="3716280"/>
                <a:ext cx="16174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22"/>
              <p:cNvSpPr txBox="1"/>
              <p:nvPr/>
            </p:nvSpPr>
            <p:spPr>
              <a:xfrm>
                <a:off x="4427640" y="4724280"/>
                <a:ext cx="15127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Rectangle 2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4"/>
              <p:cNvSpPr txBox="1"/>
              <p:nvPr/>
            </p:nvSpPr>
            <p:spPr>
              <a:xfrm>
                <a:off x="6084720" y="4564080"/>
                <a:ext cx="1584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6"/>
              <p:cNvSpPr txBox="1"/>
              <p:nvPr/>
            </p:nvSpPr>
            <p:spPr>
              <a:xfrm>
                <a:off x="2843280" y="5300640"/>
                <a:ext cx="18000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8A7A-4F66-4585-99DC-8559D0D87634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C094FFC7-A778-4608-8BBC-376109A40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042920" y="1195920"/>
            <a:ext cx="70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Hitung integral dari g(z) atas C berupa | z | = 2 dan berlawanan jarum j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1619280" y="1916280"/>
                <a:ext cx="18716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Rectangle 8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3708360" y="1844640"/>
                <a:ext cx="22338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r>
                          <m:t xml:space="preserve">z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9"/>
              <p:cNvSpPr txBox="1"/>
              <p:nvPr/>
            </p:nvSpPr>
            <p:spPr>
              <a:xfrm>
                <a:off x="2195640" y="2852640"/>
                <a:ext cx="3095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1"/>
              <p:cNvSpPr txBox="1"/>
              <p:nvPr/>
            </p:nvSpPr>
            <p:spPr>
              <a:xfrm>
                <a:off x="1692360" y="3789360"/>
                <a:ext cx="34560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Rectangle 1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3"/>
              <p:cNvSpPr txBox="1"/>
              <p:nvPr/>
            </p:nvSpPr>
            <p:spPr>
              <a:xfrm>
                <a:off x="2843280" y="4768920"/>
                <a:ext cx="280836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Rectangle 1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83E8-1D9C-4841-AEDC-352F2ED90BED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64CDCB11-99F0-4BB2-9C09-F4816FCFF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(Lanjutan)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5"/>
              <p:cNvSpPr txBox="1"/>
              <p:nvPr/>
            </p:nvSpPr>
            <p:spPr>
              <a:xfrm>
                <a:off x="1547640" y="1197000"/>
                <a:ext cx="5112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</m:t>
                            </m:r>
                            <m:r>
                              <m:t xml:space="preserve">z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" name="Rectangle 1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7"/>
              <p:cNvSpPr txBox="1"/>
              <p:nvPr/>
            </p:nvSpPr>
            <p:spPr>
              <a:xfrm>
                <a:off x="3419640" y="2276640"/>
                <a:ext cx="3673440" cy="83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8"/>
              <p:cNvSpPr txBox="1"/>
              <p:nvPr/>
            </p:nvSpPr>
            <p:spPr>
              <a:xfrm>
                <a:off x="3459240" y="4149720"/>
                <a:ext cx="26254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Text Box 19"/>
          <p:cNvSpPr/>
          <p:nvPr/>
        </p:nvSpPr>
        <p:spPr>
          <a:xfrm>
            <a:off x="3381840" y="472428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"/>
              <p:cNvSpPr txBox="1"/>
              <p:nvPr/>
            </p:nvSpPr>
            <p:spPr>
              <a:xfrm>
                <a:off x="3419640" y="3284640"/>
                <a:ext cx="367344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5B9F-8BF4-46F9-97F7-EED25AD3B2C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EFB9949F-B2FB-4F81-8509-022D05E34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79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ung integral                       bila C diberikan  beriku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z | = ½ dengan arah posi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z – i| = ½ berlawana arah dengan jarum j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iempat arah positif dengan titik sudut  – ½ , ½ , -½  i dan 2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z | = 2 dengan arah berlawanan dengan jarum j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4613400" y="765000"/>
                <a:ext cx="19746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</m:t>
                            </m:r>
                            <m:r>
                              <m:t xml:space="preserve">z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2:30:10Z</dcterms:created>
  <dc:creator>Danang</dc:creator>
  <dc:description/>
  <dc:language>en-US</dc:language>
  <cp:lastModifiedBy>My Computer</cp:lastModifiedBy>
  <dcterms:modified xsi:type="dcterms:W3CDTF">2012-04-30T03:16:22Z</dcterms:modified>
  <cp:revision>63</cp:revision>
  <dc:subject/>
  <dc:title>Slide 1</dc:title>
</cp:coreProperties>
</file>