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164DB-C02C-4D84-8E3E-52E17D7A6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7E7F-2763-4AB3-BAEE-810295744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2E980-5F3A-4913-B8CB-9AAD3C0CE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4DDD1-6F59-4761-989A-9080412D2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0F3109-C8D7-4912-B85D-E897E8919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5E99E7-C214-4656-987D-3337B81F7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6CD815-9898-4664-B759-611A765D7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388D64-9AC0-4DBD-84E8-C6AB887A5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1E3CD5-B138-4F81-8BFC-EAC2D7172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7CE299-3904-4D7E-99BE-A1C6190E1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506A2F-CDCC-4237-B928-B8D8B69AD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9A89-4212-4FDD-BA47-E453DD3A9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45FA51-122F-4DCC-8AEE-1EE84CBF7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5DD20D-4C2F-4E43-8A55-17D911824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81CD2F-8D5F-44E0-97D0-2EA7BE0EB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364E0A-8DAD-4FB3-AA8A-BA82B1A2E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384D10-5EB1-4899-945D-137388727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4F5B-28B2-4987-985D-94EE7803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77742-38B1-428B-93CC-5787FC0A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596C-6D9D-40CC-96AF-B0466C260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295A-5312-401D-8B13-A1262148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28BF-9412-44F5-A61A-943FF3D0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3B50-4443-4BB5-8A9F-EA04764A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62B3-2A3B-41D1-B23A-4846EA608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2727-6260-4431-8D70-9472B73962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601D-4E4F-4396-BC59-A55F3F6E165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403280" y="2565360"/>
            <a:ext cx="5761080" cy="14414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rPr>
              <a:t>Approche Pratique</a:t>
            </a:r>
            <a:endParaRPr b="0" lang="en-US" sz="32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50920" y="549360"/>
            <a:ext cx="8497800" cy="407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 autres forages refoulent l’eau directement vers leur affectation (réservoir ) :</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 K5                                              réservoir Riquet  ( 5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Riquet</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 L9                                               réservoir Azaghar ( 3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zaghar</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s MN 12 / 20                                réservoir zone industrielle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N 11 / 19                                 ( 2 x 15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 qui sont non</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opérationnelles</a:t>
            </a:r>
            <a:endParaRPr b="0" lang="en-US" sz="1800" spc="-1" strike="noStrike">
              <a:solidFill>
                <a:srgbClr val="ffffff"/>
              </a:solidFill>
              <a:latin typeface="Arial"/>
            </a:endParaRPr>
          </a:p>
        </p:txBody>
      </p:sp>
      <p:sp>
        <p:nvSpPr>
          <p:cNvPr id="159" name=""/>
          <p:cNvSpPr/>
          <p:nvPr/>
        </p:nvSpPr>
        <p:spPr>
          <a:xfrm>
            <a:off x="3203640" y="350028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203640" y="184464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203640" y="263700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0920" y="333360"/>
            <a:ext cx="8497800" cy="671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2.ASSAINISEMENT DES EAUX USE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 réseau unitaire existe encore dans quelques localités de la commune,les rejets se font directement vers l’Oued Soummam sans aucune épuration préalab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Au niveau de l’Azib,la ZAC et Riquet le réseau d’assainissent est de type séparati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our la ville les rejets se font directement vers Ighzer Tahrikt ,Boulguene ,       Amaghan puis vers l’Oued Soumma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s Unités : ALCOVEL et MAC SOUM sont équipées d’une station d’épuration chacune,</a:t>
            </a:r>
            <a:r>
              <a:rPr b="1" lang="fr-FR" sz="1800" spc="-1" strike="noStrike">
                <a:solidFill>
                  <a:srgbClr val="ff0000"/>
                </a:solidFill>
                <a:latin typeface="Arial"/>
              </a:rPr>
              <a:t>mais celle de MAC SOUM est à l’arrêt</a:t>
            </a:r>
            <a:r>
              <a:rPr b="1" lang="fr-FR"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i="1" lang="fr-FR" sz="1800" spc="-1" strike="noStrike" u="sng">
                <a:solidFill>
                  <a:srgbClr val="ffffff"/>
                </a:solidFill>
                <a:uFillTx/>
                <a:latin typeface="Comic Sans MS"/>
              </a:rPr>
              <a:t>C.3. DRAINAGE DES EAUX PLUVIALES</a:t>
            </a: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 réseau de drainage des eaux pluviales reste peu développe dans la commune, il est assure principalement par un réseau unitaire sur le chef lieu et par quelque canaux qui sont destines à canaliser les cours d’eau existant. Un réseau séparatif existe au niveau de la zone d’activité et au niveau du chef lieu de la commune. Au niveau Laazib ,Azaghar ,et de Riquet le réseau est inexista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260280"/>
            <a:ext cx="8424720" cy="547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4.GAZ NATUREL</a:t>
            </a:r>
            <a:r>
              <a:rPr b="1"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Une conduite d’alimentation en gaz de diamètre </a:t>
            </a:r>
            <a:r>
              <a:rPr b="1" lang="el-GR" sz="1800" spc="-1" strike="noStrike">
                <a:solidFill>
                  <a:srgbClr val="ffffff"/>
                </a:solidFill>
                <a:latin typeface="Arial"/>
              </a:rPr>
              <a:t>Φ</a:t>
            </a:r>
            <a:r>
              <a:rPr b="1" lang="fr-FR" sz="1800" spc="-1" strike="noStrike">
                <a:solidFill>
                  <a:srgbClr val="ffffff"/>
                </a:solidFill>
                <a:latin typeface="Arial"/>
              </a:rPr>
              <a:t> 500 mm,en provenance de Beni Mansour ,elle longe la RN 26 au niveau d’Akb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ville d’Akbou est alimentée à partir d’un poste de détente situe à proximité de la gare ferroviaire,le </a:t>
            </a:r>
            <a:r>
              <a:rPr b="1" lang="el-GR" sz="1800" spc="-1" strike="noStrike">
                <a:solidFill>
                  <a:srgbClr val="ffffff"/>
                </a:solidFill>
                <a:latin typeface="Arial"/>
              </a:rPr>
              <a:t>Φ</a:t>
            </a:r>
            <a:r>
              <a:rPr b="1" lang="fr-FR" sz="1800" spc="-1" strike="noStrike">
                <a:solidFill>
                  <a:srgbClr val="ffffff"/>
                </a:solidFill>
                <a:latin typeface="Arial"/>
              </a:rPr>
              <a:t> du réseau varie entre 50 et 150m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poste de détente est alimente à partir de la conduite Gazodu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5.TELEPHON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Un réseau national de télécommunication souterrain longe la RN 26, branchement souterrain à été effectué au niveau du carrefour de Guendouza en allant vers la centrale téléphonique qui est situé au niveau de la Zhun, sa capacité est de 5000 lignes dont 4950 en services et 4270 de deman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 projet d ’extension vers Tifrit et Arafou est en cou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324000" y="260280"/>
            <a:ext cx="849600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u="sng">
                <a:solidFill>
                  <a:srgbClr val="ffffff"/>
                </a:solidFill>
                <a:uFillTx/>
                <a:latin typeface="Lucida Handwriting"/>
              </a:rPr>
              <a:t>D. ACTIONS ET RECOMMANDA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1. LA VOIRI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Comic Sans MS"/>
              </a:rPr>
              <a:t>1.1.  VOIRIE</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nagement des carrefours existants et intersec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Élargissement de la RN 26A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liorer le degré d’accessibilité vers les habita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nagement et revêtement des pistes carrossab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ménagement des passages pié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24000" y="189000"/>
            <a:ext cx="8280360" cy="65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u="sng">
                <a:solidFill>
                  <a:srgbClr val="ffffff"/>
                </a:solidFill>
                <a:uFillTx/>
                <a:latin typeface="Lucida Handwriting"/>
              </a:rPr>
              <a:t>2. LES RESEAUX</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1. ALIMENTATION EN EAU POTABLE</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Mettre en service les réservoirs ( 2 x 1500 m</a:t>
            </a:r>
            <a:r>
              <a:rPr b="0" lang="en-US" sz="2000" spc="-1" strike="noStrike" baseline="30000">
                <a:solidFill>
                  <a:srgbClr val="ffffff"/>
                </a:solidFill>
                <a:latin typeface="Arial"/>
              </a:rPr>
              <a:t>3</a:t>
            </a:r>
            <a:r>
              <a:rPr b="0" lang="en-US" sz="1800" spc="-1" strike="noStrike">
                <a:solidFill>
                  <a:srgbClr val="ffffff"/>
                </a:solidFill>
                <a:latin typeface="Arial"/>
              </a:rPr>
              <a:t>) / zone industriel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alisation d’autres forag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alisation d’autres réservoirs de stockag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Un entretien permanant des équipements de pompage,adduction et 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ockag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2. ASSAINISSEMENT DES EAUX USEE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réseau séparatif au niveau de  la commun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bassin de décantation à court terme en attendant       l’acheminement de tous les rejets vers la station d’épuration recommandé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éalisation de la station d’épuration  pour traiter les eaux usé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ntretien périodique du réseau d’assainissement pour éviter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lmatage de celui-c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324000" y="189000"/>
            <a:ext cx="8496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3. DRAINAG DES EAUX PLUVIALE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réseau de drainag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ntretien des caniveaux existant et cré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cupérer les eaux pluviales pur l’irrigatio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476360" y="0"/>
            <a:ext cx="6192720" cy="57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                    </a:t>
            </a:r>
            <a:r>
              <a:rPr b="1" lang="fr-FR" sz="2400" spc="-1" strike="noStrike">
                <a:solidFill>
                  <a:srgbClr val="ff0000"/>
                </a:solidFill>
                <a:latin typeface="Lucida Handwriting"/>
              </a:rPr>
              <a:t>PLAN DE TRAVAIL</a:t>
            </a:r>
            <a:r>
              <a:rPr b="0" lang="fr-FR" sz="2400" spc="-1" strike="noStrike">
                <a:solidFill>
                  <a:srgbClr val="ff0000"/>
                </a:solidFill>
                <a:latin typeface="Lucida Handwriting"/>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Lucida Handwriting"/>
              </a:rPr>
              <a:t>              </a:t>
            </a:r>
            <a:r>
              <a:rPr b="0" lang="fr-FR" sz="2400" spc="-1" strike="noStrike">
                <a:solidFill>
                  <a:srgbClr val="33cc33"/>
                </a:solidFill>
                <a:latin typeface="Comic Sans MS"/>
              </a:rPr>
              <a:t>Approche pratiq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Lucida Handwriting"/>
              </a:rPr>
              <a:t>A. Présentation du site d’étu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A.1.Sur le plan géographi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A.2. Sur le plan communic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A.3. Sur le plan humain et ectodermiq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Lucida Handwriting"/>
              </a:rPr>
              <a:t>B.Les voir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B.1. les ro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Lucida Handwriting"/>
              </a:rPr>
              <a:t>C.Les réseaux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C.1.Alimentation en eau pot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2.Assainissement des eaux usé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3.Drainage d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4.Gaz natur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5.Téléph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r>
              <a:rPr b="0" i="1" lang="fr-FR" sz="2000" spc="-1" strike="noStrike">
                <a:solidFill>
                  <a:srgbClr val="ffffff"/>
                </a:solidFill>
                <a:latin typeface="Lucida Handwriting"/>
              </a:rPr>
              <a:t>D.Actions et recommand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468360" y="133200"/>
            <a:ext cx="8280360" cy="662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ucida Handwriting"/>
              </a:rPr>
              <a:t>A. </a:t>
            </a:r>
            <a:r>
              <a:rPr b="1" lang="fr-FR" sz="1800" spc="-1" strike="noStrike" u="sng">
                <a:solidFill>
                  <a:srgbClr val="ffffff"/>
                </a:solidFill>
                <a:uFillTx/>
                <a:latin typeface="Lucida Handwriting"/>
              </a:rPr>
              <a:t>PRESENTATION DU SITE D’ETUDE</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i="1" lang="fr-FR" sz="1800" spc="-1" strike="noStrike" u="sng">
                <a:solidFill>
                  <a:srgbClr val="ffffff"/>
                </a:solidFill>
                <a:uFillTx/>
                <a:latin typeface="Comic Sans MS"/>
              </a:rPr>
              <a:t>A.1. Sur le plan géographiqu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1800" spc="-1" strike="noStrike">
                <a:solidFill>
                  <a:srgbClr val="ffffff"/>
                </a:solidFill>
                <a:latin typeface="Arial"/>
              </a:rPr>
              <a:t>la commune d’Akbou est incluse dans la vallée de la Soummam. Elle située dans le Nord-ouest de la wilaya de Bejaïa,à environ 70 km du chef lieu de la wilaya. D’une superficie de 52.18 km</a:t>
            </a:r>
            <a:r>
              <a:rPr b="1" lang="fr-FR" sz="2000" spc="-1" strike="noStrike" baseline="30000">
                <a:solidFill>
                  <a:srgbClr val="ffffff"/>
                </a:solidFill>
                <a:latin typeface="Arial"/>
              </a:rPr>
              <a:t>2</a:t>
            </a:r>
            <a:r>
              <a:rPr b="1" lang="fr-FR" sz="1800" spc="-1" strike="noStrike">
                <a:solidFill>
                  <a:srgbClr val="ffffff"/>
                </a:solidFill>
                <a:latin typeface="Arial"/>
              </a:rPr>
              <a:t>,elle s’étend sur 15 km en Ouest,et sur 1.5 km à 6.5 km du Nord au Sud. Et elle est limitée comme suit :(Après le découpage administratif de 1984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u Nord  : Par la commune de Chell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u Sud   : Par les communes d’Aït R’zine et Amal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 l’Est   :  Par la commune d’Ouzellagu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 l’Ouest  : Par les communes d’Ighram et Tazmal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u="sng">
                <a:solidFill>
                  <a:srgbClr val="ffffff"/>
                </a:solidFill>
                <a:uFillTx/>
                <a:latin typeface="Comic Sans MS"/>
              </a:rPr>
              <a:t>A.2.Sur le plan communication</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1800" spc="-1" strike="noStrike">
                <a:solidFill>
                  <a:srgbClr val="ffffff"/>
                </a:solidFill>
                <a:latin typeface="Arial"/>
              </a:rPr>
              <a:t>la région est traversée par la route nationale N° 26,axe principal qui traverse toute la wilaya de Bejaïa à travers la vallée de la Soummam qui,elle-même,relie le nord et l’est de l’Algérie. La route nationale N° 26A passe par le col de Chellata pour joindre la wilaya de Tizi-ouzoi. La commune est pourvue d’autres axes routiers assurant des liaisons avec d’autres commun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324000" y="765000"/>
            <a:ext cx="8496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A.3.Sur le plan humain et economiqye</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 population se caractérise par sa forte densité au km2 (1199 habts / km2 ) ainsi que sa très forte agglomération (. Cette situation nous révèle la forte attractivité de la commune,due à sa dynamique économique,( par la diversification des activités commerciales et industrielles) ainsi qu’à la disponibilité de la quasi-totalité d’équipements et des services publ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395280" y="0"/>
            <a:ext cx="8497800" cy="65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Handwriting"/>
              </a:rPr>
              <a:t>         </a:t>
            </a:r>
            <a:r>
              <a:rPr b="1" lang="en-US" sz="1800" spc="-1" strike="noStrike" u="sng">
                <a:solidFill>
                  <a:srgbClr val="ffffff"/>
                </a:solidFill>
                <a:uFillTx/>
                <a:latin typeface="Lucida Handwriting"/>
              </a:rPr>
              <a:t>B. LES VOI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B.1.ROUT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 commune d’Akbou dispose d’un réseau routier et de communication importante qui fait qu’elle est bien reliée avec le reste du territoire nationale. Ce réseau est constitué essentiellement pa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a route nationale RN 26 présente la liaison de la commune vers la RN 5 qui mène vers la wilaya d’Alger et de Constantine. Elle traverse la communes au Nord-est vers Bejaia et au Sud-est vers Brouira,entre le versant de la montagne et de la vallée de la Soummam sur une altitude de 200 à 250 m. son emprise est d’environ 12 à 14 m et d’une chaussée de 7m,sa longueur est de 17 km environ.                                                               Sa viabilité et sa visibilité sont moyennes.                                                          La vitesse de circulation routière possible est de 80km/h, son trafic journalier moyen annuel donne par la D.T.P est d’environ 15000 V/J dont le poids lourd représente 30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a route nationale RN 26A débouche de la cite Bouktit reliant Akbou à Tifrit et à Chellata, elle mène vers la wilaya de Tizi ouzou. Son emprise qui est très rétrécie allant de 5 à8 m avec une chaussée d’environ 3,50 m, sa déclivité atteint jusqu’à 15 %,sa vitesse de circulation réduite jusqu’à 30km/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250920" y="404640"/>
            <a:ext cx="86040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 le chemin de Wilaya CW 141 qui est en contacte directe avec la commune d’Akbou, il longe l’Oued Tifrit en traversant l’Oued Soummam d’un pont vers Biziou ,Amalou ,Sedouk et Tamoukra.                                                                Bonne visibilité,moins large. C’est une rou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e chemin de Wilaya CW 07 débouche de la RN 26 vers Ighram traversant la zone industriel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chemins vicinaux représentent les routes secondaires,qui débouchent de la RN 26 et de la RN 26A et du CW.ils desservent les agglomération secondaires et les zones épar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8" name=""/>
          <p:cNvGrpSpPr/>
          <p:nvPr/>
        </p:nvGrpSpPr>
        <p:grpSpPr>
          <a:xfrm>
            <a:off x="430200" y="1628640"/>
            <a:ext cx="8713800" cy="2860200"/>
            <a:chOff x="430200" y="1628640"/>
            <a:chExt cx="8713800" cy="2860200"/>
          </a:xfrm>
        </p:grpSpPr>
        <p:sp>
          <p:nvSpPr>
            <p:cNvPr id="129" name=""/>
            <p:cNvSpPr/>
            <p:nvPr/>
          </p:nvSpPr>
          <p:spPr>
            <a:xfrm>
              <a:off x="430200" y="1628640"/>
              <a:ext cx="871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C.1.ALIMENTATION EN EAU POTABLE</a:t>
              </a:r>
              <a:r>
                <a:rPr b="1"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commune d’ Akbou est alimenté à partir des forages situé sur la pleine qui refoule l’eau vers des réservoirs situés sur la zone montagneuse,plus la source Boukrich qui renforce le réservoir (150 m</a:t>
              </a:r>
              <a:r>
                <a:rPr b="1" lang="en-US" sz="1800" spc="-1" strike="noStrike" baseline="30000">
                  <a:solidFill>
                    <a:srgbClr val="ffffff"/>
                  </a:solidFill>
                  <a:latin typeface="Arial"/>
                </a:rPr>
                <a:t>3</a:t>
              </a:r>
              <a:r>
                <a:rPr b="1" lang="en-US" sz="1800" spc="-1" strike="noStrike">
                  <a:solidFill>
                    <a:srgbClr val="ffffff"/>
                  </a:solidFill>
                  <a:latin typeface="Arial"/>
                </a:rPr>
                <a:t>) Tifrit pour l’alimentation de Tifrit, Tiharkatine ,cite Bouktit (ancien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 forages exploités pour cette tache sont résumés dans le tableau suivant:</a:t>
              </a:r>
              <a:endParaRPr b="0" lang="en-US" sz="1800" spc="-1" strike="noStrike">
                <a:solidFill>
                  <a:srgbClr val="ffffff"/>
                </a:solidFill>
                <a:latin typeface="Arial"/>
              </a:endParaRPr>
            </a:p>
          </p:txBody>
        </p:sp>
        <p:sp>
          <p:nvSpPr>
            <p:cNvPr id="130" name=""/>
            <p:cNvSpPr/>
            <p:nvPr/>
          </p:nvSpPr>
          <p:spPr>
            <a:xfrm>
              <a:off x="1068480" y="1646280"/>
              <a:ext cx="197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Lucida Handwriting"/>
                </a:rPr>
                <a:t>C. LES RESEAUX</a:t>
              </a:r>
              <a:r>
                <a:rPr b="1" lang="en-US" sz="1800" spc="-1" strike="noStrike" u="sng">
                  <a:solidFill>
                    <a:srgbClr val="ffffff"/>
                  </a:solidFill>
                  <a:uFillTx/>
                  <a:latin typeface="Arial"/>
                </a:rPr>
                <a:t>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115920" y="0"/>
          <a:ext cx="8928000" cy="5740560"/>
        </p:xfrm>
        <a:graphic>
          <a:graphicData uri="http://schemas.openxmlformats.org/drawingml/2006/table">
            <a:tbl>
              <a:tblPr/>
              <a:tblGrid>
                <a:gridCol w="1295280"/>
                <a:gridCol w="2521080"/>
                <a:gridCol w="1008000"/>
                <a:gridCol w="1152360"/>
                <a:gridCol w="2951280"/>
              </a:tblGrid>
              <a:tr h="664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FORAG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LOCALIS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Q</a:t>
                      </a:r>
                      <a:r>
                        <a:rPr b="1" lang="en-US" sz="1600" spc="-1" strike="noStrike" u="sng" baseline="-25000">
                          <a:solidFill>
                            <a:srgbClr val="ffffff"/>
                          </a:solidFill>
                          <a:uFillTx/>
                          <a:latin typeface="Comic Sans MS"/>
                        </a:rPr>
                        <a:t>MO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Q</a:t>
                      </a:r>
                      <a:r>
                        <a:rPr b="1" lang="en-US" sz="1600" spc="-1" strike="noStrike" u="sng" baseline="-25000">
                          <a:solidFill>
                            <a:srgbClr val="ffffff"/>
                          </a:solidFill>
                          <a:uFillTx/>
                          <a:latin typeface="Comic Sans MS"/>
                        </a:rPr>
                        <a:t>EXP</a:t>
                      </a:r>
                      <a:r>
                        <a:rPr b="1" lang="en-US" sz="1600" spc="-1" strike="noStrike">
                          <a:solidFill>
                            <a:srgbClr val="ffffff"/>
                          </a:solidFill>
                          <a:latin typeface="Comic Sans MS"/>
                        </a:rPr>
                        <a:t> 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AFFEC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K5</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RIQU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RIQU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L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AZAGHA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AZAGHARA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3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MN 12/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AZAGH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ZONE INDUSTRIEL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MN 11/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AZAGH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ZONE INDUSTRIEL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Q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TAHARACH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6à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Q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TAHAR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 name=""/>
          <p:cNvSpPr/>
          <p:nvPr/>
        </p:nvSpPr>
        <p:spPr>
          <a:xfrm>
            <a:off x="430200" y="6093000"/>
            <a:ext cx="871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a:t>
            </a:r>
            <a:r>
              <a:rPr b="1" lang="en-US" sz="1800" spc="-1" strike="noStrike" baseline="-25000">
                <a:solidFill>
                  <a:srgbClr val="ffffff"/>
                </a:solidFill>
                <a:latin typeface="Arial"/>
              </a:rPr>
              <a:t>MOB</a:t>
            </a:r>
            <a:r>
              <a:rPr b="1" lang="en-US" sz="1800" spc="-1" strike="noStrike">
                <a:solidFill>
                  <a:srgbClr val="ffffff"/>
                </a:solidFill>
                <a:latin typeface="Arial"/>
              </a:rPr>
              <a:t>:Débit mobilisé                             Q</a:t>
            </a:r>
            <a:r>
              <a:rPr b="1" lang="en-US" sz="1800" spc="-1" strike="noStrike" baseline="-25000">
                <a:solidFill>
                  <a:srgbClr val="ffffff"/>
                </a:solidFill>
                <a:latin typeface="Arial"/>
              </a:rPr>
              <a:t>EXP</a:t>
            </a:r>
            <a:r>
              <a:rPr b="1" lang="en-US" sz="1800" spc="-1" strike="noStrike">
                <a:solidFill>
                  <a:srgbClr val="ffffff"/>
                </a:solidFill>
                <a:latin typeface="Arial"/>
              </a:rPr>
              <a:t> :Débit d’exploit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27468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réseau de distribution de la commune d’Akbou est généralement de type ramifié,sauf l’ancien réseau de la ville qui est de type maillé et il est conçu en amiante de ciment. Les différents réservoirs existants et mobilisés pour cette tache sont énumérés comme suit :</a:t>
            </a:r>
            <a:endParaRPr b="0" lang="en-US" sz="1800" spc="-1" strike="noStrike">
              <a:solidFill>
                <a:srgbClr val="ffffff"/>
              </a:solidFill>
              <a:latin typeface="Arial"/>
            </a:endParaRPr>
          </a:p>
        </p:txBody>
      </p:sp>
      <p:sp>
        <p:nvSpPr>
          <p:cNvPr id="134" name=""/>
          <p:cNvSpPr/>
          <p:nvPr/>
        </p:nvSpPr>
        <p:spPr>
          <a:xfrm>
            <a:off x="6443640" y="321300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SERVOIR</a:t>
            </a:r>
            <a:endParaRPr b="0" lang="en-US" sz="1400" spc="-1" strike="noStrike">
              <a:solidFill>
                <a:srgbClr val="ffffff"/>
              </a:solidFill>
              <a:latin typeface="Arial"/>
            </a:endParaRPr>
          </a:p>
        </p:txBody>
      </p:sp>
      <p:grpSp>
        <p:nvGrpSpPr>
          <p:cNvPr id="135" name=""/>
          <p:cNvGrpSpPr/>
          <p:nvPr/>
        </p:nvGrpSpPr>
        <p:grpSpPr>
          <a:xfrm>
            <a:off x="826920" y="1628640"/>
            <a:ext cx="7272000" cy="1911960"/>
            <a:chOff x="826920" y="1628640"/>
            <a:chExt cx="7272000" cy="1911960"/>
          </a:xfrm>
        </p:grpSpPr>
        <p:grpSp>
          <p:nvGrpSpPr>
            <p:cNvPr id="136" name=""/>
            <p:cNvGrpSpPr/>
            <p:nvPr/>
          </p:nvGrpSpPr>
          <p:grpSpPr>
            <a:xfrm>
              <a:off x="826920" y="1868760"/>
              <a:ext cx="1623960" cy="1042560"/>
              <a:chOff x="826920" y="1868760"/>
              <a:chExt cx="1623960" cy="1042560"/>
            </a:xfrm>
          </p:grpSpPr>
          <p:sp>
            <p:nvSpPr>
              <p:cNvPr id="137" name=""/>
              <p:cNvSpPr/>
              <p:nvPr/>
            </p:nvSpPr>
            <p:spPr>
              <a:xfrm>
                <a:off x="1216440" y="1868760"/>
                <a:ext cx="582840" cy="892800"/>
              </a:xfrm>
              <a:prstGeom prst="flowChartConnector">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216440" y="2341800"/>
                <a:ext cx="0" cy="419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799640" y="2320920"/>
                <a:ext cx="0" cy="440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26920" y="2734560"/>
                <a:ext cx="1623960" cy="176760"/>
              </a:xfrm>
              <a:custGeom>
                <a:avLst/>
                <a:gdLst/>
                <a:ahLst/>
                <a:rect l="l" t="t" r="r" b="b"/>
                <a:pathLst>
                  <a:path w="379" h="27">
                    <a:moveTo>
                      <a:pt x="0" y="8"/>
                    </a:moveTo>
                    <a:cubicBezTo>
                      <a:pt x="4" y="6"/>
                      <a:pt x="9" y="5"/>
                      <a:pt x="13" y="3"/>
                    </a:cubicBezTo>
                    <a:cubicBezTo>
                      <a:pt x="42" y="4"/>
                      <a:pt x="70" y="8"/>
                      <a:pt x="99" y="9"/>
                    </a:cubicBezTo>
                    <a:cubicBezTo>
                      <a:pt x="134" y="27"/>
                      <a:pt x="178" y="11"/>
                      <a:pt x="217" y="11"/>
                    </a:cubicBezTo>
                    <a:cubicBezTo>
                      <a:pt x="226" y="8"/>
                      <a:pt x="233" y="6"/>
                      <a:pt x="241" y="0"/>
                    </a:cubicBezTo>
                    <a:cubicBezTo>
                      <a:pt x="269" y="3"/>
                      <a:pt x="293" y="7"/>
                      <a:pt x="322" y="8"/>
                    </a:cubicBezTo>
                    <a:cubicBezTo>
                      <a:pt x="343" y="12"/>
                      <a:pt x="336" y="11"/>
                      <a:pt x="373" y="9"/>
                    </a:cubicBezTo>
                    <a:cubicBezTo>
                      <a:pt x="379" y="8"/>
                      <a:pt x="378" y="10"/>
                      <a:pt x="378" y="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757200" y="1628640"/>
              <a:ext cx="1341720" cy="1276560"/>
              <a:chOff x="6757200" y="1628640"/>
              <a:chExt cx="1341720" cy="1276560"/>
            </a:xfrm>
          </p:grpSpPr>
          <p:grpSp>
            <p:nvGrpSpPr>
              <p:cNvPr id="142" name=""/>
              <p:cNvGrpSpPr/>
              <p:nvPr/>
            </p:nvGrpSpPr>
            <p:grpSpPr>
              <a:xfrm>
                <a:off x="6757200" y="1868760"/>
                <a:ext cx="1341720" cy="1036440"/>
                <a:chOff x="6757200" y="1868760"/>
                <a:chExt cx="1341720" cy="1036440"/>
              </a:xfrm>
            </p:grpSpPr>
            <p:sp>
              <p:nvSpPr>
                <p:cNvPr id="143" name=""/>
                <p:cNvSpPr/>
                <p:nvPr/>
              </p:nvSpPr>
              <p:spPr>
                <a:xfrm>
                  <a:off x="6757200" y="2823840"/>
                  <a:ext cx="1341720" cy="81360"/>
                </a:xfrm>
                <a:custGeom>
                  <a:avLst/>
                  <a:gdLst/>
                  <a:ahLst/>
                  <a:rect l="l" t="t" r="r" b="b"/>
                  <a:pathLst>
                    <a:path w="862" h="46">
                      <a:moveTo>
                        <a:pt x="0" y="34"/>
                      </a:moveTo>
                      <a:cubicBezTo>
                        <a:pt x="9" y="28"/>
                        <a:pt x="20" y="25"/>
                        <a:pt x="30" y="18"/>
                      </a:cubicBezTo>
                      <a:cubicBezTo>
                        <a:pt x="96" y="21"/>
                        <a:pt x="48" y="9"/>
                        <a:pt x="114" y="12"/>
                      </a:cubicBezTo>
                      <a:cubicBezTo>
                        <a:pt x="155" y="18"/>
                        <a:pt x="209" y="0"/>
                        <a:pt x="273" y="6"/>
                      </a:cubicBezTo>
                      <a:cubicBezTo>
                        <a:pt x="341" y="6"/>
                        <a:pt x="473" y="12"/>
                        <a:pt x="519" y="12"/>
                      </a:cubicBezTo>
                      <a:cubicBezTo>
                        <a:pt x="539" y="3"/>
                        <a:pt x="530" y="28"/>
                        <a:pt x="548" y="9"/>
                      </a:cubicBezTo>
                      <a:cubicBezTo>
                        <a:pt x="565" y="10"/>
                        <a:pt x="602" y="11"/>
                        <a:pt x="633" y="15"/>
                      </a:cubicBezTo>
                      <a:cubicBezTo>
                        <a:pt x="664" y="19"/>
                        <a:pt x="696" y="30"/>
                        <a:pt x="732" y="34"/>
                      </a:cubicBezTo>
                      <a:cubicBezTo>
                        <a:pt x="780" y="46"/>
                        <a:pt x="764" y="43"/>
                        <a:pt x="848" y="37"/>
                      </a:cubicBezTo>
                      <a:cubicBezTo>
                        <a:pt x="862" y="34"/>
                        <a:pt x="860" y="40"/>
                        <a:pt x="860" y="28"/>
                      </a:cubicBezTo>
                    </a:path>
                  </a:pathLst>
                </a:custGeom>
                <a:noFill/>
                <a:ln w="2844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4" name=""/>
                <p:cNvSpPr/>
                <p:nvPr/>
              </p:nvSpPr>
              <p:spPr>
                <a:xfrm>
                  <a:off x="7079400" y="1868760"/>
                  <a:ext cx="644400" cy="972720"/>
                </a:xfrm>
                <a:prstGeom prst="rect">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 name=""/>
              <p:cNvSpPr/>
              <p:nvPr/>
            </p:nvSpPr>
            <p:spPr>
              <a:xfrm>
                <a:off x="7079040" y="1628640"/>
                <a:ext cx="641160" cy="488160"/>
              </a:xfrm>
              <a:prstGeom prst="ellipse">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 name=""/>
            <p:cNvGrpSpPr/>
            <p:nvPr/>
          </p:nvGrpSpPr>
          <p:grpSpPr>
            <a:xfrm>
              <a:off x="3862080" y="1789560"/>
              <a:ext cx="1341720" cy="1137240"/>
              <a:chOff x="3862080" y="1789560"/>
              <a:chExt cx="1341720" cy="1137240"/>
            </a:xfrm>
          </p:grpSpPr>
          <p:grpSp>
            <p:nvGrpSpPr>
              <p:cNvPr id="147" name=""/>
              <p:cNvGrpSpPr/>
              <p:nvPr/>
            </p:nvGrpSpPr>
            <p:grpSpPr>
              <a:xfrm>
                <a:off x="4167000" y="1789560"/>
                <a:ext cx="639000" cy="1068120"/>
                <a:chOff x="4167000" y="1789560"/>
                <a:chExt cx="639000" cy="1068120"/>
              </a:xfrm>
            </p:grpSpPr>
            <p:sp>
              <p:nvSpPr>
                <p:cNvPr id="148" name=""/>
                <p:cNvSpPr/>
                <p:nvPr/>
              </p:nvSpPr>
              <p:spPr>
                <a:xfrm>
                  <a:off x="4275720" y="1789560"/>
                  <a:ext cx="530280" cy="507600"/>
                </a:xfrm>
                <a:custGeom>
                  <a:avLst/>
                  <a:gdLst/>
                  <a:ahLst/>
                  <a:rect l="l" t="t" r="r" b="b"/>
                  <a:pathLst>
                    <a:path w="114" h="110">
                      <a:moveTo>
                        <a:pt x="2" y="108"/>
                      </a:moveTo>
                      <a:lnTo>
                        <a:pt x="0" y="0"/>
                      </a:lnTo>
                      <a:lnTo>
                        <a:pt x="33" y="0"/>
                      </a:lnTo>
                      <a:lnTo>
                        <a:pt x="35" y="6"/>
                      </a:lnTo>
                      <a:lnTo>
                        <a:pt x="36" y="38"/>
                      </a:lnTo>
                      <a:lnTo>
                        <a:pt x="113" y="38"/>
                      </a:lnTo>
                      <a:lnTo>
                        <a:pt x="113" y="104"/>
                      </a:lnTo>
                      <a:lnTo>
                        <a:pt x="114" y="110"/>
                      </a:lnTo>
                    </a:path>
                  </a:pathLst>
                </a:custGeom>
                <a:solidFill>
                  <a:srgbClr val="003399"/>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167000" y="2228040"/>
                  <a:ext cx="637560" cy="629640"/>
                </a:xfrm>
                <a:prstGeom prst="rect">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0" name=""/>
              <p:cNvSpPr/>
              <p:nvPr/>
            </p:nvSpPr>
            <p:spPr>
              <a:xfrm>
                <a:off x="3862080" y="2845440"/>
                <a:ext cx="1341720" cy="81360"/>
              </a:xfrm>
              <a:custGeom>
                <a:avLst/>
                <a:gdLst/>
                <a:ahLst/>
                <a:rect l="l" t="t" r="r" b="b"/>
                <a:pathLst>
                  <a:path w="862" h="46">
                    <a:moveTo>
                      <a:pt x="0" y="34"/>
                    </a:moveTo>
                    <a:cubicBezTo>
                      <a:pt x="9" y="28"/>
                      <a:pt x="20" y="25"/>
                      <a:pt x="30" y="18"/>
                    </a:cubicBezTo>
                    <a:cubicBezTo>
                      <a:pt x="96" y="21"/>
                      <a:pt x="48" y="9"/>
                      <a:pt x="114" y="12"/>
                    </a:cubicBezTo>
                    <a:cubicBezTo>
                      <a:pt x="155" y="18"/>
                      <a:pt x="209" y="0"/>
                      <a:pt x="273" y="6"/>
                    </a:cubicBezTo>
                    <a:cubicBezTo>
                      <a:pt x="341" y="6"/>
                      <a:pt x="474" y="11"/>
                      <a:pt x="519" y="12"/>
                    </a:cubicBezTo>
                    <a:cubicBezTo>
                      <a:pt x="564" y="13"/>
                      <a:pt x="543" y="14"/>
                      <a:pt x="546" y="14"/>
                    </a:cubicBezTo>
                    <a:cubicBezTo>
                      <a:pt x="549" y="14"/>
                      <a:pt x="539" y="14"/>
                      <a:pt x="540" y="14"/>
                    </a:cubicBezTo>
                    <a:cubicBezTo>
                      <a:pt x="541" y="14"/>
                      <a:pt x="539" y="11"/>
                      <a:pt x="554" y="11"/>
                    </a:cubicBezTo>
                    <a:cubicBezTo>
                      <a:pt x="571" y="12"/>
                      <a:pt x="603" y="11"/>
                      <a:pt x="633" y="15"/>
                    </a:cubicBezTo>
                    <a:cubicBezTo>
                      <a:pt x="663" y="19"/>
                      <a:pt x="696" y="30"/>
                      <a:pt x="732" y="34"/>
                    </a:cubicBezTo>
                    <a:cubicBezTo>
                      <a:pt x="780" y="46"/>
                      <a:pt x="764" y="43"/>
                      <a:pt x="848" y="37"/>
                    </a:cubicBezTo>
                    <a:cubicBezTo>
                      <a:pt x="862" y="34"/>
                      <a:pt x="860" y="40"/>
                      <a:pt x="860" y="28"/>
                    </a:cubicBezTo>
                  </a:path>
                </a:pathLst>
              </a:custGeom>
              <a:noFill/>
              <a:ln w="2844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151" name=""/>
            <p:cNvSpPr/>
            <p:nvPr/>
          </p:nvSpPr>
          <p:spPr>
            <a:xfrm>
              <a:off x="896760" y="3233520"/>
              <a:ext cx="176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FORAGE</a:t>
              </a:r>
              <a:endParaRPr b="0" lang="en-US" sz="1400" spc="-1" strike="noStrike">
                <a:solidFill>
                  <a:srgbClr val="ffffff"/>
                </a:solidFill>
                <a:latin typeface="Arial"/>
              </a:endParaRPr>
            </a:p>
          </p:txBody>
        </p:sp>
        <p:sp>
          <p:nvSpPr>
            <p:cNvPr id="152" name=""/>
            <p:cNvSpPr/>
            <p:nvPr/>
          </p:nvSpPr>
          <p:spPr>
            <a:xfrm>
              <a:off x="3580200" y="3233520"/>
              <a:ext cx="218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ON DE REPRISE</a:t>
              </a:r>
              <a:endParaRPr b="0" lang="en-US" sz="1400" spc="-1" strike="noStrike">
                <a:solidFill>
                  <a:srgbClr val="ffffff"/>
                </a:solidFill>
                <a:latin typeface="Arial"/>
              </a:endParaRPr>
            </a:p>
          </p:txBody>
        </p:sp>
        <p:sp>
          <p:nvSpPr>
            <p:cNvPr id="153" name=""/>
            <p:cNvSpPr/>
            <p:nvPr/>
          </p:nvSpPr>
          <p:spPr>
            <a:xfrm>
              <a:off x="2237040" y="2109600"/>
              <a:ext cx="1554840" cy="3070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foulement</a:t>
              </a:r>
              <a:endParaRPr b="0" lang="en-US" sz="1400" spc="-1" strike="noStrike">
                <a:solidFill>
                  <a:srgbClr val="ffffff"/>
                </a:solidFill>
                <a:latin typeface="Arial"/>
              </a:endParaRPr>
            </a:p>
          </p:txBody>
        </p:sp>
        <p:sp>
          <p:nvSpPr>
            <p:cNvPr id="154" name=""/>
            <p:cNvSpPr/>
            <p:nvPr/>
          </p:nvSpPr>
          <p:spPr>
            <a:xfrm>
              <a:off x="5061960" y="2432160"/>
              <a:ext cx="1765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992120" y="2109600"/>
              <a:ext cx="1765080" cy="307080"/>
            </a:xfrm>
            <a:prstGeom prst="rect">
              <a:avLst/>
            </a:prstGeom>
            <a:noFill/>
            <a:ln w="19080">
              <a:solidFill>
                <a:srgbClr val="00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foulement</a:t>
              </a:r>
              <a:endParaRPr b="0" lang="en-US" sz="1400" spc="-1" strike="noStrike">
                <a:solidFill>
                  <a:srgbClr val="ffffff"/>
                </a:solidFill>
                <a:latin typeface="Arial"/>
              </a:endParaRPr>
            </a:p>
          </p:txBody>
        </p:sp>
        <p:sp>
          <p:nvSpPr>
            <p:cNvPr id="156" name=""/>
            <p:cNvSpPr/>
            <p:nvPr/>
          </p:nvSpPr>
          <p:spPr>
            <a:xfrm>
              <a:off x="2166840" y="2432160"/>
              <a:ext cx="1765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157" name=""/>
          <p:cNvGraphicFramePr/>
          <p:nvPr/>
        </p:nvGraphicFramePr>
        <p:xfrm>
          <a:off x="611280" y="3933720"/>
          <a:ext cx="8075520" cy="2787840"/>
        </p:xfrm>
        <a:graphic>
          <a:graphicData uri="http://schemas.openxmlformats.org/drawingml/2006/table">
            <a:tbl>
              <a:tblPr/>
              <a:tblGrid>
                <a:gridCol w="1944720"/>
                <a:gridCol w="2736720"/>
                <a:gridCol w="3394080"/>
              </a:tblGrid>
              <a:tr h="75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02,04,06</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ZAROU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rafou ( 50m</a:t>
                      </a:r>
                      <a:r>
                        <a:rPr b="1" lang="en-US" sz="20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servoirs Sidi Ali (2x300m</a:t>
                      </a:r>
                      <a:r>
                        <a:rPr b="1" lang="en-US" sz="2000" spc="-1" strike="noStrike" baseline="30000">
                          <a:solidFill>
                            <a:srgbClr val="ffffff"/>
                          </a:solidFill>
                          <a:latin typeface="Arial"/>
                        </a:rPr>
                        <a:t>3</a:t>
                      </a:r>
                      <a:r>
                        <a:rPr b="1" lang="en-US" sz="1800" spc="-1" strike="noStrike">
                          <a:solidFill>
                            <a:srgbClr val="ffffff"/>
                          </a:solidFill>
                          <a:latin typeface="Arial"/>
                        </a:rPr>
                        <a:t> </a:t>
                      </a:r>
                      <a:r>
                        <a:rPr b="1" lang="en-US" sz="1800" spc="-1" strike="noStrike">
                          <a:solidFill>
                            <a:srgbClr val="ff0000"/>
                          </a:solidFill>
                          <a:latin typeface="Arial"/>
                        </a:rPr>
                        <a:t>et</a:t>
                      </a:r>
                      <a:r>
                        <a:rPr b="1" lang="en-US" sz="1800" spc="-1" strike="noStrike">
                          <a:solidFill>
                            <a:srgbClr val="ffffff"/>
                          </a:solidFill>
                          <a:latin typeface="Arial"/>
                        </a:rPr>
                        <a:t> 2x500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1800" spc="-1" strike="noStrike">
                          <a:solidFill>
                            <a:srgbClr val="ffffff"/>
                          </a:solidFill>
                          <a:latin typeface="Arial"/>
                        </a:rPr>
                        <a:t>N 05</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ZAROU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nouveau réservoi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Zhun (école Ouahchi)     (500 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agglomération de guendouza et sonatrach et les réservoirs de l’ex caserne (2x300m</a:t>
                      </a:r>
                      <a:r>
                        <a:rPr b="1" lang="fr-FR" sz="2000" spc="-1" strike="noStrike" baseline="30000">
                          <a:solidFill>
                            <a:srgbClr val="ffffff"/>
                          </a:solidFill>
                          <a:latin typeface="Arial"/>
                        </a:rPr>
                        <a:t>3 </a:t>
                      </a:r>
                      <a:r>
                        <a:rPr b="1" lang="fr-FR" sz="1800" spc="-1" strike="noStrike">
                          <a:solidFill>
                            <a:srgbClr val="ff0000"/>
                          </a:solidFill>
                          <a:latin typeface="Arial"/>
                        </a:rPr>
                        <a:t>et </a:t>
                      </a:r>
                      <a:r>
                        <a:rPr b="1" lang="fr-FR" sz="1800" spc="-1" strike="noStrike">
                          <a:solidFill>
                            <a:srgbClr val="ffffff"/>
                          </a:solidFill>
                          <a:latin typeface="Arial"/>
                        </a:rPr>
                        <a:t>500m</a:t>
                      </a:r>
                      <a:r>
                        <a:rPr b="1" lang="fr-FR" sz="2000" spc="-1" strike="noStrike" baseline="30000">
                          <a:solidFill>
                            <a:srgbClr val="ffffff"/>
                          </a:solidFill>
                          <a:latin typeface="Arial"/>
                        </a:rPr>
                        <a:t>3</a:t>
                      </a:r>
                      <a:r>
                        <a:rPr b="1" lang="fr-FR"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3, Q4</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HARACH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hil Medjbar ( 50m</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servoirs l’ex casrne (2x300m</a:t>
                      </a:r>
                      <a:r>
                        <a:rPr b="1" lang="en-US" sz="2000" spc="-1" strike="noStrike" baseline="30000">
                          <a:solidFill>
                            <a:srgbClr val="ffffff"/>
                          </a:solidFill>
                          <a:latin typeface="Arial"/>
                        </a:rPr>
                        <a:t>3 </a:t>
                      </a:r>
                      <a:r>
                        <a:rPr b="1" lang="en-US" sz="1800" spc="-1" strike="noStrike">
                          <a:solidFill>
                            <a:srgbClr val="ff0000"/>
                          </a:solidFill>
                          <a:latin typeface="Arial"/>
                        </a:rPr>
                        <a:t>et </a:t>
                      </a:r>
                      <a:r>
                        <a:rPr b="1" lang="en-US" sz="1800" spc="-1" strike="noStrike">
                          <a:solidFill>
                            <a:srgbClr val="ffffff"/>
                          </a:solidFill>
                          <a:latin typeface="Arial"/>
                        </a:rPr>
                        <a:t>500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08:25:58Z</dcterms:created>
  <dc:creator>SAD</dc:creator>
  <dc:description>EXPLICATION DU TABLEAU   /     LES SERVITUDES    /   </dc:description>
  <dc:language>en-US</dc:language>
  <cp:lastModifiedBy>mimane</cp:lastModifiedBy>
  <dcterms:modified xsi:type="dcterms:W3CDTF">2008-04-27T01:08:14Z</dcterms:modified>
  <cp:revision>57</cp:revision>
  <dc:subject>EXPOSE</dc:subject>
  <dc:title> VRD</dc:title>
</cp:coreProperties>
</file>