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C2E-B4BF-4334-8EDF-5D282B5A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46A-8ABA-466B-8D9C-B75BBA89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201-9819-4AB5-AD97-D3AB0315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5B4-8F7A-4E86-BFCD-90A952F1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1FC-84CA-4A22-A0AA-7AC19701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B01-F8DB-4AB6-BE87-2F1647FE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66D-D7B5-4E09-B589-B5709ACA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94A-0ADA-43CA-9E86-308D15E6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2CE-6D21-4D2E-9DF2-8C492B3B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393-1144-42AA-B8FE-25FE4BDD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703-E683-45F7-ACAA-944330D1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6A8-CFA0-4BA4-B9F0-E0B63656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1D0C-AF10-4849-8145-C9A39CEB7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09840" y="0"/>
            <a:ext cx="6122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00320" y="0"/>
            <a:ext cx="474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9700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9708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6920" y="0"/>
            <a:ext cx="4608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2720" y="0"/>
            <a:ext cx="5038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3984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01760" y="0"/>
            <a:ext cx="4738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306520" y="0"/>
            <a:ext cx="4530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9068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5280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14440" y="0"/>
            <a:ext cx="4511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19852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90880" y="0"/>
            <a:ext cx="4960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22640" y="0"/>
            <a:ext cx="4697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1292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032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5892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98800" y="0"/>
            <a:ext cx="4944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85840" y="0"/>
            <a:ext cx="4970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0760" y="0"/>
            <a:ext cx="4899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52520" y="0"/>
            <a:ext cx="4637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5:45:05Z</dcterms:created>
  <dc:creator>MAITHAM</dc:creator>
  <dc:description/>
  <dc:language>en-US</dc:language>
  <cp:lastModifiedBy>MAITHAM</cp:lastModifiedBy>
  <dcterms:modified xsi:type="dcterms:W3CDTF">2004-08-14T05:52:45Z</dcterms:modified>
  <cp:revision>9</cp:revision>
  <dc:subject/>
  <dc:title>الشريحة 1</dc:title>
</cp:coreProperties>
</file>