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79C-212A-40C4-8DA0-93F9F486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D81-0327-406E-AFBC-84A166C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FE9-996E-4614-BE64-AEFB7356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37F-89EE-48F9-9F23-6555CCD5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F5-6084-414B-A67B-DA701B6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DF1-03F8-4EFA-8567-C966E4E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C03-2696-497C-8ADB-0DCF5A74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C2B-DFF2-46D5-901F-92FDDCB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971-E7F7-4FDC-B761-504B711B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674-B536-4AA2-AF16-C98777E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E63-35B3-45B4-8AFF-EE93D8B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FDB-ED08-48E2-98C1-FE6B864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66E5-433C-4CA0-B5B8-D224307A9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09840" y="0"/>
            <a:ext cx="6122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0320" y="0"/>
            <a:ext cx="474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9708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6920" y="0"/>
            <a:ext cx="460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01760" y="0"/>
            <a:ext cx="473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906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14440" y="0"/>
            <a:ext cx="4511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9852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90880" y="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22640" y="0"/>
            <a:ext cx="469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1292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589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98800" y="0"/>
            <a:ext cx="4944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8584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0760" y="0"/>
            <a:ext cx="4899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252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5:45:05Z</dcterms:created>
  <dc:creator>MAITHAM</dc:creator>
  <dc:description/>
  <dc:language>en-US</dc:language>
  <cp:lastModifiedBy>MAITHAM</cp:lastModifiedBy>
  <dcterms:modified xsi:type="dcterms:W3CDTF">2004-08-14T05:52:45Z</dcterms:modified>
  <cp:revision>9</cp:revision>
  <dc:subject/>
  <dc:title>الشريحة 1</dc:title>
</cp:coreProperties>
</file>