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Anh_Con_No_Em(1)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C57-00FD-40AF-9273-59BE5A95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ED4-3F39-4204-B89D-6EA5459A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A6F-786C-4A29-8181-3FE66D44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883-8737-4A45-83A7-D4CDD849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28C-4CC6-4BF5-9F88-9DFB2555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A92-DFEC-4A51-9F10-FE174FC8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19A-72F6-4DE3-9AF5-785D0542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96B-5ED0-4036-A744-FF509A56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327-6CFC-401B-BBF4-6AE1A6B6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859-50E3-4673-82CB-7B0EE2E7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95B-36FC-4CFE-ABD2-367082E3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DD1-7314-46DF-9406-1648D5A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E36F-84CB-4615-8B4B-D92607731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nh_Con_No_Em(1)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3962520"/>
            <a:ext cx="56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15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15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94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Tiếng hát: THIÊN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28800" y="1219320"/>
            <a:ext cx="5334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00400" y="5029200"/>
            <a:ext cx="3276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PS: NGÔ CẨM HỒ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733920" y="6095880"/>
            <a:ext cx="233676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háng 11-2011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981080" y="3886200"/>
            <a:ext cx="565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5880" y="6248520"/>
            <a:ext cx="2714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1giờ-11.11.201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0"/>
                            </p:stCondLst>
                            <p:childTnLst>
                              <p:par>
                                <p:cTn id="78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3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8000"/>
                            </p:stCondLst>
                            <p:childTnLst>
                              <p:par>
                                <p:cTn id="78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7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0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2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4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847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8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54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0000"/>
                            </p:stCondLst>
                            <p:childTnLst>
                              <p:par>
                                <p:cTn id="8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8000"/>
                            </p:stCondLst>
                            <p:childTnLst>
                              <p:par>
                                <p:cTn id="87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8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0000"/>
                            </p:stCondLst>
                            <p:childTnLst>
                              <p:par>
                                <p:cTn id="89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5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6500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67000"/>
                            </p:stCondLst>
                            <p:childTnLst>
                              <p:par>
                                <p:cTn id="904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700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73000"/>
                            </p:stCondLst>
                            <p:childTnLst>
                              <p:par>
                                <p:cTn id="91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403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ông viên ghế đá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ông viên ghế đá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á đổ chiều ê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523880" y="2438280"/>
            <a:ext cx="2362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4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òng xưa bến cũ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òng xưa bến cũ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 sông êm đềm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410080" y="320040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6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48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im về núi nhạn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ời mờ mưa đê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ời mờ mưa đê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66880" y="9907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429000" y="2971800"/>
            <a:ext cx="2362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6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403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ụ hôn vội vàng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ụ hôn vội vàng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ắng chói qua rèm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8480" y="7621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724280" y="2514600"/>
            <a:ext cx="2362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5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 tim bối rối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 tim bối rối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676520" y="4952880"/>
            <a:ext cx="2361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ANH CÒN NỢ EM…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Tiếng hát:THIÊN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76920" y="419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Và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ộc tình đã lỡ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ộc tình đã lỡ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371600" y="51055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00440" y="2514600"/>
            <a:ext cx="3543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Nhạc ANH BẰNG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hơ PHAN THÀNH TÀI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5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3400"/>
                            </p:stCondLst>
                            <p:childTnLst>
                              <p:par>
                                <p:cTn id="111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40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9400"/>
                            </p:stCondLst>
                            <p:childTnLst>
                              <p:par>
                                <p:cTn id="1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2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82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9200"/>
                            </p:stCondLst>
                            <p:childTnLst>
                              <p:par>
                                <p:cTn id="143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15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115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115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115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2200"/>
                            </p:stCondLst>
                            <p:childTnLst>
                              <p:par>
                                <p:cTn id="153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7200"/>
                            </p:stCondLst>
                            <p:childTnLst>
                              <p:par>
                                <p:cTn id="160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22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200"/>
                            </p:stCondLst>
                            <p:childTnLst>
                              <p:par>
                                <p:cTn id="17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48520" y="-360"/>
            <a:ext cx="2590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ĐIỆP </a:t>
            </a: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KHÚC</a:t>
            </a: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 NHỚ T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6629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oảng theo hơi gió… miên mang nỗi buồn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ến sông nay vắng con đò,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iọt sương đọng lại trên bờ mi xưa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ao xao một thoáng… Đong đưa giọt buồn…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ề thăm lại quê nhà,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ước đi từng bước… nghe lòng xuyến xao …???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ình riêng như thể giọt sương trên cành.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ối mùa lá đỗ sân và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ao cay đôi mắt… Sao lòng tuyết rơi…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ong từng lời hát, câu ca, tiếng cười.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ù là một chút… vấn vương cả đời….!!!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43600" y="495288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NGÔ CẨM HỒ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advTm="45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2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200"/>
                            </p:stCondLst>
                            <p:childTnLst>
                              <p:par>
                                <p:cTn id="1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1600"/>
                            </p:stCondLst>
                            <p:childTnLst>
                              <p:par>
                                <p:cTn id="2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410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8200"/>
                            </p:stCondLst>
                            <p:childTnLst>
                              <p:par>
                                <p:cTn id="220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21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2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33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2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       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sỏi đá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Khi trái tim vỡ vụ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Một cuộc tình đã ta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heo thời gian quên lãng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hạt cá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rên sa mạc mênh mô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Chịu được nhiều sương gió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Là thuyền trong mắt 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mây b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Đi khắp bốn phương trờ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Dù là mưa hay nắng,  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Mây vẫn là Mây thôi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sóng vỗ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rên mạn thuyền ngày xư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huyền vẫn trôi vô tậ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Bao giờ về bến xưa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Cổ thụ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Của bóng mát đời 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Mà chỉ là Cây c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Giữa cánh đồng bao 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dòng nướ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Làm mát rượi tình 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 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Như  Thuỷ triều dâng só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 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Đọng nước trong mắt Em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Lại không là nụ cườ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  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Lại không là bóng má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Cho đời Em chơi vơ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Như con thuyền không bế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                       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chỉ là hạt bụ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Hạt bụi chiều hôm qu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Đã vương vào đôi mắ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 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Sao mắt Em cay ca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   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chỉ là cánh đồ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   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Nắng cháy... cỏ vàng ho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 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Không giọt sương đọng lạ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  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Một cuộc tình đi hoang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2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                                       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                                                                                        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43400" y="1371600"/>
            <a:ext cx="388620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KHÔNG LÀ GÌ CẢ !!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5680" y="3276720"/>
            <a:ext cx="424836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Arial"/>
              </a:rPr>
              <a:t>Thơ: NGÔ CẨM HỒNG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p:transition advTm="35000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900"/>
                            </p:stCondLst>
                            <p:childTnLst>
                              <p:par>
                                <p:cTn id="2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2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800"/>
                            </p:stCondLst>
                            <p:childTnLst>
                              <p:par>
                                <p:cTn id="2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1200"/>
                            </p:stCondLst>
                            <p:childTnLst>
                              <p:par>
                                <p:cTn id="3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4300"/>
                            </p:stCondLst>
                            <p:childTnLst>
                              <p:par>
                                <p:cTn id="3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7100"/>
                            </p:stCondLst>
                            <p:childTnLst>
                              <p:par>
                                <p:cTn id="3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9800"/>
                            </p:stCondLst>
                            <p:childTnLst>
                              <p:par>
                                <p:cTn id="3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700"/>
                            </p:stCondLst>
                            <p:childTnLst>
                              <p:par>
                                <p:cTn id="3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100"/>
                            </p:stCondLst>
                            <p:childTnLst>
                              <p:par>
                                <p:cTn id="3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7600"/>
                            </p:stCondLst>
                            <p:childTnLst>
                              <p:par>
                                <p:cTn id="3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300"/>
                            </p:stCondLst>
                            <p:childTnLst>
                              <p:par>
                                <p:cTn id="3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3300"/>
                            </p:stCondLst>
                            <p:childTnLst>
                              <p:par>
                                <p:cTn id="3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6100"/>
                            </p:stCondLst>
                            <p:childTnLst>
                              <p:par>
                                <p:cTn id="3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8500"/>
                            </p:stCondLst>
                            <p:childTnLst>
                              <p:par>
                                <p:cTn id="3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1100"/>
                            </p:stCondLst>
                            <p:childTnLst>
                              <p:par>
                                <p:cTn id="3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3600"/>
                            </p:stCondLst>
                            <p:childTnLst>
                              <p:par>
                                <p:cTn id="3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800"/>
                            </p:stCondLst>
                            <p:childTnLst>
                              <p:par>
                                <p:cTn id="3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850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1400"/>
                            </p:stCondLst>
                            <p:childTnLst>
                              <p:par>
                                <p:cTn id="4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4000"/>
                            </p:stCondLst>
                            <p:childTnLst>
                              <p:par>
                                <p:cTn id="4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7000"/>
                            </p:stCondLst>
                            <p:childTnLst>
                              <p:par>
                                <p:cTn id="4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9900"/>
                            </p:stCondLst>
                            <p:childTnLst>
                              <p:par>
                                <p:cTn id="4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2600"/>
                            </p:stCondLst>
                            <p:childTnLst>
                              <p:par>
                                <p:cTn id="4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5300"/>
                            </p:stCondLst>
                            <p:childTnLst>
                              <p:par>
                                <p:cTn id="4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7800"/>
                            </p:stCondLst>
                            <p:childTnLst>
                              <p:par>
                                <p:cTn id="4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80800"/>
                            </p:stCondLst>
                            <p:childTnLst>
                              <p:par>
                                <p:cTn id="4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3300"/>
                            </p:stCondLst>
                            <p:childTnLst>
                              <p:par>
                                <p:cTn id="4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6000"/>
                            </p:stCondLst>
                            <p:childTnLst>
                              <p:par>
                                <p:cTn id="4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8600"/>
                            </p:stCondLst>
                            <p:childTnLst>
                              <p:par>
                                <p:cTn id="4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1200"/>
                            </p:stCondLst>
                            <p:childTnLst>
                              <p:par>
                                <p:cTn id="4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93900"/>
                            </p:stCondLst>
                            <p:childTnLst>
                              <p:par>
                                <p:cTn id="4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7100"/>
                            </p:stCondLst>
                            <p:childTnLst>
                              <p:par>
                                <p:cTn id="5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200"/>
                            </p:stCondLst>
                            <p:childTnLst>
                              <p:par>
                                <p:cTn id="5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3200"/>
                            </p:stCondLst>
                            <p:childTnLst>
                              <p:par>
                                <p:cTn id="5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420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5100"/>
                            </p:stCondLst>
                            <p:childTnLst>
                              <p:par>
                                <p:cTn id="52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5550"/>
                            </p:stCondLst>
                            <p:childTnLst>
                              <p:par>
                                <p:cTn id="53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6850"/>
                            </p:stCondLst>
                            <p:childTnLst>
                              <p:par>
                                <p:cTn id="54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8100"/>
                            </p:stCondLst>
                            <p:childTnLst>
                              <p:par>
                                <p:cTn id="54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9400"/>
                            </p:stCondLst>
                            <p:childTnLst>
                              <p:par>
                                <p:cTn id="55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11000"/>
                            </p:stCondLst>
                            <p:childTnLst>
                              <p:par>
                                <p:cTn id="55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12350"/>
                            </p:stCondLst>
                            <p:childTnLst>
                              <p:par>
                                <p:cTn id="56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13700"/>
                            </p:stCondLst>
                            <p:childTnLst>
                              <p:par>
                                <p:cTn id="57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15250"/>
                            </p:stCondLst>
                            <p:childTnLst>
                              <p:par>
                                <p:cTn id="57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6650"/>
                            </p:stCondLst>
                            <p:childTnLst>
                              <p:par>
                                <p:cTn id="58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18000"/>
                            </p:stCondLst>
                            <p:childTnLst>
                              <p:par>
                                <p:cTn id="58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19450"/>
                            </p:stCondLst>
                            <p:childTnLst>
                              <p:par>
                                <p:cTn id="59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20650"/>
                            </p:stCondLst>
                            <p:childTnLst>
                              <p:par>
                                <p:cTn id="60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21900"/>
                            </p:stCondLst>
                            <p:childTnLst>
                              <p:par>
                                <p:cTn id="60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23250"/>
                            </p:stCondLst>
                            <p:childTnLst>
                              <p:par>
                                <p:cTn id="61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24750"/>
                            </p:stCondLst>
                            <p:childTnLst>
                              <p:par>
                                <p:cTn id="61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26150"/>
                            </p:stCondLst>
                            <p:childTnLst>
                              <p:par>
                                <p:cTn id="62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27350"/>
                            </p:stCondLst>
                            <p:childTnLst>
                              <p:par>
                                <p:cTn id="63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28650"/>
                            </p:stCondLst>
                            <p:childTnLst>
                              <p:par>
                                <p:cTn id="63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29900"/>
                            </p:stCondLst>
                            <p:childTnLst>
                              <p:par>
                                <p:cTn id="64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31000"/>
                            </p:stCondLst>
                            <p:childTnLst>
                              <p:par>
                                <p:cTn id="64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32350"/>
                            </p:stCondLst>
                            <p:childTnLst>
                              <p:par>
                                <p:cTn id="65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33800"/>
                            </p:stCondLst>
                            <p:childTnLst>
                              <p:par>
                                <p:cTn id="66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35100"/>
                            </p:stCondLst>
                            <p:childTnLst>
                              <p:par>
                                <p:cTn id="66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7" dur="500"/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6600"/>
                            </p:stCondLst>
                            <p:childTnLst>
                              <p:par>
                                <p:cTn id="67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3" dur="500"/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38050"/>
                            </p:stCondLst>
                            <p:childTnLst>
                              <p:par>
                                <p:cTn id="67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39400"/>
                            </p:stCondLst>
                            <p:childTnLst>
                              <p:par>
                                <p:cTn id="68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40750"/>
                            </p:stCondLst>
                            <p:childTnLst>
                              <p:par>
                                <p:cTn id="69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42000"/>
                            </p:stCondLst>
                            <p:childTnLst>
                              <p:par>
                                <p:cTn id="69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43500"/>
                            </p:stCondLst>
                            <p:childTnLst>
                              <p:par>
                                <p:cTn id="70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44750"/>
                            </p:stCondLst>
                            <p:childTnLst>
                              <p:par>
                                <p:cTn id="70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09" dur="500"/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46100"/>
                            </p:stCondLst>
                            <p:childTnLst>
                              <p:par>
                                <p:cTn id="71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15" dur="500"/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47400"/>
                            </p:stCondLst>
                            <p:childTnLst>
                              <p:par>
                                <p:cTn id="72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48700"/>
                            </p:stCondLst>
                            <p:childTnLst>
                              <p:par>
                                <p:cTn id="72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50050"/>
                            </p:stCondLst>
                            <p:childTnLst>
                              <p:par>
                                <p:cTn id="73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3" dur="500"/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1650"/>
                            </p:stCondLst>
                            <p:childTnLst>
                              <p:par>
                                <p:cTn id="73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9" dur="500"/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3200"/>
                            </p:stCondLst>
                            <p:childTnLst>
                              <p:par>
                                <p:cTn id="74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5" dur="500"/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4700"/>
                            </p:stCondLst>
                            <p:childTnLst>
                              <p:par>
                                <p:cTn id="75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500"/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5200"/>
                            </p:stCondLst>
                            <p:childTnLst>
                              <p:par>
                                <p:cTn id="75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2:23:50Z</dcterms:created>
  <dc:creator>Cat Tuong Group</dc:creator>
  <dc:description/>
  <dc:language>en-US</dc:language>
  <cp:lastModifiedBy>Cat Tuong Group</cp:lastModifiedBy>
  <dcterms:modified xsi:type="dcterms:W3CDTF">2011-11-11T02:53:34Z</dcterms:modified>
  <cp:revision>1</cp:revision>
  <dc:subject/>
  <dc:title>Slide 1</dc:title>
</cp:coreProperties>
</file>