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4.jpeg" ContentType="image/jpeg"/>
  <Override PartName="/ppt/media/image6.png" ContentType="image/png"/>
  <Override PartName="/ppt/media/image31.png" ContentType="image/png"/>
  <Override PartName="/ppt/media/image21.jpeg" ContentType="image/jpeg"/>
  <Override PartName="/ppt/media/image29.png" ContentType="image/png"/>
  <Override PartName="/ppt/media/image22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4.png" ContentType="image/png"/>
  <Override PartName="/ppt/media/image11.jpeg" ContentType="image/jpeg"/>
  <Override PartName="/ppt/media/image9.jpeg" ContentType="image/jpeg"/>
  <Override PartName="/ppt/media/image13.png" ContentType="image/png"/>
  <Override PartName="/ppt/media/image27.png" ContentType="image/png"/>
  <Override PartName="/ppt/media/image33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12.png" ContentType="image/png"/>
  <Override PartName="/ppt/media/image23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png" ContentType="image/png"/>
  <Override PartName="/ppt/media/image2.jpeg" ContentType="image/jpeg"/>
  <Override PartName="/ppt/media/image20.png" ContentType="image/png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4825" cy="97123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4400" cy="971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2600" y="-360"/>
            <a:ext cx="297036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8280" y="728640"/>
            <a:ext cx="4857480" cy="364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260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520E-17C6-4A78-9317-0F3F41FA09B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CCDC1-EA78-4509-AC2C-D46C418979D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040" y="4614840"/>
            <a:ext cx="50259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B1231-C5AD-4B16-B908-24D6ACD58B22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0B22E-B3FB-4B1C-B4DF-8CB505C31D3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EF151-3CC0-4333-87F2-997CA3E1FC5E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C73D3-82B7-4B07-9B61-65BBEF5CF07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DF7E-14D3-4380-B488-308CCC98A8C4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8C29-A436-42F2-B3F1-079838A1286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CF2DB-76F7-4F3B-9147-3486FF0BB26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73430-CAAD-4577-98E1-C4F722A9215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D751-E465-4AB7-A63B-DB63E82C7FFC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94B95-98CA-4E30-99DF-A4F5F022F88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49C7-08CA-4567-AE70-2828D396C7AA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73C30-137E-4EB6-98ED-3970C333F8A9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0886B-BA56-4709-8208-EE201EBCE76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8B7E4-754E-4DA2-A904-12D90EAC7C51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2257-6056-47D5-9C72-701BA5FB539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1E28-7C23-419B-A8C2-2B8EB2748FF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D02D-CF8C-4AE7-B778-6C44C3FE9DC3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05026-9D3E-47E8-9C4F-2A4C2A71F6C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EE544-44AD-447E-AF11-A76A9BEF1595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E9D1-7D8F-477A-ADCF-D2A7215570D8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1E1D3-64E0-4494-A4E8-B5BB54F002EF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552FE-80C7-4F65-AE07-5D77AECD6DFD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606919-EFE8-4423-8AAC-6D35823C6D9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C3E79-1DB2-4EE1-98D2-76D182625207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2960" y="9226440"/>
            <a:ext cx="2970360" cy="4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A206-D38B-4099-B9C5-FD18EA9FE8AB}" type="slidenum">
              <a:rPr b="0" lang="es-ES_trad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998640" y="728640"/>
            <a:ext cx="4857480" cy="36432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440" y="4614840"/>
            <a:ext cx="5483160" cy="437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V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2BE45-52DB-473F-9DF1-93EF1284F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656E3-8FBD-4E0D-AF2C-84CA7EFB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DA29-8E9F-4F58-8571-08D2FB46E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A0DD7-0DE8-4BE1-8A38-5F23CED84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C04B-E41A-4DCB-B904-F4D3F0412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E1C36-510D-4EF0-B92E-4817069F4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9FB7-F88F-44DC-AFDC-FF912CE6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2B40B-05D9-4944-ABBF-ED9182A2B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EFE4-8CF9-413E-81C7-B07A3A476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BEFF-4FCF-4817-ABEB-A621B860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6F5E-BA9D-4CC8-9F32-45AAA96D8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F3A6-C855-4C21-B64E-A752CE37F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C5A2-A902-4BAB-8D0A-C3672B91FF5B}" type="datetime">
              <a:rPr b="0" lang="es-ES_tradnl" sz="14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32B79-ACFC-4738-A334-BC2DF141F968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20.png"/><Relationship Id="rId19" Type="http://schemas.openxmlformats.org/officeDocument/2006/relationships/slideLayout" Target="../slideLayouts/slideLayout1.xml"/><Relationship Id="rId2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Line 2"/>
          <p:cNvSpPr/>
          <p:nvPr/>
        </p:nvSpPr>
        <p:spPr>
          <a:xfrm>
            <a:off x="755640" y="1197000"/>
            <a:ext cx="8283600" cy="0"/>
          </a:xfrm>
          <a:prstGeom prst="line">
            <a:avLst/>
          </a:prstGeom>
          <a:ln w="15228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50920" y="620640"/>
            <a:ext cx="1800000" cy="5977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f1800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2124000" y="1762200"/>
            <a:ext cx="6985080" cy="10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5000"/>
              </a:lnSpc>
              <a:spcBef>
                <a:spcPts val="33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3200" spc="-1" strike="noStrike">
                <a:solidFill>
                  <a:srgbClr val="000099"/>
                </a:solidFill>
                <a:latin typeface="Arial Black"/>
              </a:rPr>
              <a:t>El ATP Y LA TRANSFERENCIA DE LA ENERGI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3637080" y="4076640"/>
            <a:ext cx="424800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Arial Black"/>
              </a:rPr>
              <a:t>Prof. F. Castro Carabal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>
            <a:off x="2987640" y="3213000"/>
            <a:ext cx="4824360" cy="170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cc0099"/>
                </a:solidFill>
                <a:latin typeface="Arial Black"/>
              </a:rPr>
              <a:t>TEMA  Nº 9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cc0099"/>
                </a:solidFill>
                <a:latin typeface="Arial Black"/>
              </a:rPr>
              <a:t>UNIDAD I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851280" y="52164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600" spc="-1" strike="noStrike">
                <a:solidFill>
                  <a:srgbClr val="008080"/>
                </a:solidFill>
                <a:latin typeface="Arial Black"/>
              </a:rPr>
              <a:t>Clase IV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4"/>
          <p:cNvSpPr/>
          <p:nvPr/>
        </p:nvSpPr>
        <p:spPr>
          <a:xfrm>
            <a:off x="3635280" y="6021360"/>
            <a:ext cx="381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000" spc="-1" strike="noStrike">
                <a:solidFill>
                  <a:srgbClr val="0000cc"/>
                </a:solidFill>
                <a:latin typeface="Arial"/>
              </a:rPr>
              <a:t>27 de Enero de 201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1680" y="671400"/>
            <a:ext cx="1719360" cy="1944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rcRect l="16511" t="0" r="17350" b="0"/>
          <a:stretch/>
        </p:blipFill>
        <p:spPr>
          <a:xfrm>
            <a:off x="312840" y="4581360"/>
            <a:ext cx="1660320" cy="19256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3"/>
          <a:stretch/>
        </p:blipFill>
        <p:spPr>
          <a:xfrm>
            <a:off x="324000" y="2709720"/>
            <a:ext cx="1581120" cy="1752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56AB-3BBC-49BC-BC8A-B71EAC574A0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23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Nucleótidos de flavina </a:t>
            </a:r>
            <a:r>
              <a:rPr b="1" lang="es-VE" sz="2800" spc="-1" strike="noStrike">
                <a:solidFill>
                  <a:srgbClr val="003399"/>
                </a:solidFill>
                <a:latin typeface="Wingdings 3"/>
                <a:ea typeface="Wingdings 3"/>
              </a:rPr>
              <a:t></a:t>
            </a: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 FMN y FA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10237" t="4819" r="56775" b="7663"/>
          <a:stretch/>
        </p:blipFill>
        <p:spPr>
          <a:xfrm>
            <a:off x="2698920" y="1128600"/>
            <a:ext cx="2808000" cy="49309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338560" y="1306440"/>
            <a:ext cx="358560" cy="3024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0 h 3024360"/>
              <a:gd name="textAreaBottom" fmla="*/ 30247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79"/>
                </a:lnTo>
                <a:cubicBezTo>
                  <a:pt x="10800" y="10879"/>
                  <a:pt x="5400" y="10879"/>
                  <a:pt x="0" y="10879"/>
                </a:cubicBezTo>
                <a:cubicBezTo>
                  <a:pt x="5400" y="10879"/>
                  <a:pt x="10800" y="10879"/>
                  <a:pt x="10800" y="1087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74920" y="1306440"/>
            <a:ext cx="287280" cy="4753080"/>
          </a:xfrm>
          <a:custGeom>
            <a:avLst/>
            <a:gdLst>
              <a:gd name="textAreaLeft" fmla="*/ 183600 w 287280"/>
              <a:gd name="textAreaRight" fmla="*/ 287640 w 287280"/>
              <a:gd name="textAreaTop" fmla="*/ 0 h 4753080"/>
              <a:gd name="textAreaBottom" fmla="*/ 4753440 h 475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79"/>
                </a:lnTo>
                <a:cubicBezTo>
                  <a:pt x="10800" y="10879"/>
                  <a:pt x="5400" y="10879"/>
                  <a:pt x="0" y="10879"/>
                </a:cubicBezTo>
                <a:cubicBezTo>
                  <a:pt x="5400" y="10879"/>
                  <a:pt x="10800" y="10879"/>
                  <a:pt x="10800" y="1087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90560" y="263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FM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4360" y="350028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F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22560" y="4295880"/>
            <a:ext cx="863640" cy="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70200" y="4311720"/>
            <a:ext cx="863640" cy="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30920" y="1235160"/>
            <a:ext cx="863280" cy="7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646360" y="1052640"/>
            <a:ext cx="216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3280" y="1090440"/>
            <a:ext cx="21600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786200" y="1090440"/>
            <a:ext cx="289080" cy="936720"/>
          </a:xfrm>
          <a:custGeom>
            <a:avLst/>
            <a:gdLst>
              <a:gd name="textAreaLeft" fmla="*/ 0 w 289080"/>
              <a:gd name="textAreaRight" fmla="*/ 104400 w 289080"/>
              <a:gd name="textAreaTop" fmla="*/ 0 h 936720"/>
              <a:gd name="textAreaBottom" fmla="*/ 93708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045040" y="1432080"/>
            <a:ext cx="1471680" cy="4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00"/>
                </a:solidFill>
                <a:latin typeface="Arial"/>
              </a:rPr>
              <a:t>Anillo 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6600"/>
                </a:solidFill>
                <a:latin typeface="Arial"/>
              </a:rPr>
              <a:t>isoaloxaci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11760" y="2170080"/>
            <a:ext cx="216000" cy="1368360"/>
          </a:xfrm>
          <a:custGeom>
            <a:avLst/>
            <a:gdLst>
              <a:gd name="textAreaLeft" fmla="*/ 0 w 216000"/>
              <a:gd name="textAreaRight" fmla="*/ 78120 w 216000"/>
              <a:gd name="textAreaTop" fmla="*/ 0 h 1368360"/>
              <a:gd name="textAreaBottom" fmla="*/ 1368720 h 136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2744640"/>
            <a:ext cx="1800360" cy="464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00"/>
                </a:solidFill>
                <a:latin typeface="Arial"/>
              </a:rPr>
              <a:t>Ribit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6600"/>
                </a:solidFill>
                <a:latin typeface="Arial"/>
              </a:rPr>
              <a:t>(Azúcar-alcohol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03280" y="6165720"/>
            <a:ext cx="532764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inucleotido de flavina y adenina (FA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y Mononucleotido de flavina (FMN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743D-9670-4C9A-98BE-5D8F8F8BDF4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rcRect l="11079" t="5017" r="0" b="6538"/>
          <a:stretch/>
        </p:blipFill>
        <p:spPr>
          <a:xfrm>
            <a:off x="324000" y="741240"/>
            <a:ext cx="8675640" cy="57121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900000" y="6453360"/>
            <a:ext cx="2232000" cy="28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66"/>
                </a:solidFill>
                <a:latin typeface="Arial"/>
              </a:rPr>
              <a:t>FMN y FAD oxidad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F38E-C6CD-40A8-9FD3-E6DAA5034C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11"/>
          <p:cNvSpPr/>
          <p:nvPr/>
        </p:nvSpPr>
        <p:spPr>
          <a:xfrm>
            <a:off x="539640" y="1052640"/>
            <a:ext cx="8604360" cy="52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1800" spc="-1" strike="noStrike">
                <a:solidFill>
                  <a:srgbClr val="000099"/>
                </a:solidFill>
                <a:latin typeface="Arial"/>
              </a:rPr>
              <a:t>Resumen de las características del FMN y FAD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stán unidas a sus proteínas en ciertos caso por fuerzas covalente y no covalentes en otros cas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Sufren su oxidación y reducción reversibles en el anillo de isoaloxacina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Sus formas oxidadas pueden aceptar de 1 o 2 H desde un sustrato reducido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Las formas parcialmente reducidas (con 1 H) se llaman semiquinonas y se abrevian como FMNH• y FADH•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Las formas completamente reducidas se abrevian como FMNH</a:t>
            </a:r>
            <a:r>
              <a:rPr b="0" lang="es-VE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y FADH</a:t>
            </a:r>
            <a:r>
              <a:rPr b="0" lang="es-VE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Dado que transfieren de 1 a 2 H, pueden actuar como intermediarios entre reacciones que donan 2 H y las que aceptan 1 H.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DEA-795B-4A49-8D6E-6871BD75294F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3"/>
          <p:cNvSpPr/>
          <p:nvPr/>
        </p:nvSpPr>
        <p:spPr>
          <a:xfrm>
            <a:off x="0" y="404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Proteínas ferro-sulfuradas y sus centr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ferro-sulfurados o centros hierro-azufre (Fe-S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rcRect l="3498" t="2368" r="2081" b="14971"/>
          <a:stretch/>
        </p:blipFill>
        <p:spPr>
          <a:xfrm>
            <a:off x="324000" y="3716280"/>
            <a:ext cx="3166920" cy="2737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rcRect l="2206" t="2787" r="1267" b="11014"/>
          <a:stretch/>
        </p:blipFill>
        <p:spPr>
          <a:xfrm>
            <a:off x="5965920" y="3573360"/>
            <a:ext cx="2927160" cy="30355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6300720" y="1844640"/>
            <a:ext cx="936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eín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5508720" y="1557000"/>
            <a:ext cx="431640" cy="196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3"/>
          <a:srcRect l="2983" t="0" r="4150" b="9242"/>
          <a:stretch/>
        </p:blipFill>
        <p:spPr>
          <a:xfrm>
            <a:off x="3016080" y="1217520"/>
            <a:ext cx="3140280" cy="285912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580000" y="1271520"/>
            <a:ext cx="7207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5318280" y="1341000"/>
            <a:ext cx="287280" cy="1429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581800" y="1989000"/>
            <a:ext cx="71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5013360" y="1491840"/>
            <a:ext cx="276120" cy="104760"/>
          </a:xfrm>
          <a:prstGeom prst="line">
            <a:avLst/>
          </a:prstGeom>
          <a:ln w="1260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284720" y="3284640"/>
            <a:ext cx="647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547640" y="3284640"/>
            <a:ext cx="79236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877080" y="3284640"/>
            <a:ext cx="79056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Fe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es-ES_tradnl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A3CD5-4F2F-4A42-9C66-074C50CAA02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Text Box 11"/>
          <p:cNvSpPr/>
          <p:nvPr/>
        </p:nvSpPr>
        <p:spPr>
          <a:xfrm>
            <a:off x="539640" y="1052640"/>
            <a:ext cx="8604360" cy="59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Resumen de las características de los centros Fe-S de las proteínas ferro-sulfurad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n estos centros el Fe no esta en forma de hemo, sino unido a átomos de azufre inorgánico y a los azufre de las cisteínas de la proteín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stos centros pueden existir en tres forma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Forma FeS    </a:t>
            </a:r>
            <a:r>
              <a:rPr b="0" lang="es-VE" sz="18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1 Fe forma un complejo con los azufre de 4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residuos de cisteín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Forma Fe</a:t>
            </a:r>
            <a:r>
              <a:rPr b="0" lang="es-VE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lang="es-VE" sz="1800" spc="-1" strike="noStrike" baseline="-25000">
                <a:solidFill>
                  <a:srgbClr val="000099"/>
                </a:solidFill>
                <a:latin typeface="Arial"/>
              </a:rPr>
              <a:t>2  </a:t>
            </a:r>
            <a:r>
              <a:rPr b="0" lang="es-VE" sz="18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2 Fe, c/u formando un complejo con los azufre de</a:t>
            </a:r>
            <a:r>
              <a:rPr b="0" lang="es-VE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                        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2 residuos de cisteína y 2 azufre inorgánic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Forma Fe</a:t>
            </a:r>
            <a:r>
              <a:rPr b="0" lang="es-VE" sz="18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lang="es-VE" sz="18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4 Fe, c/u formando un complejo con los azufre de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                       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1 residuos de cisteína y 3 azufre inorgánic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Participan en la transferencia de un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s-VE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a la vez, en las que se oxida o reduce uno de los átomos de F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15280" y="6346800"/>
            <a:ext cx="360360" cy="2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F0A7-D046-42DD-AC8E-B812AABE4479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rcRect l="64352" t="0" r="0" b="57163"/>
          <a:stretch/>
        </p:blipFill>
        <p:spPr>
          <a:xfrm>
            <a:off x="5076720" y="907920"/>
            <a:ext cx="3673440" cy="25974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23"/>
          <p:cNvSpPr/>
          <p:nvPr/>
        </p:nvSpPr>
        <p:spPr>
          <a:xfrm>
            <a:off x="0" y="3888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Grupos hemos de los citocrom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rcRect l="0" t="52892" r="42405" b="9855"/>
          <a:stretch/>
        </p:blipFill>
        <p:spPr>
          <a:xfrm>
            <a:off x="2050920" y="4005360"/>
            <a:ext cx="5759640" cy="219240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3"/>
          <a:srcRect l="23027" t="5590" r="42405" b="57163"/>
          <a:stretch/>
        </p:blipFill>
        <p:spPr>
          <a:xfrm>
            <a:off x="826920" y="1247760"/>
            <a:ext cx="3457800" cy="21924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47640" y="5950080"/>
            <a:ext cx="35276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emo 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(Presente en citocromos del tipo </a:t>
            </a:r>
            <a:r>
              <a:rPr b="0" i="1" lang="es-ES_tradnl" sz="1600" spc="-1" strike="noStrike">
                <a:solidFill>
                  <a:srgbClr val="006699"/>
                </a:solidFill>
                <a:latin typeface="Arial"/>
              </a:rPr>
              <a:t>a</a:t>
            </a: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183280" y="3505320"/>
            <a:ext cx="3492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Hemo C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(Presente en citocromos del tipo </a:t>
            </a:r>
            <a:r>
              <a:rPr b="0" i="1" lang="es-ES_tradnl" sz="1600" spc="-1" strike="noStrike">
                <a:solidFill>
                  <a:srgbClr val="006699"/>
                </a:solidFill>
                <a:latin typeface="Arial"/>
              </a:rPr>
              <a:t>c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042920" y="3505320"/>
            <a:ext cx="338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Ferro-protoporfirina IX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(Presente en citocromos del tipo</a:t>
            </a:r>
            <a:r>
              <a:rPr b="0" i="1" lang="es-ES_tradnl" sz="1600" spc="-1" strike="noStrike">
                <a:solidFill>
                  <a:srgbClr val="006699"/>
                </a:solidFill>
                <a:latin typeface="Arial"/>
              </a:rPr>
              <a:t> b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55640" y="4759200"/>
            <a:ext cx="13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la de isopreno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42B4-FAD3-4F97-98C6-BD178F0C32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rcRect l="10981" t="0" r="0" b="71935"/>
          <a:stretch/>
        </p:blipFill>
        <p:spPr>
          <a:xfrm>
            <a:off x="395280" y="1484280"/>
            <a:ext cx="4038480" cy="41385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rcRect l="23027" t="5590" r="42405" b="57163"/>
          <a:stretch/>
        </p:blipFill>
        <p:spPr>
          <a:xfrm>
            <a:off x="5437080" y="2387520"/>
            <a:ext cx="2881440" cy="18273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4859280" y="4292640"/>
            <a:ext cx="3889440" cy="7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Ferro-protoporfirina IX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99"/>
                </a:solidFill>
                <a:latin typeface="Arial"/>
              </a:rPr>
              <a:t>Presente en citocromos del tipo</a:t>
            </a:r>
            <a:r>
              <a:rPr b="1" i="1" lang="es-ES_tradnl" sz="1800" spc="-1" strike="noStrike">
                <a:solidFill>
                  <a:srgbClr val="006699"/>
                </a:solidFill>
                <a:latin typeface="Arial"/>
              </a:rPr>
              <a:t> b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835280" y="5572080"/>
            <a:ext cx="1728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ngitud de on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3600" y="3556080"/>
            <a:ext cx="576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23"/>
          <p:cNvSpPr/>
          <p:nvPr/>
        </p:nvSpPr>
        <p:spPr>
          <a:xfrm>
            <a:off x="0" y="62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Espectro de absorción de citocromos del tipo </a:t>
            </a:r>
            <a:r>
              <a:rPr b="1" i="1" lang="es-VE" sz="2800" spc="-1" strike="noStrike">
                <a:solidFill>
                  <a:srgbClr val="003399"/>
                </a:solidFill>
                <a:latin typeface="Arial"/>
              </a:rPr>
              <a:t>b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9822-D51B-4E69-808D-76CB975B775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3"/>
          <p:cNvSpPr/>
          <p:nvPr/>
        </p:nvSpPr>
        <p:spPr>
          <a:xfrm>
            <a:off x="0" y="62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Espectro de absorción de citocromos del tipo </a:t>
            </a:r>
            <a:r>
              <a:rPr b="1" i="1" lang="es-VE" sz="2800" spc="-1" strike="noStrike">
                <a:solidFill>
                  <a:srgbClr val="003399"/>
                </a:solidFill>
                <a:latin typeface="Arial"/>
              </a:rPr>
              <a:t>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835280" y="5572080"/>
            <a:ext cx="1728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ngitud de on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3600" y="3556080"/>
            <a:ext cx="576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rcRect l="64352" t="0" r="0" b="57163"/>
          <a:stretch/>
        </p:blipFill>
        <p:spPr>
          <a:xfrm>
            <a:off x="5435640" y="2046240"/>
            <a:ext cx="3025800" cy="213984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4859280" y="4206960"/>
            <a:ext cx="3960720" cy="7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Hemo C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99"/>
                </a:solidFill>
                <a:latin typeface="Arial"/>
              </a:rPr>
              <a:t>Presente en citocromos del tipo </a:t>
            </a:r>
            <a:r>
              <a:rPr b="1" i="1" lang="es-ES_tradnl" sz="1800" spc="-1" strike="noStrike">
                <a:solidFill>
                  <a:srgbClr val="006699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rcRect l="11969" t="34364" r="0" b="38637"/>
          <a:stretch/>
        </p:blipFill>
        <p:spPr>
          <a:xfrm>
            <a:off x="495360" y="1692360"/>
            <a:ext cx="3860640" cy="38480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1136520" y="3986280"/>
            <a:ext cx="217440" cy="28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935A-D602-4FAE-B1AA-0ADD05A044F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rcRect l="12126" t="68275" r="0" b="4978"/>
          <a:stretch/>
        </p:blipFill>
        <p:spPr>
          <a:xfrm>
            <a:off x="504720" y="1689120"/>
            <a:ext cx="3922920" cy="387828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rcRect l="0" t="52892" r="42405" b="9855"/>
          <a:stretch/>
        </p:blipFill>
        <p:spPr>
          <a:xfrm>
            <a:off x="4356000" y="2276640"/>
            <a:ext cx="4680000" cy="178092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4427640" y="4116240"/>
            <a:ext cx="4716360" cy="79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Hemo 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6699"/>
                </a:solidFill>
                <a:latin typeface="Arial"/>
              </a:rPr>
              <a:t>Presente en citocromos del tipo </a:t>
            </a:r>
            <a:r>
              <a:rPr b="1" i="1" lang="es-ES_tradnl" sz="1800" spc="-1" strike="noStrike">
                <a:solidFill>
                  <a:srgbClr val="006699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35280" y="5572080"/>
            <a:ext cx="1728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Longitud de on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3600" y="3390840"/>
            <a:ext cx="5763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23"/>
          <p:cNvSpPr/>
          <p:nvPr/>
        </p:nvSpPr>
        <p:spPr>
          <a:xfrm>
            <a:off x="0" y="62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Espectro de absorción de citocromos del tipo </a:t>
            </a:r>
            <a:r>
              <a:rPr b="1" i="1" lang="es-VE" sz="2800" spc="-1" strike="noStrike">
                <a:solidFill>
                  <a:srgbClr val="003399"/>
                </a:solidFill>
                <a:latin typeface="Arial"/>
              </a:rPr>
              <a:t>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F801-0F5E-4C90-A4D3-51085BCB29D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11"/>
          <p:cNvSpPr/>
          <p:nvPr/>
        </p:nvSpPr>
        <p:spPr>
          <a:xfrm>
            <a:off x="539640" y="1052640"/>
            <a:ext cx="8604360" cy="55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Resumen de las características de los grupos hemos de los citocrom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Le confieren a los citocromo una fuerte capacidad de absorción de luz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n el espectro visible (400 – 700 nm) debido a su resonanc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xistes 3 tipos de hemos en los citocromos: el hemo C, el hemo A y la ferro-protoporfirina IX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Los tres tipos de hemo determinan tres clases de citocromos (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,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y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) que son  diferenciables por su espectro de absorción de luz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Dentro de cada clase de citocromo existen subclases que se distinguen por diferencias espectrales menor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l átomo de Fe del hemo en los citocromos del tipo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esta asociado a un ion cobre que interviene en la transferencia de los electron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1CA2-67CE-4445-BC3B-9304DD6214B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539640" y="981000"/>
            <a:ext cx="8604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1) Analizar el ATP cómo “moneda energética” en los sistemas biológic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2) Revisar conceptos relacionados con las reacciones de oxido-reducción 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su importancia en los procesos de obtención de energía por los organism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3) Estudiar la glicólisis y el ciclo de Krebs como modelos de vías metabólicas generadoras de ATP y de intermediarios para otras vías metabólicas</a:t>
            </a:r>
            <a:r>
              <a:rPr b="1" lang="es-VE" sz="1800" spc="-1" strike="noStrike">
                <a:solidFill>
                  <a:srgbClr val="000099"/>
                </a:solidFill>
                <a:latin typeface="Arial"/>
              </a:rPr>
              <a:t>.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4) Estudiar el mecanismo de transporte de los electrones provenientes de l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reacciones de oxido-reducción biológic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5) Estudiar el mecanismo de síntesis de ATP por fosforilación a nivel 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sustrato y por fosforilación oxidativ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3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4"/>
          <p:cNvSpPr/>
          <p:nvPr/>
        </p:nvSpPr>
        <p:spPr>
          <a:xfrm>
            <a:off x="472320" y="476280"/>
            <a:ext cx="520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2800" spc="-1" strike="noStrike">
                <a:solidFill>
                  <a:srgbClr val="cc0099"/>
                </a:solidFill>
                <a:latin typeface="Arial"/>
              </a:rPr>
              <a:t> </a:t>
            </a: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Objetivos generales del te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1449-E338-4F3D-8D40-30CB3968F20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11"/>
          <p:cNvSpPr/>
          <p:nvPr/>
        </p:nvSpPr>
        <p:spPr>
          <a:xfrm>
            <a:off x="539640" y="1052640"/>
            <a:ext cx="860436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3006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Los grupos hemo A y Fe-protorporfirina IX están unidos a su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citocromos (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y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b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) por fuerzas no covalent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Los grupos hemos C si están unidos covalentemente al citocromo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a través de enlaces tioéter de 2 grupos vinilos y 2 residuos de cisteina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Ciertos citocromos del tipo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son solubles y se unen por fuerzas iónicas a la cara externa de la membrana mitocondrial intern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Los citocromos tienen la capacidad de transportar un electrón cada vez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C058D-39DA-42F3-8A77-8DE66A5C960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11"/>
          <p:cNvSpPr/>
          <p:nvPr/>
        </p:nvSpPr>
        <p:spPr>
          <a:xfrm>
            <a:off x="539640" y="1052640"/>
            <a:ext cx="8604360" cy="51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aracterísticas de los componentes de la cadena respirato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Complejo I (NADH deshidrogenasa 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NADH-ubiquinona oxido-rreductasa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Complejo II (Succinato deshidrogenas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Ubiquinona (Coenzima Q o Q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Complejo III (Complejo citocromo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bc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Arial"/>
              </a:rPr>
              <a:t>1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Ubiquinona-citocromo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 c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oxidorrreductas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3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Citocromo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 c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(No es un complej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3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Complejo IV  (Citocromo oxidas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8"/>
          <a:srcRect l="0" t="0" r="43254" b="0"/>
          <a:stretch/>
        </p:blipFill>
        <p:spPr>
          <a:xfrm>
            <a:off x="5548320" y="1916280"/>
            <a:ext cx="3085920" cy="432108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c0066">
                <a:alpha val="5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0932-37AF-44CA-B903-BCDEE5D34E1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11"/>
          <p:cNvSpPr/>
          <p:nvPr/>
        </p:nvSpPr>
        <p:spPr>
          <a:xfrm>
            <a:off x="539640" y="1052640"/>
            <a:ext cx="86043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aracterísticas del complejo 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s también llamado NADH deshidrogenasa o NADH-ubiquinona oxido- rreductas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sta formado por 42 subunidades diferentes. Una es una flavoproteína con un FMN, y como mínimo 6 centros ferro-sulfurad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Tiene forma de “L” con un brazo de la L hacia la membrana y el otro hacia la matriz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Recibe los iones hidruros transportados por los NADH + H</a:t>
            </a:r>
            <a:r>
              <a:rPr b="0" lang="es-VE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generados en las diversas reacciones de oxidación y forma NAD</a:t>
            </a:r>
            <a:r>
              <a:rPr b="0" lang="es-VE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Cataliza de forma acoplada la transferencia exergónica de un ion hidruro del NADH y un H* hacia la ubiquinona y la transferencia endergónica de protones desde la matriz el hacia espacio intermembran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5535-09CA-4AC8-A800-1929CCDF3E0A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3"/>
          <p:cNvSpPr/>
          <p:nvPr/>
        </p:nvSpPr>
        <p:spPr>
          <a:xfrm>
            <a:off x="0" y="620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Complejo I (NADH deshidrogenas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052720" y="1407960"/>
            <a:ext cx="5688000" cy="431496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6064200" y="4059360"/>
            <a:ext cx="2540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Matriz mitocondr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940360" y="1959120"/>
            <a:ext cx="254016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Espacio intermembra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1844640"/>
            <a:ext cx="129564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9080" y="2205000"/>
            <a:ext cx="433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49920" y="4525920"/>
            <a:ext cx="8017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2 H</a:t>
            </a:r>
            <a:r>
              <a:rPr b="1" lang="en-US" sz="1800" spc="-1" strike="noStrike" baseline="30000">
                <a:solidFill>
                  <a:srgbClr val="cc0066"/>
                </a:solidFill>
                <a:latin typeface="Arial"/>
              </a:rPr>
              <a:t>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508720" y="1371600"/>
            <a:ext cx="5601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cc0066"/>
                </a:solidFill>
                <a:latin typeface="Arial"/>
              </a:rPr>
              <a:t>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119320" y="4005360"/>
            <a:ext cx="86364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322360" y="4292640"/>
            <a:ext cx="72072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39640" y="2852640"/>
            <a:ext cx="129564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rana mitocond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06560" y="2637000"/>
            <a:ext cx="289080" cy="1296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360 h 1296720"/>
              <a:gd name="textAreaBottom" fmla="*/ 12963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"/>
                  <a:pt x="10800" y="31"/>
                </a:cubicBezTo>
                <a:lnTo>
                  <a:pt x="10800" y="10769"/>
                </a:lnTo>
                <a:cubicBezTo>
                  <a:pt x="10800" y="10785"/>
                  <a:pt x="5400" y="10800"/>
                  <a:pt x="0" y="10800"/>
                </a:cubicBezTo>
                <a:cubicBezTo>
                  <a:pt x="5400" y="10800"/>
                  <a:pt x="10800" y="10816"/>
                  <a:pt x="10800" y="10831"/>
                </a:cubicBezTo>
                <a:lnTo>
                  <a:pt x="10800" y="21569"/>
                </a:lnTo>
                <a:cubicBezTo>
                  <a:pt x="10800" y="2158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732720" y="234792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efe1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64160" y="2401920"/>
            <a:ext cx="1942920" cy="108000"/>
          </a:xfrm>
          <a:custGeom>
            <a:avLst/>
            <a:gdLst/>
            <a:ahLst/>
            <a:rect l="l" t="t" r="r" b="b"/>
            <a:pathLst>
              <a:path w="1247" h="159">
                <a:moveTo>
                  <a:pt x="1247" y="23"/>
                </a:moveTo>
                <a:cubicBezTo>
                  <a:pt x="827" y="11"/>
                  <a:pt x="408" y="0"/>
                  <a:pt x="204" y="23"/>
                </a:cubicBezTo>
                <a:cubicBezTo>
                  <a:pt x="0" y="46"/>
                  <a:pt x="53" y="136"/>
                  <a:pt x="23" y="159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708440" y="2511360"/>
            <a:ext cx="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867280" y="3284640"/>
            <a:ext cx="1225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7204-D500-49CA-94E2-DD9522B51F5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11"/>
          <p:cNvSpPr/>
          <p:nvPr/>
        </p:nvSpPr>
        <p:spPr>
          <a:xfrm>
            <a:off x="539640" y="1052640"/>
            <a:ext cx="8604360" cy="51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aracterísticas del complejo I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s también llamado succinato deshidrogenas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s la única enzima del ciclo de Krebs que a su vez es parte de l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cadena respirator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Posee como mínimo 4 tipos diferentes de proteínas, las cuales están  organizadas en cinco subunidades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Posee dos tipos de grupos prostetico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Un FAD unido covalentemente a la enzim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Dos centros ferro-sulfurados (F</a:t>
            </a:r>
            <a:r>
              <a:rPr b="0" lang="es-VE" sz="18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S</a:t>
            </a:r>
            <a:r>
              <a:rPr b="0" lang="es-VE" sz="1800" spc="-1" strike="noStrike" baseline="-25000">
                <a:solidFill>
                  <a:srgbClr val="000099"/>
                </a:solidFill>
                <a:latin typeface="Arial"/>
              </a:rPr>
              <a:t>4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Los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s-VE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pasan desde el succinato (provenientes del ciclo de Krebs) al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FAD y luego a los centros ferro-sulfurados y de allí a la ubiquinon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9AC9-DE02-4CBB-B4D5-BE4F1E02F212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3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Complejo II (Succinato deshidrogenas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989440" y="2205000"/>
            <a:ext cx="433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973080" y="2060640"/>
            <a:ext cx="1295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rana mitocond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95640" y="2060640"/>
            <a:ext cx="288720" cy="863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360 h 863640"/>
              <a:gd name="textAreaBottom" fmla="*/ 86328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"/>
                  <a:pt x="10800" y="31"/>
                </a:cubicBezTo>
                <a:lnTo>
                  <a:pt x="10800" y="10769"/>
                </a:lnTo>
                <a:cubicBezTo>
                  <a:pt x="10800" y="10785"/>
                  <a:pt x="5400" y="10800"/>
                  <a:pt x="0" y="10800"/>
                </a:cubicBezTo>
                <a:cubicBezTo>
                  <a:pt x="5400" y="10800"/>
                  <a:pt x="10800" y="10816"/>
                  <a:pt x="10800" y="10831"/>
                </a:cubicBezTo>
                <a:lnTo>
                  <a:pt x="10800" y="21569"/>
                </a:lnTo>
                <a:cubicBezTo>
                  <a:pt x="10800" y="2158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rcRect l="0" t="12437" r="0" b="0"/>
          <a:stretch/>
        </p:blipFill>
        <p:spPr>
          <a:xfrm>
            <a:off x="2411280" y="1509840"/>
            <a:ext cx="5473800" cy="51591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6227640" y="2836800"/>
            <a:ext cx="1729080" cy="39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932360" y="4653000"/>
            <a:ext cx="1512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724360" y="3573360"/>
            <a:ext cx="720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48360" y="2565360"/>
            <a:ext cx="2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rcRect l="87013" t="29682" r="6586" b="64773"/>
          <a:stretch/>
        </p:blipFill>
        <p:spPr>
          <a:xfrm>
            <a:off x="6877080" y="2503440"/>
            <a:ext cx="350640" cy="32724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4683240" y="1341360"/>
            <a:ext cx="3168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796000" y="1700280"/>
            <a:ext cx="1152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3"/>
          <a:srcRect l="88170" t="20575" r="6586" b="74635"/>
          <a:stretch/>
        </p:blipFill>
        <p:spPr>
          <a:xfrm>
            <a:off x="5791320" y="1994040"/>
            <a:ext cx="287280" cy="28260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4"/>
          <a:srcRect l="88170" t="20575" r="6586" b="74635"/>
          <a:stretch/>
        </p:blipFill>
        <p:spPr>
          <a:xfrm>
            <a:off x="6080040" y="1994040"/>
            <a:ext cx="287280" cy="2826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5"/>
          <a:srcRect l="88170" t="20575" r="6586" b="74635"/>
          <a:stretch/>
        </p:blipFill>
        <p:spPr>
          <a:xfrm>
            <a:off x="6372360" y="1989000"/>
            <a:ext cx="287280" cy="28260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6"/>
          <a:srcRect l="88170" t="20575" r="6586" b="74635"/>
          <a:stretch/>
        </p:blipFill>
        <p:spPr>
          <a:xfrm>
            <a:off x="6661080" y="1994040"/>
            <a:ext cx="287280" cy="28260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411280" y="4653000"/>
            <a:ext cx="10810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16000" y="1268280"/>
            <a:ext cx="2540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Espacio intermembra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58920" y="443700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Matriz mitocondr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64320" y="29988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66"/>
                </a:solidFill>
                <a:latin typeface="Arial"/>
              </a:rPr>
              <a:t>Complejo I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6227640" y="3213000"/>
            <a:ext cx="43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EE24-AB76-451F-8C98-AE89118CF7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3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Complejo II (Succinato deshidrogenas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989440" y="2205000"/>
            <a:ext cx="433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973080" y="2060640"/>
            <a:ext cx="1295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rana mitocond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95640" y="2060640"/>
            <a:ext cx="288720" cy="863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360 h 863640"/>
              <a:gd name="textAreaBottom" fmla="*/ 86328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"/>
                  <a:pt x="10800" y="31"/>
                </a:cubicBezTo>
                <a:lnTo>
                  <a:pt x="10800" y="10769"/>
                </a:lnTo>
                <a:cubicBezTo>
                  <a:pt x="10800" y="10785"/>
                  <a:pt x="5400" y="10800"/>
                  <a:pt x="0" y="10800"/>
                </a:cubicBezTo>
                <a:cubicBezTo>
                  <a:pt x="5400" y="10800"/>
                  <a:pt x="10800" y="10816"/>
                  <a:pt x="10800" y="10831"/>
                </a:cubicBezTo>
                <a:lnTo>
                  <a:pt x="10800" y="21569"/>
                </a:lnTo>
                <a:cubicBezTo>
                  <a:pt x="10800" y="2158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rcRect l="0" t="12437" r="0" b="0"/>
          <a:stretch/>
        </p:blipFill>
        <p:spPr>
          <a:xfrm>
            <a:off x="2411280" y="1509840"/>
            <a:ext cx="5473800" cy="51591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6227640" y="2836800"/>
            <a:ext cx="1729080" cy="39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32360" y="4653000"/>
            <a:ext cx="1512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724360" y="3573360"/>
            <a:ext cx="720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948360" y="2565360"/>
            <a:ext cx="2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rcRect l="87013" t="29682" r="6586" b="64773"/>
          <a:stretch/>
        </p:blipFill>
        <p:spPr>
          <a:xfrm>
            <a:off x="6877080" y="2503440"/>
            <a:ext cx="350640" cy="32724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1116000" y="1268280"/>
            <a:ext cx="2540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Espacio intermembra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411280" y="4653000"/>
            <a:ext cx="10810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258920" y="443700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Matriz mitocondr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311720" y="1197000"/>
            <a:ext cx="12952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icerol 3-P (citosóli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052640"/>
            <a:ext cx="1800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icerol 3-P deshidrogenas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64E6-DC06-4C2B-B721-7A13A42865E6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23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Complejo II (Succinato deshidrogenas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989440" y="2205000"/>
            <a:ext cx="433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3080" y="2060640"/>
            <a:ext cx="1295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rana mitocond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195640" y="2060640"/>
            <a:ext cx="288720" cy="863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360 h 863640"/>
              <a:gd name="textAreaBottom" fmla="*/ 86328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"/>
                  <a:pt x="10800" y="31"/>
                </a:cubicBezTo>
                <a:lnTo>
                  <a:pt x="10800" y="10769"/>
                </a:lnTo>
                <a:cubicBezTo>
                  <a:pt x="10800" y="10785"/>
                  <a:pt x="5400" y="10800"/>
                  <a:pt x="0" y="10800"/>
                </a:cubicBezTo>
                <a:cubicBezTo>
                  <a:pt x="5400" y="10800"/>
                  <a:pt x="10800" y="10816"/>
                  <a:pt x="10800" y="10831"/>
                </a:cubicBezTo>
                <a:lnTo>
                  <a:pt x="10800" y="21569"/>
                </a:lnTo>
                <a:cubicBezTo>
                  <a:pt x="10800" y="2158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rcRect l="0" t="12437" r="0" b="0"/>
          <a:stretch/>
        </p:blipFill>
        <p:spPr>
          <a:xfrm>
            <a:off x="2411280" y="1509840"/>
            <a:ext cx="5473800" cy="515916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116000" y="1268280"/>
            <a:ext cx="2540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Espacio intermembra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411280" y="4653000"/>
            <a:ext cx="10810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258920" y="443700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Matriz mitocondr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311720" y="1197000"/>
            <a:ext cx="129528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icerol 3-P (citosólic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300720" y="1052640"/>
            <a:ext cx="180036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licerol 3-P deshidrogenas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9FB8-E742-42D1-8294-108FE868D70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3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Complejo II (Succinato deshidrogenasa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989440" y="2205000"/>
            <a:ext cx="43308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73080" y="2060640"/>
            <a:ext cx="1295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brana mitocond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195640" y="2060640"/>
            <a:ext cx="288720" cy="863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360 h 863640"/>
              <a:gd name="textAreaBottom" fmla="*/ 86328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"/>
                  <a:pt x="10800" y="31"/>
                </a:cubicBezTo>
                <a:lnTo>
                  <a:pt x="10800" y="10769"/>
                </a:lnTo>
                <a:cubicBezTo>
                  <a:pt x="10800" y="10785"/>
                  <a:pt x="5400" y="10800"/>
                  <a:pt x="0" y="10800"/>
                </a:cubicBezTo>
                <a:cubicBezTo>
                  <a:pt x="5400" y="10800"/>
                  <a:pt x="10800" y="10816"/>
                  <a:pt x="10800" y="10831"/>
                </a:cubicBezTo>
                <a:lnTo>
                  <a:pt x="10800" y="21569"/>
                </a:lnTo>
                <a:cubicBezTo>
                  <a:pt x="10800" y="2158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rcRect l="0" t="12437" r="0" b="0"/>
          <a:stretch/>
        </p:blipFill>
        <p:spPr>
          <a:xfrm>
            <a:off x="2411280" y="1509840"/>
            <a:ext cx="5473800" cy="51591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6227640" y="2836800"/>
            <a:ext cx="1729080" cy="39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932360" y="4653000"/>
            <a:ext cx="1512720" cy="93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724360" y="3573360"/>
            <a:ext cx="7207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948360" y="2565360"/>
            <a:ext cx="287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rcRect l="87013" t="29682" r="6586" b="64773"/>
          <a:stretch/>
        </p:blipFill>
        <p:spPr>
          <a:xfrm>
            <a:off x="6877080" y="2503440"/>
            <a:ext cx="350640" cy="327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>
            <a:off x="4683240" y="1341360"/>
            <a:ext cx="316836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96000" y="1700280"/>
            <a:ext cx="11523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3"/>
          <a:srcRect l="88170" t="20575" r="6586" b="74635"/>
          <a:stretch/>
        </p:blipFill>
        <p:spPr>
          <a:xfrm>
            <a:off x="5791320" y="1994040"/>
            <a:ext cx="287280" cy="28260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4"/>
          <a:srcRect l="88170" t="20575" r="6586" b="74635"/>
          <a:stretch/>
        </p:blipFill>
        <p:spPr>
          <a:xfrm>
            <a:off x="6080040" y="1994040"/>
            <a:ext cx="287280" cy="2826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5"/>
          <a:srcRect l="88170" t="20575" r="6586" b="74635"/>
          <a:stretch/>
        </p:blipFill>
        <p:spPr>
          <a:xfrm>
            <a:off x="6372360" y="1989000"/>
            <a:ext cx="287280" cy="2826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6"/>
          <a:srcRect l="88170" t="20575" r="6586" b="74635"/>
          <a:stretch/>
        </p:blipFill>
        <p:spPr>
          <a:xfrm>
            <a:off x="6661080" y="1994040"/>
            <a:ext cx="287280" cy="28260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2411280" y="4653000"/>
            <a:ext cx="1081080" cy="50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16000" y="1268280"/>
            <a:ext cx="2540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Espacio intermembra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258920" y="4437000"/>
            <a:ext cx="19447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Matriz mitocondr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23"/>
          <p:cNvSpPr/>
          <p:nvPr/>
        </p:nvSpPr>
        <p:spPr>
          <a:xfrm>
            <a:off x="0" y="54450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800" spc="-1" strike="noStrike">
                <a:solidFill>
                  <a:srgbClr val="cc0066"/>
                </a:solidFill>
                <a:latin typeface="Arial"/>
              </a:rPr>
              <a:t>RESUM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64320" y="2998800"/>
            <a:ext cx="1795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cc0066"/>
                </a:solidFill>
                <a:latin typeface="Arial"/>
              </a:rPr>
              <a:t>Complejo I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6227640" y="3213000"/>
            <a:ext cx="4320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0575-5D83-40A9-8C52-60B5994B76F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 Box 11"/>
          <p:cNvSpPr/>
          <p:nvPr/>
        </p:nvSpPr>
        <p:spPr>
          <a:xfrm>
            <a:off x="539640" y="1052640"/>
            <a:ext cx="8604360" cy="43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aracterísticas de la ubiquinona (ó coenzima Q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s una benzoquinona liposoluble que posee una larga cadena lateral isoprenoid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Tiene por función el transporte de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s-VE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  <a:ea typeface="Arial"/>
              </a:rPr>
              <a:t> entre miembros de la cadena respiratoria y entre otros transportadores presentes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n la membrana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Puede aceptar un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s-VE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y transformarse en el radical semiquinona (QH</a:t>
            </a:r>
            <a:r>
              <a:rPr b="0" lang="ar-SA" sz="1800" spc="-1" strike="noStrike" baseline="30000">
                <a:solidFill>
                  <a:srgbClr val="000099"/>
                </a:solidFill>
                <a:latin typeface="Wingdings 2"/>
                <a:ea typeface="Wingdings 2"/>
              </a:rPr>
              <a:t>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   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o 2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e</a:t>
            </a:r>
            <a:r>
              <a:rPr b="0" i="1" lang="es-ES_tradnl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 formando el ubiquinol (QH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Arial"/>
                <a:ea typeface="Arial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Al igual que las flavoproteínas transportadoras, la ubiquinona puede actuar como puente entre un donador de 2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e</a:t>
            </a:r>
            <a:r>
              <a:rPr b="0" i="1" lang="es-ES_tradnl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 y un aceptor de 1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e</a:t>
            </a:r>
            <a:r>
              <a:rPr b="0" i="1" lang="es-ES_tradnl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E545-35E7-4FFE-B240-DB7A1B5181D8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3"/>
          <p:cNvSpPr/>
          <p:nvPr/>
        </p:nvSpPr>
        <p:spPr>
          <a:xfrm>
            <a:off x="0" y="12682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3200" spc="-1" strike="noStrike">
                <a:solidFill>
                  <a:srgbClr val="000099"/>
                </a:solidFill>
                <a:latin typeface="Arial"/>
              </a:rPr>
              <a:t>Cadena de transporte de electrones (</a:t>
            </a:r>
            <a:r>
              <a:rPr b="1" i="1" lang="es-VE" sz="3200" spc="-1" strike="noStrike">
                <a:solidFill>
                  <a:srgbClr val="000099"/>
                </a:solidFill>
                <a:latin typeface="Arial"/>
              </a:rPr>
              <a:t>e-</a:t>
            </a:r>
            <a:r>
              <a:rPr b="1" lang="es-VE" sz="32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1917720"/>
            <a:ext cx="5616720" cy="3733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364E-E0F9-47F4-A184-8B9CC4256E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2771640" y="1125360"/>
            <a:ext cx="4104000" cy="5351760"/>
          </a:xfrm>
          <a:prstGeom prst="rect">
            <a:avLst/>
          </a:prstGeom>
          <a:ln w="0">
            <a:noFill/>
          </a:ln>
        </p:spPr>
      </p:pic>
      <p:sp>
        <p:nvSpPr>
          <p:cNvPr id="317" name="Rectangle 23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3399"/>
                </a:solidFill>
                <a:latin typeface="Arial"/>
              </a:rPr>
              <a:t>Estructura y función de la ubiquino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48360" y="1773360"/>
            <a:ext cx="2736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66"/>
                </a:solidFill>
                <a:latin typeface="Arial"/>
              </a:rPr>
              <a:t>Ubiquinona (Q) Completamente oxida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148360" y="3645000"/>
            <a:ext cx="2736720" cy="63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66"/>
                </a:solidFill>
                <a:latin typeface="Arial"/>
              </a:rPr>
              <a:t>Radical semiquinona (QH</a:t>
            </a:r>
            <a:r>
              <a:rPr b="1" lang="es-ES_tradnl" sz="1400" spc="-1" strike="noStrike" baseline="30000">
                <a:solidFill>
                  <a:srgbClr val="cc0066"/>
                </a:solidFill>
                <a:latin typeface="Wingdings 2"/>
                <a:ea typeface="Wingdings 2"/>
              </a:rPr>
              <a:t></a:t>
            </a:r>
            <a:r>
              <a:rPr b="1" lang="es-ES_tradnl" sz="1400" spc="-1" strike="noStrike">
                <a:solidFill>
                  <a:srgbClr val="cc0066"/>
                </a:solidFill>
                <a:latin typeface="Arial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76720" y="5516640"/>
            <a:ext cx="273708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0066"/>
                </a:solidFill>
                <a:latin typeface="Arial"/>
              </a:rPr>
              <a:t>Ubiquinol (QH</a:t>
            </a:r>
            <a:r>
              <a:rPr b="1" lang="es-ES_tradnl" sz="1400" spc="-1" strike="noStrike" baseline="-25000">
                <a:solidFill>
                  <a:srgbClr val="cc0066"/>
                </a:solidFill>
                <a:latin typeface="Arial"/>
              </a:rPr>
              <a:t>2</a:t>
            </a:r>
            <a:r>
              <a:rPr b="1" lang="es-ES_tradnl" sz="1400" spc="-1" strike="noStrike">
                <a:solidFill>
                  <a:srgbClr val="cc0066"/>
                </a:solidFill>
                <a:latin typeface="Arial"/>
              </a:rPr>
              <a:t>) Completamente reducid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7E59-8B79-4E76-AC22-E2981541C00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11"/>
          <p:cNvSpPr/>
          <p:nvPr/>
        </p:nvSpPr>
        <p:spPr>
          <a:xfrm>
            <a:off x="539640" y="1052640"/>
            <a:ext cx="8604360" cy="41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aracterísticas del complejo III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3006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s también llamado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Complejo citocromo 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bc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1 o Ubiquinona-citocromo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 c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oxidorreductas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sta formado por 2 dimeros c/u formado por 11 subunidades idéntic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Transfiere</a:t>
            </a:r>
            <a:r>
              <a:rPr b="0" i="1" lang="es-ES_tradnl" sz="1800" spc="-1" strike="noStrike">
                <a:solidFill>
                  <a:srgbClr val="000099"/>
                </a:solidFill>
                <a:latin typeface="Arial"/>
              </a:rPr>
              <a:t> e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desde el QH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al citocromo c en simultaneo al transporte de protones desde la matriz al espacio intermembran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El citocromo c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Arial"/>
              </a:rPr>
              <a:t>1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y la proteína ferro-sulfarada se proyectan hacia la superficie de la membrana interna interactuando con el citocromo c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Presenta dos sitios de unión a la ubiquinona (Q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Arial"/>
              </a:rPr>
              <a:t>P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y Q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Arial"/>
              </a:rPr>
              <a:t>N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33802-AA88-41D4-9F42-3B9407051AA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3"/>
          <p:cNvSpPr/>
          <p:nvPr/>
        </p:nvSpPr>
        <p:spPr>
          <a:xfrm>
            <a:off x="0" y="404640"/>
            <a:ext cx="91440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Complejo III (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Complejo citocromo </a:t>
            </a:r>
            <a:r>
              <a:rPr b="1" i="1" lang="es-ES_tradnl" sz="2800" spc="-1" strike="noStrike">
                <a:solidFill>
                  <a:srgbClr val="333399"/>
                </a:solidFill>
                <a:latin typeface="Arial"/>
              </a:rPr>
              <a:t>bc</a:t>
            </a:r>
            <a:r>
              <a:rPr b="1" lang="es-ES_tradnl" sz="2800" spc="-1" strike="noStrike" baseline="-25000">
                <a:solidFill>
                  <a:srgbClr val="333399"/>
                </a:solidFill>
                <a:latin typeface="Arial"/>
              </a:rPr>
              <a:t>1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 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Ubiquinona-citocromo</a:t>
            </a:r>
            <a:r>
              <a:rPr b="1" i="1" lang="es-ES_tradnl" sz="2800" spc="-1" strike="noStrike">
                <a:solidFill>
                  <a:srgbClr val="333399"/>
                </a:solidFill>
                <a:latin typeface="Arial"/>
              </a:rPr>
              <a:t> c </a:t>
            </a:r>
            <a:r>
              <a:rPr b="1" lang="es-ES_tradnl" sz="2800" spc="-1" strike="noStrike">
                <a:solidFill>
                  <a:srgbClr val="333399"/>
                </a:solidFill>
                <a:latin typeface="Arial"/>
              </a:rPr>
              <a:t>oxidorreductasa</a:t>
            </a: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/>
          <a:srcRect l="0" t="0" r="0" b="8788"/>
          <a:stretch/>
        </p:blipFill>
        <p:spPr>
          <a:xfrm>
            <a:off x="2103480" y="2038320"/>
            <a:ext cx="5226120" cy="383868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826920" y="5877000"/>
            <a:ext cx="2540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Matriz mitocondr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71640" y="1557360"/>
            <a:ext cx="2539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Espacio intermembra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95440" y="3481560"/>
            <a:ext cx="1295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embrana mitocond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ter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873080" y="3260880"/>
            <a:ext cx="289080" cy="1296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360 h 1296720"/>
              <a:gd name="textAreaBottom" fmla="*/ 12963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"/>
                  <a:pt x="10800" y="31"/>
                </a:cubicBezTo>
                <a:lnTo>
                  <a:pt x="10800" y="10769"/>
                </a:lnTo>
                <a:cubicBezTo>
                  <a:pt x="10800" y="10785"/>
                  <a:pt x="5400" y="10800"/>
                  <a:pt x="0" y="10800"/>
                </a:cubicBezTo>
                <a:cubicBezTo>
                  <a:pt x="5400" y="10800"/>
                  <a:pt x="10800" y="10816"/>
                  <a:pt x="10800" y="10831"/>
                </a:cubicBezTo>
                <a:lnTo>
                  <a:pt x="10800" y="21569"/>
                </a:lnTo>
                <a:cubicBezTo>
                  <a:pt x="10800" y="2158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813200" y="2413080"/>
            <a:ext cx="349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eína ferro-sulfurada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300560" y="1913040"/>
            <a:ext cx="4284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itocromo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 (no forma parte de este complej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195640" y="2398680"/>
            <a:ext cx="14396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itocromo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92720" y="4630680"/>
            <a:ext cx="1224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56360" y="2757600"/>
            <a:ext cx="122400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661080" y="4917960"/>
            <a:ext cx="1656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onomero 2 de 11 subunidad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6227280" y="5207040"/>
            <a:ext cx="36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970520"/>
            <a:ext cx="16560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Monomero 1 de 11 subunidade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11280" y="527832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0" y="6093000"/>
            <a:ext cx="9144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800000"/>
                </a:solidFill>
                <a:latin typeface="Arial"/>
              </a:rPr>
              <a:t>Unidad dimerica funcion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2E18-1262-47A6-A105-6704CC11D8C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11"/>
          <p:cNvSpPr/>
          <p:nvPr/>
        </p:nvSpPr>
        <p:spPr>
          <a:xfrm>
            <a:off x="539640" y="1052640"/>
            <a:ext cx="8604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aracterísticas del citocromo 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s una proteína monomérica  independiente y no forman parte de ningún complejo de la cadena respiratori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Son solubles y están presentes en la cara externa de la membrana mitocondrial interna, unidas por interacciones iónic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Su función es transferir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s-VE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desplazándose desde el complejo III hacia el complejo IV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Solo tiene la capacidad de transportar un electrón cada vez a través de su único grupo hem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2766-B5D3-4659-BF38-D9E51C3A3F0B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3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Citocromo c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" descr=""/>
          <p:cNvPicPr/>
          <p:nvPr/>
        </p:nvPicPr>
        <p:blipFill>
          <a:blip r:embed="rId1"/>
          <a:stretch/>
        </p:blipFill>
        <p:spPr>
          <a:xfrm>
            <a:off x="2103480" y="2038320"/>
            <a:ext cx="5226120" cy="42084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/>
          <p:nvPr/>
        </p:nvSpPr>
        <p:spPr>
          <a:xfrm>
            <a:off x="1547640" y="5925960"/>
            <a:ext cx="2540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Matriz mitocondr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47640" y="1557360"/>
            <a:ext cx="25401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Espacio intermembra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95440" y="3481560"/>
            <a:ext cx="1295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embrana mitocond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ter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1873080" y="3260880"/>
            <a:ext cx="289080" cy="1296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360 h 1296720"/>
              <a:gd name="textAreaBottom" fmla="*/ 129636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"/>
                  <a:pt x="10800" y="31"/>
                </a:cubicBezTo>
                <a:lnTo>
                  <a:pt x="10800" y="10769"/>
                </a:lnTo>
                <a:cubicBezTo>
                  <a:pt x="10800" y="10785"/>
                  <a:pt x="5400" y="10800"/>
                  <a:pt x="0" y="10800"/>
                </a:cubicBezTo>
                <a:cubicBezTo>
                  <a:pt x="5400" y="10800"/>
                  <a:pt x="10800" y="10816"/>
                  <a:pt x="10800" y="10831"/>
                </a:cubicBezTo>
                <a:lnTo>
                  <a:pt x="10800" y="21569"/>
                </a:lnTo>
                <a:cubicBezTo>
                  <a:pt x="10800" y="2158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813200" y="2413080"/>
            <a:ext cx="34927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Proteína ferro-sulfurada de Riesk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00560" y="1913040"/>
            <a:ext cx="1711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tocromo </a:t>
            </a:r>
            <a:r>
              <a:rPr b="1" i="1" lang="es-ES_tradnl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195640" y="2398680"/>
            <a:ext cx="1439640" cy="33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itocromo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es-ES_tradnl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92720" y="4630680"/>
            <a:ext cx="1224000" cy="35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156360" y="2757600"/>
            <a:ext cx="1224000" cy="35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rot="3214200">
            <a:off x="3708720" y="2275560"/>
            <a:ext cx="1008000" cy="1009800"/>
          </a:xfrm>
          <a:prstGeom prst="blockArc">
            <a:avLst>
              <a:gd name="adj1" fmla="val 7743810"/>
              <a:gd name="adj2" fmla="val 3056190"/>
              <a:gd name="adj3" fmla="val 847"/>
            </a:avLst>
          </a:prstGeom>
          <a:solidFill>
            <a:srgbClr val="bbe0e3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195640" y="2060640"/>
            <a:ext cx="1439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Grupo hem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564000" y="2276640"/>
            <a:ext cx="576360" cy="43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68FD-0BA6-4685-80DB-26D69D082BC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 Box 11"/>
          <p:cNvSpPr/>
          <p:nvPr/>
        </p:nvSpPr>
        <p:spPr>
          <a:xfrm>
            <a:off x="539640" y="1052640"/>
            <a:ext cx="8604360" cy="45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aracterísticas del complejo I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s también llamado citocromo oxidas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Transporta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s-VE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desde el citocromo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c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al O</a:t>
            </a:r>
            <a:r>
              <a:rPr b="0" lang="es-VE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reduciéndolo para formar H</a:t>
            </a:r>
            <a:r>
              <a:rPr b="0" lang="es-VE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O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También produce el bombeo de protones desde la matriz al espacio intermembrana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El complejo está formado por 3 subunidades esenciales (I, II y III)  para su función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Tales subunidades son las que poseen los grupos hemos y los iones cobre (Cu) que interviene en la transferencia de los </a:t>
            </a:r>
            <a:r>
              <a:rPr b="0" i="1" lang="es-VE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s-VE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al O</a:t>
            </a:r>
            <a:r>
              <a:rPr b="0" lang="es-VE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2BDA-9A83-4CA9-98F6-6285F0F3D693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" descr=""/>
          <p:cNvPicPr/>
          <p:nvPr/>
        </p:nvPicPr>
        <p:blipFill>
          <a:blip r:embed="rId1"/>
          <a:stretch/>
        </p:blipFill>
        <p:spPr>
          <a:xfrm>
            <a:off x="2671920" y="1173240"/>
            <a:ext cx="4852800" cy="5351400"/>
          </a:xfrm>
          <a:prstGeom prst="rect">
            <a:avLst/>
          </a:prstGeom>
          <a:ln w="0">
            <a:noFill/>
          </a:ln>
        </p:spPr>
      </p:pic>
      <p:sp>
        <p:nvSpPr>
          <p:cNvPr id="361" name="Rectangle 23"/>
          <p:cNvSpPr/>
          <p:nvPr/>
        </p:nvSpPr>
        <p:spPr>
          <a:xfrm>
            <a:off x="0" y="4046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Complejo IV (Citocromo oxidasa)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663560" y="5589720"/>
            <a:ext cx="2016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Matriz mitocondr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78120" y="1039680"/>
            <a:ext cx="2447640" cy="707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99"/>
                </a:solidFill>
                <a:latin typeface="Arial"/>
              </a:rPr>
              <a:t>Espacio intermembran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71720" y="3481560"/>
            <a:ext cx="129528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Membrana mitocondr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inter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436840" y="2765520"/>
            <a:ext cx="334800" cy="1979640"/>
          </a:xfrm>
          <a:custGeom>
            <a:avLst/>
            <a:gdLst>
              <a:gd name="textAreaLeft" fmla="*/ 213840 w 334800"/>
              <a:gd name="textAreaRight" fmla="*/ 335160 w 334800"/>
              <a:gd name="textAreaTop" fmla="*/ 720 h 1979640"/>
              <a:gd name="textAreaBottom" fmla="*/ 1978920 h 19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"/>
                  <a:pt x="10800" y="31"/>
                </a:cubicBezTo>
                <a:lnTo>
                  <a:pt x="10800" y="10769"/>
                </a:lnTo>
                <a:cubicBezTo>
                  <a:pt x="10800" y="10785"/>
                  <a:pt x="5400" y="10800"/>
                  <a:pt x="0" y="10800"/>
                </a:cubicBezTo>
                <a:cubicBezTo>
                  <a:pt x="5400" y="10800"/>
                  <a:pt x="10800" y="10816"/>
                  <a:pt x="10800" y="10831"/>
                </a:cubicBezTo>
                <a:lnTo>
                  <a:pt x="10800" y="21569"/>
                </a:lnTo>
                <a:cubicBezTo>
                  <a:pt x="10800" y="21585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671920" y="1413000"/>
            <a:ext cx="10080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488280" y="5877000"/>
            <a:ext cx="100800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1920" y="6237360"/>
            <a:ext cx="1224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ombead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392640" y="6200640"/>
            <a:ext cx="12236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ustrat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175280" y="1308240"/>
            <a:ext cx="28728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20120" y="3429000"/>
            <a:ext cx="122400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Subunidades núcleo del complej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95800" y="1676520"/>
            <a:ext cx="107964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entro bicuclea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659640" y="1052640"/>
            <a:ext cx="194472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eínas periférica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 complej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6300720" y="1341360"/>
            <a:ext cx="503280" cy="57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157800" y="2133720"/>
            <a:ext cx="358920" cy="2950920"/>
          </a:xfrm>
          <a:custGeom>
            <a:avLst/>
            <a:gdLst>
              <a:gd name="textAreaLeft" fmla="*/ 0 w 358920"/>
              <a:gd name="textAreaRight" fmla="*/ 129600 w 358920"/>
              <a:gd name="textAreaTop" fmla="*/ 0 h 2950920"/>
              <a:gd name="textAreaBottom" fmla="*/ 2951280 h 295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372360" y="360684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4767120" y="1125360"/>
            <a:ext cx="56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cc0066"/>
                </a:solidFill>
                <a:latin typeface="Arial"/>
              </a:rPr>
              <a:t>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716360" y="5897520"/>
            <a:ext cx="56052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66"/>
                </a:solidFill>
                <a:latin typeface="Arial"/>
              </a:rPr>
              <a:t>H</a:t>
            </a:r>
            <a:r>
              <a:rPr b="1" lang="en-US" sz="1800" spc="-1" strike="noStrike" baseline="30000">
                <a:solidFill>
                  <a:srgbClr val="cc0066"/>
                </a:solidFill>
                <a:latin typeface="Arial"/>
              </a:rPr>
              <a:t>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58000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50872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E31-19CA-49EA-8192-352950B15BAC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" descr=""/>
          <p:cNvPicPr/>
          <p:nvPr/>
        </p:nvPicPr>
        <p:blipFill>
          <a:blip r:embed="rId1"/>
          <a:srcRect l="3611" t="12922" r="1915" b="21940"/>
          <a:stretch/>
        </p:blipFill>
        <p:spPr>
          <a:xfrm>
            <a:off x="289080" y="2516040"/>
            <a:ext cx="8675640" cy="252108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3274920" y="208440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pacio intermembra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3635280" y="554040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triz mitocondr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3080" y="503712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ADH + H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NA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059280" y="5037120"/>
            <a:ext cx="194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uccinato       Fumara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632720" y="4821120"/>
            <a:ext cx="151128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+  2H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0920" y="2373480"/>
            <a:ext cx="1008000" cy="431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7273800" y="3413160"/>
            <a:ext cx="289080" cy="144360"/>
            <a:chOff x="7273800" y="3413160"/>
            <a:chExt cx="289080" cy="144360"/>
          </a:xfrm>
        </p:grpSpPr>
        <p:sp>
          <p:nvSpPr>
            <p:cNvPr id="389" name=""/>
            <p:cNvSpPr/>
            <p:nvPr/>
          </p:nvSpPr>
          <p:spPr>
            <a:xfrm>
              <a:off x="7273800" y="3413160"/>
              <a:ext cx="289080" cy="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7273800" y="3557520"/>
              <a:ext cx="257040" cy="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"/>
          <p:cNvSpPr/>
          <p:nvPr/>
        </p:nvSpPr>
        <p:spPr>
          <a:xfrm>
            <a:off x="2484360" y="287640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embrana mitocondrial inter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32000" y="309240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537080" y="357660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efe1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480440" y="2778120"/>
            <a:ext cx="538200" cy="539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19280" y="4065480"/>
            <a:ext cx="288720" cy="289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84720" y="3614760"/>
            <a:ext cx="289080" cy="289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8209080" y="3579840"/>
            <a:ext cx="288720" cy="288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417840" y="4299120"/>
            <a:ext cx="289080" cy="288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23"/>
          <p:cNvSpPr/>
          <p:nvPr/>
        </p:nvSpPr>
        <p:spPr>
          <a:xfrm>
            <a:off x="0" y="40464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Resumen del fluj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de e</a:t>
            </a:r>
            <a:r>
              <a:rPr b="1" lang="es-VE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1" lang="es-VE" sz="2800" spc="-1" strike="noStrike" baseline="30000">
                <a:solidFill>
                  <a:srgbClr val="333399"/>
                </a:solidFill>
                <a:latin typeface="Arial"/>
              </a:rPr>
              <a:t> </a:t>
            </a: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y protones a través de la cade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79DA-8C0F-4DAE-9540-789A396ECC8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Text Box 11"/>
          <p:cNvSpPr/>
          <p:nvPr/>
        </p:nvSpPr>
        <p:spPr>
          <a:xfrm>
            <a:off x="539640" y="1052640"/>
            <a:ext cx="8604360" cy="491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Reacciones proveedoras de NADH + H</a:t>
            </a:r>
            <a:r>
              <a:rPr b="1" lang="es-ES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 y FADH</a:t>
            </a:r>
            <a:r>
              <a:rPr b="1" lang="es-ES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 a la cadena respirato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99"/>
                </a:solidFill>
                <a:latin typeface="Arial"/>
              </a:rPr>
              <a:t>Gliceraldehído-3P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→ 1,3 Bifosfoglicerato (Gliceraldehido-3P deshidrogenas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NADH + H</a:t>
            </a:r>
            <a:r>
              <a:rPr b="0" lang="en-US" sz="16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+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Lanzadera malato-aspartato </a:t>
            </a:r>
            <a:r>
              <a:rPr b="0" lang="en-US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Complejo 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buClr>
                <a:srgbClr val="0000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FADH</a:t>
            </a:r>
            <a:r>
              <a:rPr b="0" lang="en-US" sz="1600" spc="-1" strike="noStrike" baseline="-25000">
                <a:solidFill>
                  <a:srgbClr val="000099"/>
                </a:solidFill>
                <a:latin typeface="Arial"/>
                <a:ea typeface="Arial"/>
              </a:rPr>
              <a:t>2 </a:t>
            </a:r>
            <a:r>
              <a:rPr b="0" lang="en-US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Lanzadera glicerol-3P </a:t>
            </a:r>
            <a:r>
              <a:rPr b="0" lang="en-US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Q </a:t>
            </a:r>
            <a:r>
              <a:rPr b="0" lang="en-US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  <a:ea typeface="Arial"/>
              </a:rPr>
              <a:t> Complejo II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99"/>
                </a:solidFill>
                <a:latin typeface="Arial"/>
              </a:rPr>
              <a:t>Piruvato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→ Acetil-CoA (Complejo piruvato deshidrogenasa) </a:t>
            </a:r>
            <a:r>
              <a:rPr b="0" lang="en-US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NADH + H</a:t>
            </a:r>
            <a:r>
              <a:rPr b="0" lang="en-US" sz="16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99"/>
                </a:solidFill>
                <a:latin typeface="Arial"/>
              </a:rPr>
              <a:t>Isocitrato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→ 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-Cetoglutarato (Isocitrato deshidrogenasa) </a:t>
            </a:r>
            <a:r>
              <a:rPr b="0" lang="en-US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NADH + H</a:t>
            </a:r>
            <a:r>
              <a:rPr b="0" lang="en-US" sz="16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s-VE" sz="1600" spc="-1" strike="noStrike">
                <a:solidFill>
                  <a:srgbClr val="000099"/>
                </a:solidFill>
                <a:latin typeface="Arial"/>
              </a:rPr>
              <a:t>-Cetoglutarato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→ Succinil-CoA (</a:t>
            </a:r>
            <a:r>
              <a:rPr b="0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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-cetoglutarato deshidrogenasa) </a:t>
            </a:r>
            <a:r>
              <a:rPr b="0" lang="en-US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NADH + H</a:t>
            </a:r>
            <a:r>
              <a:rPr b="0" lang="en-US" sz="16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99"/>
                </a:solidFill>
                <a:latin typeface="Arial"/>
              </a:rPr>
              <a:t>Succinato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→ Fumarato (Succinato deshidrogenasa) </a:t>
            </a:r>
            <a:r>
              <a:rPr b="0" lang="en-US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FADH</a:t>
            </a:r>
            <a:r>
              <a:rPr b="0" lang="en-US" sz="16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37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600" spc="-1" strike="noStrike">
                <a:solidFill>
                  <a:srgbClr val="000099"/>
                </a:solidFill>
                <a:latin typeface="Arial"/>
              </a:rPr>
              <a:t>Malato  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→ Oxalacetato (Malato deshidrogenasa) </a:t>
            </a:r>
            <a:r>
              <a:rPr b="0" lang="en-US" sz="16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NADH + H</a:t>
            </a:r>
            <a:r>
              <a:rPr b="0" lang="en-US" sz="16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F241-609B-4596-B829-F3F7E5AE1982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Text Box 11"/>
          <p:cNvSpPr/>
          <p:nvPr/>
        </p:nvSpPr>
        <p:spPr>
          <a:xfrm>
            <a:off x="539640" y="1052640"/>
            <a:ext cx="860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Inhibidores del transporte de electr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Antimicina A  </a:t>
            </a:r>
            <a:r>
              <a:rPr b="0" lang="es-VE" sz="18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Antibiótico (se usa como insecticida)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Piericidina     </a:t>
            </a:r>
            <a:r>
              <a:rPr b="0" lang="es-VE" sz="18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Antibiótico (se usa como insecticida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Mixotiazol      </a:t>
            </a:r>
            <a:r>
              <a:rPr b="0" lang="es-VE" sz="18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Antibiótico ( se usa como antifungicida agrícol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Rotenona      </a:t>
            </a:r>
            <a:r>
              <a:rPr b="0" lang="es-VE" sz="18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Insecticida de origen vegetal (raíces de leguminosas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Amital            </a:t>
            </a:r>
            <a:r>
              <a:rPr b="0" lang="es-VE" sz="18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Droga que actúa como sedante del sistema nervios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                             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centra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CO                </a:t>
            </a:r>
            <a:r>
              <a:rPr b="0" lang="es-VE" sz="18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Monóxido de carbono: es un gas incoloro, inodoro,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                                 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y no irritante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Cianuro         </a:t>
            </a:r>
            <a:r>
              <a:rPr b="0" lang="es-VE" sz="1800" spc="-1" strike="noStrike">
                <a:solidFill>
                  <a:srgbClr val="000099"/>
                </a:solidFill>
                <a:latin typeface="Wingdings 3"/>
                <a:ea typeface="Wingdings 3"/>
              </a:rPr>
              <a:t>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</a:rPr>
              <a:t>    Anión monovalente (CN</a:t>
            </a:r>
            <a:r>
              <a:rPr b="0" lang="es-VE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VE" sz="1800" spc="-1" strike="noStrike">
                <a:solidFill>
                  <a:srgbClr val="000099"/>
                </a:solidFill>
                <a:latin typeface="Arial"/>
                <a:ea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4668-5F70-4930-A5B8-B7DC85D5F8D7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11"/>
          <p:cNvSpPr/>
          <p:nvPr/>
        </p:nvSpPr>
        <p:spPr>
          <a:xfrm>
            <a:off x="539640" y="932040"/>
            <a:ext cx="86043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Etapas de la respiración celul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Etapa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Producción de acetil-CoA a parti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de moléculas combustibl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000099"/>
                </a:solidFill>
                <a:uFillTx/>
                <a:latin typeface="Arial"/>
              </a:rPr>
              <a:t>Etapa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Oxidación del acetil-CoA en el cicl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de Kreb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 u="sng">
                <a:solidFill>
                  <a:srgbClr val="000099"/>
                </a:solidFill>
                <a:uFillTx/>
                <a:latin typeface="Arial"/>
              </a:rPr>
              <a:t>Etapa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Transferencia electrónica 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fosforilación oxidativa (Síntesi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de ATP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543960" y="476280"/>
            <a:ext cx="233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1"/>
          <a:srcRect l="6879" t="3647" r="10244" b="42644"/>
          <a:stretch/>
        </p:blipFill>
        <p:spPr>
          <a:xfrm>
            <a:off x="5783400" y="1695600"/>
            <a:ext cx="2820960" cy="41209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cc0066">
                <a:alpha val="50000"/>
              </a:srgbClr>
            </a:outerShdw>
          </a:effectLst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F846-61B3-48CE-A23B-CB2D1AB714E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6" name=""/>
          <p:cNvGrpSpPr/>
          <p:nvPr/>
        </p:nvGrpSpPr>
        <p:grpSpPr>
          <a:xfrm>
            <a:off x="36360" y="2330640"/>
            <a:ext cx="9144000" cy="1503000"/>
            <a:chOff x="36360" y="2330640"/>
            <a:chExt cx="9144000" cy="1503000"/>
          </a:xfrm>
        </p:grpSpPr>
        <p:sp>
          <p:nvSpPr>
            <p:cNvPr id="407" name=""/>
            <p:cNvSpPr/>
            <p:nvPr/>
          </p:nvSpPr>
          <p:spPr>
            <a:xfrm>
              <a:off x="36360" y="2330640"/>
              <a:ext cx="9144000" cy="15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mplejo I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NADH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Complejo I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Complejo III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itocromo c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Complejo IV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H</a:t>
              </a:r>
              <a:r>
                <a:rPr b="1" lang="es-ES_tradnl" sz="1800" spc="-1" strike="noStrike" baseline="-25000">
                  <a:solidFill>
                    <a:srgbClr val="cc6600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O</a:t>
              </a:r>
              <a:r>
                <a:rPr b="0" lang="es-ES_tradnl" sz="1800" spc="-1" strike="noStrike">
                  <a:solidFill>
                    <a:srgbClr val="cc66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V="1">
              <a:off x="245088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V="1">
              <a:off x="6414840" y="3354480"/>
              <a:ext cx="31140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V="1">
              <a:off x="470196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 flipV="1">
              <a:off x="301140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V="1">
              <a:off x="82692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8103960" y="3354480"/>
              <a:ext cx="31140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931840" y="2830680"/>
              <a:ext cx="0" cy="360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Rectangle 23"/>
          <p:cNvSpPr/>
          <p:nvPr/>
        </p:nvSpPr>
        <p:spPr>
          <a:xfrm>
            <a:off x="0" y="538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Inhibidores del transporte de </a:t>
            </a:r>
            <a:r>
              <a:rPr b="1" i="1" lang="es-VE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i="1" lang="es-VE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1" lang="es-VE" sz="2800" spc="-1" strike="noStrike">
                <a:solidFill>
                  <a:srgbClr val="333399"/>
                </a:solidFill>
                <a:latin typeface="Arial"/>
                <a:ea typeface="Arial"/>
              </a:rPr>
              <a:t> en</a:t>
            </a: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 la cade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C6AA-43F9-4AA7-A339-0A9A4E74B9F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6" name=""/>
          <p:cNvGrpSpPr/>
          <p:nvPr/>
        </p:nvGrpSpPr>
        <p:grpSpPr>
          <a:xfrm>
            <a:off x="36360" y="2330640"/>
            <a:ext cx="9144000" cy="1503000"/>
            <a:chOff x="36360" y="2330640"/>
            <a:chExt cx="9144000" cy="1503000"/>
          </a:xfrm>
        </p:grpSpPr>
        <p:sp>
          <p:nvSpPr>
            <p:cNvPr id="417" name=""/>
            <p:cNvSpPr/>
            <p:nvPr/>
          </p:nvSpPr>
          <p:spPr>
            <a:xfrm>
              <a:off x="36360" y="2330640"/>
              <a:ext cx="9144000" cy="15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mplejo I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NADH</a:t>
              </a:r>
              <a:r>
                <a:rPr b="0" lang="es-ES_tradnl" sz="1800" spc="-1" strike="noStrike">
                  <a:solidFill>
                    <a:srgbClr val="80808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Complejo I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Complejo III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itocromo c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Complejo IV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H</a:t>
              </a:r>
              <a:r>
                <a:rPr b="1" lang="es-ES_tradnl" sz="1800" spc="-1" strike="noStrike" baseline="-25000">
                  <a:solidFill>
                    <a:srgbClr val="cc6600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O</a:t>
              </a:r>
              <a:r>
                <a:rPr b="0" lang="es-ES_tradnl" sz="1800" spc="-1" strike="noStrike">
                  <a:solidFill>
                    <a:srgbClr val="cc66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245088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V="1">
              <a:off x="6414840" y="3354480"/>
              <a:ext cx="31140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V="1">
              <a:off x="470196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V="1">
              <a:off x="301140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V="1">
              <a:off x="82692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flipV="1">
              <a:off x="8103960" y="3354480"/>
              <a:ext cx="31140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931840" y="2830680"/>
              <a:ext cx="0" cy="360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"/>
          <p:cNvSpPr/>
          <p:nvPr/>
        </p:nvSpPr>
        <p:spPr>
          <a:xfrm>
            <a:off x="1260360" y="4073400"/>
            <a:ext cx="1368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66"/>
                </a:solidFill>
                <a:latin typeface="Arial"/>
              </a:rPr>
              <a:t>Amit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66"/>
                </a:solidFill>
                <a:latin typeface="Arial"/>
              </a:rPr>
              <a:t>Roteno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66"/>
                </a:solidFill>
                <a:latin typeface="Arial"/>
              </a:rPr>
              <a:t>Piericidina 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1692360" y="3656160"/>
            <a:ext cx="0" cy="420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21440" y="5468760"/>
            <a:ext cx="136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Piericidina 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500720" y="54687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Roteno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438280" y="54687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Amit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5940360" y="4094280"/>
            <a:ext cx="3168720" cy="990360"/>
          </a:xfrm>
          <a:prstGeom prst="rect">
            <a:avLst/>
          </a:prstGeom>
          <a:ln w="0">
            <a:noFill/>
          </a:ln>
        </p:spPr>
      </p:pic>
      <p:pic>
        <p:nvPicPr>
          <p:cNvPr id="431" name="" descr=""/>
          <p:cNvPicPr/>
          <p:nvPr/>
        </p:nvPicPr>
        <p:blipFill>
          <a:blip r:embed="rId2"/>
          <a:stretch/>
        </p:blipFill>
        <p:spPr>
          <a:xfrm>
            <a:off x="3852720" y="4076640"/>
            <a:ext cx="2192400" cy="1389240"/>
          </a:xfrm>
          <a:prstGeom prst="rect">
            <a:avLst/>
          </a:prstGeom>
          <a:ln w="0">
            <a:noFill/>
          </a:ln>
        </p:spPr>
      </p:pic>
      <p:pic>
        <p:nvPicPr>
          <p:cNvPr id="432" name="" descr=""/>
          <p:cNvPicPr/>
          <p:nvPr/>
        </p:nvPicPr>
        <p:blipFill>
          <a:blip r:embed="rId3"/>
          <a:srcRect l="0" t="53650" r="65794" b="11075"/>
          <a:stretch/>
        </p:blipFill>
        <p:spPr>
          <a:xfrm>
            <a:off x="2556000" y="4149720"/>
            <a:ext cx="1295280" cy="1012680"/>
          </a:xfrm>
          <a:prstGeom prst="rect">
            <a:avLst/>
          </a:prstGeom>
          <a:ln w="0">
            <a:noFill/>
          </a:ln>
        </p:spPr>
      </p:pic>
      <p:grpSp>
        <p:nvGrpSpPr>
          <p:cNvPr id="433" name=""/>
          <p:cNvGrpSpPr/>
          <p:nvPr/>
        </p:nvGrpSpPr>
        <p:grpSpPr>
          <a:xfrm>
            <a:off x="1607760" y="3228840"/>
            <a:ext cx="289440" cy="289080"/>
            <a:chOff x="1607760" y="3228840"/>
            <a:chExt cx="289440" cy="289080"/>
          </a:xfrm>
        </p:grpSpPr>
        <p:sp>
          <p:nvSpPr>
            <p:cNvPr id="434" name=""/>
            <p:cNvSpPr/>
            <p:nvPr/>
          </p:nvSpPr>
          <p:spPr>
            <a:xfrm>
              <a:off x="1608120" y="3228840"/>
              <a:ext cx="289080" cy="2890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1607760" y="3228840"/>
              <a:ext cx="289080" cy="2890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Rectangle 23"/>
          <p:cNvSpPr/>
          <p:nvPr/>
        </p:nvSpPr>
        <p:spPr>
          <a:xfrm>
            <a:off x="0" y="538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Inhibidores del transporte de </a:t>
            </a:r>
            <a:r>
              <a:rPr b="1" i="1" lang="es-VE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i="1" lang="es-VE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1" lang="es-VE" sz="2800" spc="-1" strike="noStrike">
                <a:solidFill>
                  <a:srgbClr val="333399"/>
                </a:solidFill>
                <a:latin typeface="Arial"/>
                <a:ea typeface="Arial"/>
              </a:rPr>
              <a:t> en</a:t>
            </a: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 la cade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9E16-B274-4A38-9FFE-8B261154CC50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"/>
          <p:cNvGrpSpPr/>
          <p:nvPr/>
        </p:nvGrpSpPr>
        <p:grpSpPr>
          <a:xfrm>
            <a:off x="36360" y="2330640"/>
            <a:ext cx="9144000" cy="1503000"/>
            <a:chOff x="36360" y="2330640"/>
            <a:chExt cx="9144000" cy="1503000"/>
          </a:xfrm>
        </p:grpSpPr>
        <p:sp>
          <p:nvSpPr>
            <p:cNvPr id="438" name=""/>
            <p:cNvSpPr/>
            <p:nvPr/>
          </p:nvSpPr>
          <p:spPr>
            <a:xfrm>
              <a:off x="36360" y="2330640"/>
              <a:ext cx="9144000" cy="15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mplejo I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NADH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Complejo I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Complejo III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itocromo c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Complejo IV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H</a:t>
              </a:r>
              <a:r>
                <a:rPr b="1" lang="es-ES_tradnl" sz="1800" spc="-1" strike="noStrike" baseline="-25000">
                  <a:solidFill>
                    <a:srgbClr val="cc6600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O</a:t>
              </a:r>
              <a:r>
                <a:rPr b="0" lang="es-ES_tradnl" sz="1800" spc="-1" strike="noStrike">
                  <a:solidFill>
                    <a:srgbClr val="006666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245088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6414840" y="3354480"/>
              <a:ext cx="31140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V="1">
              <a:off x="470196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01140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V="1">
              <a:off x="82692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V="1">
              <a:off x="8103960" y="3354480"/>
              <a:ext cx="31140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31840" y="2830680"/>
              <a:ext cx="0" cy="360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3745080" y="3247920"/>
            <a:ext cx="288720" cy="289080"/>
            <a:chOff x="3745080" y="3247920"/>
            <a:chExt cx="288720" cy="289080"/>
          </a:xfrm>
        </p:grpSpPr>
        <p:sp>
          <p:nvSpPr>
            <p:cNvPr id="447" name=""/>
            <p:cNvSpPr/>
            <p:nvPr/>
          </p:nvSpPr>
          <p:spPr>
            <a:xfrm>
              <a:off x="3745080" y="3247920"/>
              <a:ext cx="288720" cy="2890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3745080" y="3247920"/>
              <a:ext cx="288720" cy="28908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9" name=""/>
          <p:cNvSpPr/>
          <p:nvPr/>
        </p:nvSpPr>
        <p:spPr>
          <a:xfrm>
            <a:off x="3419640" y="3957480"/>
            <a:ext cx="1439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66"/>
                </a:solidFill>
                <a:latin typeface="Arial"/>
              </a:rPr>
              <a:t>Antimicina 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66"/>
                </a:solidFill>
                <a:latin typeface="Arial"/>
              </a:rPr>
              <a:t>Mixotiaz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3908520" y="3609720"/>
            <a:ext cx="15840" cy="347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539640" y="4869000"/>
            <a:ext cx="4286160" cy="1095120"/>
            <a:chOff x="539640" y="4869000"/>
            <a:chExt cx="4286160" cy="109512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rcRect l="0" t="68941" r="0" b="12138"/>
            <a:stretch/>
          </p:blipFill>
          <p:spPr>
            <a:xfrm>
              <a:off x="539640" y="4869000"/>
              <a:ext cx="428616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/>
            <p:nvPr/>
          </p:nvSpPr>
          <p:spPr>
            <a:xfrm>
              <a:off x="2123640" y="5613480"/>
              <a:ext cx="11512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3399"/>
                  </a:solidFill>
                  <a:latin typeface="Arial"/>
                </a:rPr>
                <a:t>Mixotiazo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96600" y="5032440"/>
              <a:ext cx="719280" cy="592200"/>
            </a:xfrm>
            <a:prstGeom prst="rect">
              <a:avLst/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042560" y="5676840"/>
              <a:ext cx="289080" cy="287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1369800" y="5346720"/>
              <a:ext cx="142920" cy="712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57" name="" descr=""/>
          <p:cNvPicPr/>
          <p:nvPr/>
        </p:nvPicPr>
        <p:blipFill>
          <a:blip r:embed="rId2"/>
          <a:srcRect l="6411" t="2831" r="28346" b="60490"/>
          <a:stretch/>
        </p:blipFill>
        <p:spPr>
          <a:xfrm>
            <a:off x="5869080" y="4576680"/>
            <a:ext cx="2879640" cy="1228680"/>
          </a:xfrm>
          <a:prstGeom prst="rect">
            <a:avLst/>
          </a:prstGeom>
          <a:ln w="0">
            <a:noFill/>
          </a:ln>
        </p:spPr>
      </p:pic>
      <p:sp>
        <p:nvSpPr>
          <p:cNvPr id="458" name=""/>
          <p:cNvSpPr/>
          <p:nvPr/>
        </p:nvSpPr>
        <p:spPr>
          <a:xfrm>
            <a:off x="6804000" y="5589720"/>
            <a:ext cx="1368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Antimicina 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23"/>
          <p:cNvSpPr/>
          <p:nvPr/>
        </p:nvSpPr>
        <p:spPr>
          <a:xfrm>
            <a:off x="0" y="538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Inhibidores del transporte de </a:t>
            </a:r>
            <a:r>
              <a:rPr b="1" i="1" lang="es-VE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i="1" lang="es-VE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1" lang="es-VE" sz="2800" spc="-1" strike="noStrike">
                <a:solidFill>
                  <a:srgbClr val="333399"/>
                </a:solidFill>
                <a:latin typeface="Arial"/>
                <a:ea typeface="Arial"/>
              </a:rPr>
              <a:t> en</a:t>
            </a: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 la cade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12D3-3840-4048-8478-393D086E941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0" name=""/>
          <p:cNvGrpSpPr/>
          <p:nvPr/>
        </p:nvGrpSpPr>
        <p:grpSpPr>
          <a:xfrm>
            <a:off x="36360" y="2330640"/>
            <a:ext cx="9144000" cy="1503000"/>
            <a:chOff x="36360" y="2330640"/>
            <a:chExt cx="9144000" cy="1503000"/>
          </a:xfrm>
        </p:grpSpPr>
        <p:sp>
          <p:nvSpPr>
            <p:cNvPr id="461" name=""/>
            <p:cNvSpPr/>
            <p:nvPr/>
          </p:nvSpPr>
          <p:spPr>
            <a:xfrm>
              <a:off x="36360" y="2330640"/>
              <a:ext cx="9144000" cy="150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omplejo I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NADH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    Complejo I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Complejo III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Citocromo c  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s-ES_tradnl" sz="1800" spc="-1" strike="noStrike">
                  <a:solidFill>
                    <a:srgbClr val="000000"/>
                  </a:solidFill>
                  <a:latin typeface="Arial"/>
                </a:rPr>
                <a:t> Complejo IV 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H</a:t>
              </a:r>
              <a:r>
                <a:rPr b="1" lang="es-ES_tradnl" sz="1800" spc="-1" strike="noStrike" baseline="-25000">
                  <a:solidFill>
                    <a:srgbClr val="cc6600"/>
                  </a:solidFill>
                  <a:latin typeface="Arial"/>
                </a:rPr>
                <a:t>2</a:t>
              </a:r>
              <a:r>
                <a:rPr b="1" lang="es-ES_tradnl" sz="1800" spc="-1" strike="noStrike">
                  <a:solidFill>
                    <a:srgbClr val="cc6600"/>
                  </a:solidFill>
                  <a:latin typeface="Arial"/>
                </a:rPr>
                <a:t>O</a:t>
              </a:r>
              <a:r>
                <a:rPr b="0" lang="es-ES_tradnl" sz="1800" spc="-1" strike="noStrike">
                  <a:solidFill>
                    <a:srgbClr val="006666"/>
                  </a:solidFill>
                  <a:latin typeface="Arial"/>
                </a:rPr>
                <a:t>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"/>
                </a:rPr>
                <a:t>                                        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245088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 flipV="1">
              <a:off x="6414840" y="3354480"/>
              <a:ext cx="31140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70196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301140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V="1">
              <a:off x="826920" y="3354480"/>
              <a:ext cx="31104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8103960" y="3354480"/>
              <a:ext cx="311400" cy="9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931840" y="2830680"/>
              <a:ext cx="0" cy="36036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7182000" y="3222720"/>
            <a:ext cx="288720" cy="288720"/>
            <a:chOff x="7182000" y="3222720"/>
            <a:chExt cx="288720" cy="288720"/>
          </a:xfrm>
        </p:grpSpPr>
        <p:sp>
          <p:nvSpPr>
            <p:cNvPr id="470" name=""/>
            <p:cNvSpPr/>
            <p:nvPr/>
          </p:nvSpPr>
          <p:spPr>
            <a:xfrm>
              <a:off x="7182000" y="3222720"/>
              <a:ext cx="288720" cy="28872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7182000" y="3222720"/>
              <a:ext cx="288720" cy="288720"/>
            </a:xfrm>
            <a:prstGeom prst="line">
              <a:avLst/>
            </a:prstGeom>
            <a:ln w="76320">
              <a:solidFill>
                <a:srgbClr val="cc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7110360" y="4141800"/>
            <a:ext cx="64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66"/>
                </a:solidFill>
                <a:latin typeface="Arial"/>
              </a:rPr>
              <a:t>CN</a:t>
            </a:r>
            <a:r>
              <a:rPr b="0" lang="es-ES_tradnl" sz="1600" spc="-1" strike="noStrike" baseline="30000">
                <a:solidFill>
                  <a:srgbClr val="006666"/>
                </a:solidFill>
                <a:latin typeface="Arial"/>
                <a:ea typeface="Arial"/>
              </a:rPr>
              <a:t>–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6666"/>
                </a:solidFill>
                <a:latin typeface="Arial"/>
              </a:rPr>
              <a:t>C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7327800" y="3584520"/>
            <a:ext cx="0" cy="504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rcRect l="3976" t="18443" r="8018" b="17234"/>
          <a:stretch/>
        </p:blipFill>
        <p:spPr>
          <a:xfrm>
            <a:off x="5187960" y="4465800"/>
            <a:ext cx="1224000" cy="38736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3244680" y="4883040"/>
            <a:ext cx="18003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3399"/>
                </a:solidFill>
                <a:latin typeface="Arial"/>
              </a:rPr>
              <a:t>Monóxido de carbono (C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5477040" y="4851360"/>
            <a:ext cx="936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Cianur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3678120" y="4491000"/>
            <a:ext cx="934920" cy="368280"/>
            <a:chOff x="3678120" y="4491000"/>
            <a:chExt cx="934920" cy="368280"/>
          </a:xfrm>
        </p:grpSpPr>
        <p:sp>
          <p:nvSpPr>
            <p:cNvPr id="478" name=""/>
            <p:cNvSpPr/>
            <p:nvPr/>
          </p:nvSpPr>
          <p:spPr>
            <a:xfrm>
              <a:off x="3678120" y="449100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:C  O: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054680" y="4608720"/>
              <a:ext cx="78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054680" y="4665600"/>
              <a:ext cx="7848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054680" y="4722840"/>
              <a:ext cx="784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Rectangle 23"/>
          <p:cNvSpPr/>
          <p:nvPr/>
        </p:nvSpPr>
        <p:spPr>
          <a:xfrm>
            <a:off x="0" y="538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Inhibidores del transporte de </a:t>
            </a:r>
            <a:r>
              <a:rPr b="1" i="1" lang="es-VE" sz="2800" spc="-1" strike="noStrike">
                <a:solidFill>
                  <a:srgbClr val="333399"/>
                </a:solidFill>
                <a:latin typeface="Arial"/>
              </a:rPr>
              <a:t>e</a:t>
            </a:r>
            <a:r>
              <a:rPr b="1" i="1" lang="es-VE" sz="2800" spc="-1" strike="noStrike" baseline="30000">
                <a:solidFill>
                  <a:srgbClr val="333399"/>
                </a:solidFill>
                <a:latin typeface="Arial"/>
                <a:ea typeface="Arial"/>
              </a:rPr>
              <a:t>–</a:t>
            </a:r>
            <a:r>
              <a:rPr b="1" lang="es-VE" sz="2800" spc="-1" strike="noStrike">
                <a:solidFill>
                  <a:srgbClr val="333399"/>
                </a:solidFill>
                <a:latin typeface="Arial"/>
                <a:ea typeface="Arial"/>
              </a:rPr>
              <a:t> en</a:t>
            </a:r>
            <a:r>
              <a:rPr b="1" lang="es-VE" sz="2800" spc="-1" strike="noStrike">
                <a:solidFill>
                  <a:srgbClr val="333399"/>
                </a:solidFill>
                <a:latin typeface="Arial"/>
              </a:rPr>
              <a:t> la cade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0C652-7A06-4F75-A09D-D0954EC4DB85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1"/>
          <p:cNvSpPr/>
          <p:nvPr/>
        </p:nvSpPr>
        <p:spPr>
          <a:xfrm>
            <a:off x="539640" y="1052640"/>
            <a:ext cx="860436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ambio en el potencial de reducción (</a:t>
            </a:r>
            <a:r>
              <a:rPr b="1" lang="es-ES" sz="1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’º) 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de los </a:t>
            </a: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i="1" lang="es-ES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VE" sz="1800" spc="-1" strike="noStrike">
                <a:solidFill>
                  <a:srgbClr val="000099"/>
                </a:solidFill>
                <a:latin typeface="Arial"/>
              </a:rPr>
              <a:t>desde el NADH al O</a:t>
            </a:r>
            <a:r>
              <a:rPr b="1" lang="es-VE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NADH  +   H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+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½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O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                H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O  +  NAD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0" lang="es-ES_tradnl" sz="1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’º =   E’º del aceptor de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   –   E’º  del dador de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0" lang="es-ES_tradnl" sz="1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’º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=  + 0,82 V  –  (– 0,32 V) = + 1,14 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ambio de energía libre estándar (</a:t>
            </a:r>
            <a:r>
              <a:rPr b="1" lang="es-ES_tradnl" sz="1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G’º)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de los 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desde el NADH al 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∆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G’º = – n.F.∆E’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         ∆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G’º = – 2 x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96,5 KJ/V.mol x 1,14 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∆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G’º =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220 KJ/mo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356000" y="206064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1B9D-917B-4461-ADAA-6FD3920DDC56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"/>
          <p:cNvGrpSpPr/>
          <p:nvPr/>
        </p:nvGrpSpPr>
        <p:grpSpPr>
          <a:xfrm>
            <a:off x="0" y="1484280"/>
            <a:ext cx="9144000" cy="3494160"/>
            <a:chOff x="0" y="1484280"/>
            <a:chExt cx="9144000" cy="3494160"/>
          </a:xfrm>
        </p:grpSpPr>
        <p:pic>
          <p:nvPicPr>
            <p:cNvPr id="488" name="Picture 29" descr=""/>
            <p:cNvPicPr/>
            <p:nvPr/>
          </p:nvPicPr>
          <p:blipFill>
            <a:blip r:embed="rId1"/>
            <a:srcRect l="1269" t="11026" r="2938" b="6289"/>
            <a:stretch/>
          </p:blipFill>
          <p:spPr>
            <a:xfrm>
              <a:off x="250920" y="1811160"/>
              <a:ext cx="8604000" cy="31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9" name="TextBox 30"/>
            <p:cNvSpPr/>
            <p:nvPr/>
          </p:nvSpPr>
          <p:spPr>
            <a:xfrm>
              <a:off x="0" y="1484280"/>
              <a:ext cx="9144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s-ES_tradnl" sz="1800" spc="-1" strike="noStrike">
                  <a:solidFill>
                    <a:srgbClr val="333399"/>
                  </a:solidFill>
                  <a:latin typeface="Calibri"/>
                  <a:ea typeface="ＭＳ Ｐゴシック"/>
                </a:rPr>
                <a:t>Potenciales  de redox estándar de los transportadores de la cadena respiratoria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Box 31"/>
            <p:cNvSpPr/>
            <p:nvPr/>
          </p:nvSpPr>
          <p:spPr>
            <a:xfrm>
              <a:off x="435240" y="1916280"/>
              <a:ext cx="2472840" cy="213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Calibri"/>
                  <a:ea typeface="ＭＳ Ｐゴシック"/>
                </a:rPr>
                <a:t>Reacción redox (hemirreacción)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60360" y="4978440"/>
              <a:ext cx="8424720" cy="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24000" y="2708280"/>
              <a:ext cx="8424720" cy="0"/>
            </a:xfrm>
            <a:prstGeom prst="line">
              <a:avLst/>
            </a:prstGeom>
            <a:ln w="19080">
              <a:solidFill>
                <a:srgbClr val="cc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E8C4-9EAF-4502-B691-C6342C9F596A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Text Box 11"/>
          <p:cNvSpPr/>
          <p:nvPr/>
        </p:nvSpPr>
        <p:spPr>
          <a:xfrm>
            <a:off x="539640" y="1052640"/>
            <a:ext cx="860436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ambio en el potencial de reducción (</a:t>
            </a:r>
            <a:r>
              <a:rPr b="1" lang="es-ES" sz="1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’º) 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de los </a:t>
            </a:r>
            <a:r>
              <a:rPr b="1" i="1" lang="es-ES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i="1" lang="es-ES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VE" sz="1800" spc="-1" strike="noStrike">
                <a:solidFill>
                  <a:srgbClr val="000099"/>
                </a:solidFill>
                <a:latin typeface="Arial"/>
              </a:rPr>
              <a:t>desde el NADH al O</a:t>
            </a:r>
            <a:r>
              <a:rPr b="1" lang="es-VE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NADH  +   H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+   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½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O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                H</a:t>
            </a:r>
            <a:r>
              <a:rPr b="0" lang="es-ES_tradnl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O  +  NAD</a:t>
            </a:r>
            <a:r>
              <a:rPr b="0" lang="es-ES_tradnl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0" lang="es-ES_tradnl" sz="1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’º =   E’º del aceptor de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   –   E’º  del donador de </a:t>
            </a:r>
            <a:r>
              <a:rPr b="0" i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</a:t>
            </a:r>
            <a:r>
              <a:rPr b="0" i="1" lang="en-US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          </a:t>
            </a:r>
            <a:r>
              <a:rPr b="0" lang="es-ES_tradnl" sz="1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E’º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=  + 0,82 V  –  (– 0,32 V) = + 1,14 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Cambio de energía libre estándar (</a:t>
            </a:r>
            <a:r>
              <a:rPr b="1" lang="es-ES_tradnl" sz="18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  <a:ea typeface="Arial"/>
              </a:rPr>
              <a:t>G’º) 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de los </a:t>
            </a:r>
            <a:r>
              <a:rPr b="1" i="1" lang="es-ES_tradnl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1" lang="es-ES_tradnl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desde el NADH al O</a:t>
            </a:r>
            <a:r>
              <a:rPr b="1" lang="es-ES_tradnl" sz="1800" spc="-1" strike="noStrike" baseline="-25000">
                <a:solidFill>
                  <a:srgbClr val="000099"/>
                </a:solidFill>
                <a:latin typeface="Arial"/>
              </a:rPr>
              <a:t>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            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∆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G’º = – n.F.∆E’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           ∆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G’º = – 2 x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96,5 KJ/V.mol x 1,14 V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         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    ∆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G’º = 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ES_tradnl" sz="1800" spc="-1" strike="noStrike">
                <a:solidFill>
                  <a:srgbClr val="000099"/>
                </a:solidFill>
                <a:latin typeface="Arial"/>
              </a:rPr>
              <a:t> 220 KJ/mol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356000" y="2060640"/>
            <a:ext cx="792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1F33-37EE-4CA9-894F-4A2AEB22B12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30" descr=""/>
          <p:cNvPicPr/>
          <p:nvPr/>
        </p:nvPicPr>
        <p:blipFill>
          <a:blip r:embed="rId1"/>
          <a:stretch/>
        </p:blipFill>
        <p:spPr>
          <a:xfrm>
            <a:off x="216000" y="1268280"/>
            <a:ext cx="8893080" cy="4357800"/>
          </a:xfrm>
          <a:prstGeom prst="rect">
            <a:avLst/>
          </a:prstGeom>
          <a:ln w="0">
            <a:noFill/>
          </a:ln>
        </p:spPr>
      </p:pic>
      <p:sp>
        <p:nvSpPr>
          <p:cNvPr id="498" name="Rectangle 23"/>
          <p:cNvSpPr/>
          <p:nvPr/>
        </p:nvSpPr>
        <p:spPr>
          <a:xfrm>
            <a:off x="147816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C6C2-A493-4C04-A609-208151F7DB1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9" name=""/>
          <p:cNvGrpSpPr/>
          <p:nvPr/>
        </p:nvGrpSpPr>
        <p:grpSpPr>
          <a:xfrm>
            <a:off x="179280" y="115920"/>
            <a:ext cx="8820360" cy="6506640"/>
            <a:chOff x="179280" y="115920"/>
            <a:chExt cx="8820360" cy="6506640"/>
          </a:xfrm>
        </p:grpSpPr>
        <p:pic>
          <p:nvPicPr>
            <p:cNvPr id="500" name="Picture 30" descr=""/>
            <p:cNvPicPr/>
            <p:nvPr/>
          </p:nvPicPr>
          <p:blipFill>
            <a:blip r:embed="rId1"/>
            <a:stretch/>
          </p:blipFill>
          <p:spPr>
            <a:xfrm>
              <a:off x="179280" y="700200"/>
              <a:ext cx="8820360" cy="4321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1" name=""/>
            <p:cNvSpPr/>
            <p:nvPr/>
          </p:nvSpPr>
          <p:spPr>
            <a:xfrm>
              <a:off x="2895480" y="1924200"/>
              <a:ext cx="505080" cy="287280"/>
            </a:xfrm>
            <a:prstGeom prst="rect">
              <a:avLst/>
            </a:prstGeom>
            <a:solidFill>
              <a:srgbClr val="eae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Q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082520" y="120600"/>
              <a:ext cx="7077240" cy="689040"/>
            </a:xfrm>
            <a:prstGeom prst="rect">
              <a:avLst/>
            </a:prstGeom>
            <a:solidFill>
              <a:srgbClr val="ece3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820880" y="749160"/>
              <a:ext cx="10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(220 KJ/mol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062000" y="150840"/>
              <a:ext cx="0" cy="7192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H="1">
              <a:off x="8159400" y="115920"/>
              <a:ext cx="12600" cy="7858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989840" y="82080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068480" y="798480"/>
              <a:ext cx="1429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130640" y="2127240"/>
              <a:ext cx="1233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(143,4 KJ/mol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154400" y="2874960"/>
              <a:ext cx="1209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(115,8 KJ/mol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5219640" y="2548080"/>
              <a:ext cx="1224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(109,2 KJ/mol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467400" y="2865600"/>
              <a:ext cx="1273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(102,3 KJ/mol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22920" y="3782880"/>
              <a:ext cx="1152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(52,1 KJ/mol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227640" y="4446720"/>
              <a:ext cx="1440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(0 KJ/mol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74840" y="1898640"/>
              <a:ext cx="1305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(149,6 KJ/mol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516040" y="1133640"/>
              <a:ext cx="108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200" spc="-1" strike="noStrike">
                  <a:solidFill>
                    <a:srgbClr val="000000"/>
                  </a:solidFill>
                  <a:latin typeface="Arial"/>
                </a:rPr>
                <a:t>(216 KJ/mol)</a:t>
              </a: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969840" y="5118120"/>
              <a:ext cx="5113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’º  entre componentes de la cadena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TextBox 12"/>
            <p:cNvSpPr/>
            <p:nvPr/>
          </p:nvSpPr>
          <p:spPr>
            <a:xfrm>
              <a:off x="1362240" y="3510000"/>
              <a:ext cx="4001760" cy="76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333399"/>
                  </a:solidFill>
                  <a:latin typeface="Arial"/>
                  <a:ea typeface="ＭＳ Ｐゴシック"/>
                </a:rPr>
                <a:t>∆</a:t>
              </a:r>
              <a:r>
                <a:rPr b="0" lang="es-ES_tradnl" sz="1600" spc="-1" strike="noStrike">
                  <a:solidFill>
                    <a:srgbClr val="333399"/>
                  </a:solidFill>
                  <a:latin typeface="Arial"/>
                  <a:ea typeface="ＭＳ Ｐゴシック"/>
                </a:rPr>
                <a:t>E’º  = E’º aceptor  ─   E’º donador 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333399"/>
                  </a:solidFill>
                  <a:latin typeface="Arial"/>
                  <a:ea typeface="ＭＳ Ｐゴシック"/>
                </a:rPr>
                <a:t>∆</a:t>
              </a:r>
              <a:r>
                <a:rPr b="0" lang="es-ES_tradnl" sz="1600" spc="-1" strike="noStrike">
                  <a:solidFill>
                    <a:srgbClr val="333399"/>
                  </a:solidFill>
                  <a:latin typeface="Arial"/>
                  <a:ea typeface="ＭＳ Ｐゴシック"/>
                </a:rPr>
                <a:t>G’º = – n.F.∆E’º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788000" y="5454720"/>
              <a:ext cx="4211640" cy="116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it. c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→ Cit. c 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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 6,6  KJ/mo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it. c  → Cit. a 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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–  6,9  KJ/mo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it. a  → Cit. 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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 50,2  KJ/mol (</a:t>
              </a:r>
              <a:r>
                <a:rPr b="0" lang="en-US" sz="1200" spc="-1" strike="noStrike">
                  <a:solidFill>
                    <a:srgbClr val="cc0066"/>
                  </a:solidFill>
                  <a:latin typeface="Wingdings 2"/>
                  <a:ea typeface="Wingdings 2"/>
                </a:rPr>
                <a:t>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it. a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→ O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2 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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 52,1 KJ/mol  (</a:t>
              </a:r>
              <a:r>
                <a:rPr b="0" lang="en-US" sz="1200" spc="-1" strike="noStrike">
                  <a:solidFill>
                    <a:srgbClr val="cc0066"/>
                  </a:solidFill>
                  <a:latin typeface="Wingdings 2"/>
                  <a:ea typeface="Wingdings 2"/>
                </a:rPr>
                <a:t>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971640" y="5454720"/>
              <a:ext cx="4319640" cy="110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DH → FMN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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 4  KJ/mo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MN → Q 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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 66,4  KJ/mol (</a:t>
              </a:r>
              <a:r>
                <a:rPr b="0" lang="en-US" sz="1200" spc="-1" strike="noStrike">
                  <a:solidFill>
                    <a:srgbClr val="cc0066"/>
                  </a:solidFill>
                  <a:latin typeface="Wingdings 2"/>
                  <a:ea typeface="Wingdings 2"/>
                </a:rPr>
                <a:t>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Q → Cit. b 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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–  6,2  KJ/mol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it. b → Cit c</a:t>
              </a:r>
              <a:r>
                <a:rPr b="0" lang="en-US" sz="1600" spc="-1" strike="noStrike" baseline="-25000">
                  <a:solidFill>
                    <a:srgbClr val="000000"/>
                  </a:solidFill>
                  <a:latin typeface="Arial"/>
                </a:rPr>
                <a:t>1  </a:t>
              </a:r>
              <a:r>
                <a:rPr b="0" lang="en-US" sz="1600" spc="-1" strike="noStrike">
                  <a:solidFill>
                    <a:srgbClr val="000000"/>
                  </a:solidFill>
                  <a:latin typeface="Wingdings 3"/>
                  <a:ea typeface="Wingdings 3"/>
                </a:rPr>
                <a:t>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–  27,6  KJ/mol (</a:t>
              </a:r>
              <a:r>
                <a:rPr b="0" lang="en-US" sz="1200" spc="-1" strike="noStrike">
                  <a:solidFill>
                    <a:srgbClr val="cc0066"/>
                  </a:solidFill>
                  <a:latin typeface="Wingdings 2"/>
                  <a:ea typeface="Wingdings 2"/>
                </a:rPr>
                <a:t>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)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2570040" y="260280"/>
              <a:ext cx="4608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</a:t>
              </a:r>
              <a:r>
                <a:rPr b="1" lang="en-US" sz="2000" spc="-1" strike="noStrike">
                  <a:solidFill>
                    <a:srgbClr val="000099"/>
                  </a:solidFill>
                  <a:latin typeface="Arial"/>
                  <a:ea typeface="Arial"/>
                </a:rPr>
                <a:t>G’º en la cadena respiratoria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8317080" y="6165720"/>
            <a:ext cx="43164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4287960" y="227664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0066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cc0066"/>
                </a:solidFill>
                <a:latin typeface="Wingdings 2"/>
                <a:ea typeface="Wingdings 2"/>
              </a:rPr>
              <a:t></a:t>
            </a:r>
            <a:r>
              <a:rPr b="0" lang="en-US" sz="1200" spc="-1" strike="noStrike">
                <a:solidFill>
                  <a:srgbClr val="cc0066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54360" y="146520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0066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cc0066"/>
                </a:solidFill>
                <a:latin typeface="Wingdings 2"/>
                <a:ea typeface="Wingdings 2"/>
              </a:rPr>
              <a:t></a:t>
            </a:r>
            <a:r>
              <a:rPr b="0" lang="en-US" sz="1200" spc="-1" strike="noStrike">
                <a:solidFill>
                  <a:srgbClr val="cc0066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292880" y="4041720"/>
            <a:ext cx="50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0066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cc0066"/>
                </a:solidFill>
                <a:latin typeface="Wingdings 2"/>
                <a:ea typeface="Wingdings 2"/>
              </a:rPr>
              <a:t></a:t>
            </a:r>
            <a:r>
              <a:rPr b="0" lang="en-US" sz="1200" spc="-1" strike="noStrike">
                <a:solidFill>
                  <a:srgbClr val="cc0066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591240" y="3249720"/>
            <a:ext cx="50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cc0066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cc0066"/>
                </a:solidFill>
                <a:latin typeface="Wingdings 2"/>
                <a:ea typeface="Wingdings 2"/>
              </a:rPr>
              <a:t></a:t>
            </a:r>
            <a:r>
              <a:rPr b="0" lang="en-US" sz="1200" spc="-1" strike="noStrike">
                <a:solidFill>
                  <a:srgbClr val="cc0066"/>
                </a:solidFill>
                <a:latin typeface="Arial"/>
              </a:rPr>
              <a:t>)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3800-5F45-46E9-84D5-1E3AE5874604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df8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rcRect l="11803" t="0" r="0" b="0"/>
          <a:stretch/>
        </p:blipFill>
        <p:spPr>
          <a:xfrm>
            <a:off x="-36360" y="-27000"/>
            <a:ext cx="9288360" cy="696924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2124000" y="220500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Fin de la clas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708360" y="3141720"/>
            <a:ext cx="165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racia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2F30-52C4-4563-ACE6-A5C7EF51157B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065240" y="1814400"/>
            <a:ext cx="4513320" cy="4824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rcRect l="0" t="26823" r="0" b="909"/>
          <a:stretch/>
        </p:blipFill>
        <p:spPr>
          <a:xfrm>
            <a:off x="1084320" y="282600"/>
            <a:ext cx="4567320" cy="2778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3"/>
          <a:srcRect l="8782" t="40273" r="12262" b="0"/>
          <a:stretch/>
        </p:blipFill>
        <p:spPr>
          <a:xfrm>
            <a:off x="5869080" y="5045040"/>
            <a:ext cx="3240000" cy="1697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706920" y="6453360"/>
            <a:ext cx="2017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724360" y="5589360"/>
            <a:ext cx="0" cy="863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726160" y="5589720"/>
            <a:ext cx="285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370560" y="5084640"/>
            <a:ext cx="719280" cy="0"/>
          </a:xfrm>
          <a:prstGeom prst="line">
            <a:avLst/>
          </a:prstGeom>
          <a:ln w="76320">
            <a:solidFill>
              <a:srgbClr val="cdd3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659640" y="5138640"/>
            <a:ext cx="217440" cy="142920"/>
          </a:xfrm>
          <a:prstGeom prst="rect">
            <a:avLst/>
          </a:prstGeom>
          <a:solidFill>
            <a:srgbClr val="ff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869080" y="4869000"/>
            <a:ext cx="3240000" cy="215640"/>
          </a:xfrm>
          <a:prstGeom prst="rect">
            <a:avLst/>
          </a:prstGeom>
          <a:solidFill>
            <a:srgbClr val="d3d8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36560" y="2844720"/>
            <a:ext cx="0" cy="43200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01680" y="76320"/>
            <a:ext cx="4338720" cy="222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5724360" y="1268280"/>
            <a:ext cx="341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400" spc="-1" strike="noStrike">
                <a:solidFill>
                  <a:srgbClr val="000099"/>
                </a:solidFill>
                <a:latin typeface="Arial"/>
              </a:rPr>
              <a:t>Etapas de la respiración celul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506920" y="108000"/>
            <a:ext cx="146160" cy="1317600"/>
          </a:xfrm>
          <a:custGeom>
            <a:avLst/>
            <a:gdLst>
              <a:gd name="textAreaLeft" fmla="*/ 0 w 146160"/>
              <a:gd name="textAreaRight" fmla="*/ 52560 w 146160"/>
              <a:gd name="textAreaTop" fmla="*/ 34200 h 1317600"/>
              <a:gd name="textAreaBottom" fmla="*/ 1283400 h 131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538960" y="1557360"/>
            <a:ext cx="185400" cy="4751280"/>
          </a:xfrm>
          <a:custGeom>
            <a:avLst/>
            <a:gdLst>
              <a:gd name="textAreaLeft" fmla="*/ 0 w 185400"/>
              <a:gd name="textAreaRight" fmla="*/ 66960 w 185400"/>
              <a:gd name="textAreaTop" fmla="*/ 123840 h 4751280"/>
              <a:gd name="textAreaBottom" fmla="*/ 4627440 h 47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10793"/>
                </a:lnTo>
                <a:cubicBezTo>
                  <a:pt x="10800" y="11693"/>
                  <a:pt x="16200" y="12593"/>
                  <a:pt x="21600" y="12593"/>
                </a:cubicBezTo>
                <a:cubicBezTo>
                  <a:pt x="16200" y="12593"/>
                  <a:pt x="10800" y="13493"/>
                  <a:pt x="10800" y="14393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98840" y="2565360"/>
            <a:ext cx="0" cy="28908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946840" y="4111560"/>
            <a:ext cx="165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tocondri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81840" y="549360"/>
            <a:ext cx="1082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Arial"/>
              </a:rPr>
              <a:t>Citoso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360" y="765000"/>
            <a:ext cx="28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16200000">
            <a:off x="7308720" y="3141360"/>
            <a:ext cx="288720" cy="3311640"/>
          </a:xfrm>
          <a:custGeom>
            <a:avLst/>
            <a:gdLst>
              <a:gd name="textAreaLeft" fmla="*/ 0 w 288720"/>
              <a:gd name="textAreaRight" fmla="*/ 104040 w 288720"/>
              <a:gd name="textAreaTop" fmla="*/ 38880 h 3311640"/>
              <a:gd name="textAreaBottom" fmla="*/ 3272760 h 331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08"/>
                  <a:pt x="10800" y="815"/>
                </a:cubicBezTo>
                <a:lnTo>
                  <a:pt x="10800" y="5894"/>
                </a:lnTo>
                <a:cubicBezTo>
                  <a:pt x="10800" y="6302"/>
                  <a:pt x="16200" y="6709"/>
                  <a:pt x="21600" y="6709"/>
                </a:cubicBezTo>
                <a:cubicBezTo>
                  <a:pt x="16200" y="6709"/>
                  <a:pt x="10800" y="7117"/>
                  <a:pt x="10800" y="7524"/>
                </a:cubicBezTo>
                <a:lnTo>
                  <a:pt x="10800" y="20785"/>
                </a:lnTo>
                <a:cubicBezTo>
                  <a:pt x="10800" y="21193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44720" y="139680"/>
            <a:ext cx="86364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luco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96000" y="4292640"/>
            <a:ext cx="287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65640" y="1609560"/>
            <a:ext cx="1584360" cy="50508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Complejo piruvat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deshidrogenas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378240" y="549360"/>
            <a:ext cx="1008000" cy="337320"/>
          </a:xfrm>
          <a:prstGeom prst="rect">
            <a:avLst/>
          </a:prstGeom>
          <a:solidFill>
            <a:srgbClr val="ffc5c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licólis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09800" y="1322280"/>
            <a:ext cx="936720" cy="1429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Piruva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700360" y="2637000"/>
            <a:ext cx="1224000" cy="28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Acetil-Co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44720" y="3789360"/>
            <a:ext cx="863640" cy="360360"/>
          </a:xfrm>
          <a:prstGeom prst="rect">
            <a:avLst/>
          </a:prstGeom>
          <a:solidFill>
            <a:srgbClr val="ff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iclo d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Kreb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6804000" y="4436640"/>
            <a:ext cx="1440" cy="144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32720" y="5138640"/>
            <a:ext cx="360360" cy="142920"/>
          </a:xfrm>
          <a:prstGeom prst="rect">
            <a:avLst/>
          </a:prstGeom>
          <a:solidFill>
            <a:srgbClr val="ffc5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08000" y="4149720"/>
            <a:ext cx="1133280" cy="6476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tapa 2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Oxida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l acetil-Co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32720" y="3284640"/>
            <a:ext cx="2160360" cy="7207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tapa 3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ansferencia electrónic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 fosforilación oxidativ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244000" y="3968640"/>
            <a:ext cx="215640" cy="790560"/>
          </a:xfrm>
          <a:prstGeom prst="downArrow">
            <a:avLst>
              <a:gd name="adj1" fmla="val 50000"/>
              <a:gd name="adj2" fmla="val 91653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96920"/>
            <a:ext cx="863640" cy="9511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Ácidos gras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60360" y="260280"/>
            <a:ext cx="1440000" cy="33732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minoácid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00240" y="1522440"/>
            <a:ext cx="4321080" cy="0"/>
          </a:xfrm>
          <a:prstGeom prst="line">
            <a:avLst/>
          </a:prstGeom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08000" y="1268280"/>
            <a:ext cx="1150920" cy="649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tapa 1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Producci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de acetil-Co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84720" y="5210280"/>
            <a:ext cx="1656000" cy="64152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dena  de  transporte de electrones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F23C-789D-4857-B756-5AE4296AE52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1"/>
          <p:cNvSpPr/>
          <p:nvPr/>
        </p:nvSpPr>
        <p:spPr>
          <a:xfrm>
            <a:off x="539640" y="932040"/>
            <a:ext cx="8604360" cy="55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Concepto de cadena de transporte de electrones (o cadena respiratoria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Consiste en una serie de moléculas que tienen por función transportar e</a:t>
            </a:r>
            <a:r>
              <a:rPr b="0" lang="es-ES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de forma secuencial desde especies dadoras a especies aceptor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Importantes características de la cadena de transporte de electr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Se localiza en la membrana interna de las mitocondri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3006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Los equivalentes reductores que transfieren pueden ser </a:t>
            </a:r>
            <a:r>
              <a:rPr b="0" i="1" lang="es-ES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s-ES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, hidrógenos (H</a:t>
            </a:r>
            <a:r>
              <a:rPr b="0" lang="es-ES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+ </a:t>
            </a:r>
            <a:r>
              <a:rPr b="0" i="1" lang="es-ES" sz="1800" spc="-1" strike="noStrike">
                <a:solidFill>
                  <a:srgbClr val="000099"/>
                </a:solidFill>
                <a:latin typeface="Arial"/>
              </a:rPr>
              <a:t>e</a:t>
            </a:r>
            <a:r>
              <a:rPr b="0" i="1" lang="es-ES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) o iones hidruro (H</a:t>
            </a:r>
            <a:r>
              <a:rPr b="0" lang="es-ES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  <a:ea typeface="Arial"/>
              </a:rPr>
              <a:t>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3006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  <a:ea typeface="Arial"/>
              </a:rPr>
              <a:t>Los </a:t>
            </a:r>
            <a:r>
              <a:rPr b="0" i="1" lang="es-ES" sz="1800" spc="-1" strike="noStrike">
                <a:solidFill>
                  <a:srgbClr val="000099"/>
                </a:solidFill>
                <a:latin typeface="Arial"/>
                <a:ea typeface="Arial"/>
              </a:rPr>
              <a:t>e</a:t>
            </a:r>
            <a:r>
              <a:rPr b="0" i="1" lang="es-ES" sz="1800" spc="-1" strike="noStrike" baseline="30000">
                <a:solidFill>
                  <a:srgbClr val="000099"/>
                </a:solidFill>
                <a:latin typeface="Arial"/>
                <a:ea typeface="Arial"/>
              </a:rPr>
              <a:t>–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  <a:ea typeface="Arial"/>
              </a:rPr>
              <a:t> se desplazan gradualmente desde transportadores con E’º menor a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transportadores con E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  <a:ea typeface="Arial"/>
              </a:rPr>
              <a:t>’º mayor.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3006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La mayoría son proteínas integrales de membrana del tipo conjugad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3006"/>
              <a:buBlip>
                <a:blip r:embed="rId1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  <a:ea typeface="Arial"/>
              </a:rPr>
              <a:t>El único transportador no proteico, es una molécula liposoluble llamada ubiquinona (o coenzima Q 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3006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1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  <a:ea typeface="Arial"/>
              </a:rPr>
              <a:t>La mayoría de sus componentes están organizados en 4 complejos supramacromoleculares (I, II, III y IV)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8EB6-A255-4DFC-9F73-562B581B2BC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"/>
          <p:cNvGraphicFramePr/>
          <p:nvPr/>
        </p:nvGraphicFramePr>
        <p:xfrm>
          <a:off x="250920" y="1125360"/>
          <a:ext cx="8675640" cy="5061240"/>
        </p:xfrm>
        <a:graphic>
          <a:graphicData uri="http://schemas.openxmlformats.org/drawingml/2006/table">
            <a:tbl>
              <a:tblPr/>
              <a:tblGrid>
                <a:gridCol w="4321080"/>
                <a:gridCol w="1008000"/>
                <a:gridCol w="1728720"/>
                <a:gridCol w="161784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ONENT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KDa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º d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bunidad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pos prostético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0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jo I (NADH deshidrogenasa 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DH-ubiquinona oxidorreductasa)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MN, Fe-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jo II (Succinato deshidrogenasa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D, Fe-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2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biquinona (ó Coenzima Q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~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jo III (Complejo citocromo </a:t>
                      </a: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c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  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biquinona-citocromo</a:t>
                      </a: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xidorrreductasa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tocromo</a:t>
                      </a:r>
                      <a:r>
                        <a:rPr b="0" i="1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c 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No es un complejo)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o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5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lejo IV  (Citocromo oxidasa)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mo,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 Cu</a:t>
                      </a:r>
                      <a:r>
                        <a:rPr b="0" lang="es-ES_tradnl" sz="1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"/>
          <p:cNvSpPr/>
          <p:nvPr/>
        </p:nvSpPr>
        <p:spPr>
          <a:xfrm>
            <a:off x="181080" y="760320"/>
            <a:ext cx="896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OMPONENTES  DE LA CADENA DE TRANSPORTE  DE ELECTR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125360"/>
            <a:ext cx="8640720" cy="5040"/>
          </a:xfrm>
          <a:prstGeom prst="line">
            <a:avLst/>
          </a:prstGeom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773360"/>
            <a:ext cx="8640720" cy="4680"/>
          </a:xfrm>
          <a:prstGeom prst="line">
            <a:avLst/>
          </a:prstGeom>
          <a:ln w="3816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17080" y="6238800"/>
            <a:ext cx="431640" cy="360360"/>
          </a:xfrm>
          <a:prstGeom prst="rect">
            <a:avLst/>
          </a:prstGeom>
          <a:solidFill>
            <a:srgbClr val="ffff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80360" y="1916280"/>
            <a:ext cx="1512720" cy="4465440"/>
          </a:xfrm>
          <a:prstGeom prst="rect">
            <a:avLst/>
          </a:prstGeom>
          <a:noFill/>
          <a:ln w="28440">
            <a:solidFill>
              <a:srgbClr val="cc006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E938-2B11-4F90-B96E-5033591783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rcRect l="3611" t="12922" r="1915" b="21940"/>
          <a:stretch/>
        </p:blipFill>
        <p:spPr>
          <a:xfrm>
            <a:off x="289080" y="907920"/>
            <a:ext cx="8675640" cy="252108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3814200" y="4201920"/>
            <a:ext cx="2424960" cy="2392200"/>
            <a:chOff x="3814200" y="4201920"/>
            <a:chExt cx="2424960" cy="2392200"/>
          </a:xfrm>
        </p:grpSpPr>
        <p:grpSp>
          <p:nvGrpSpPr>
            <p:cNvPr id="114" name=""/>
            <p:cNvGrpSpPr/>
            <p:nvPr/>
          </p:nvGrpSpPr>
          <p:grpSpPr>
            <a:xfrm>
              <a:off x="3814200" y="4201920"/>
              <a:ext cx="2424960" cy="2392200"/>
              <a:chOff x="3814200" y="4201920"/>
              <a:chExt cx="2424960" cy="2392200"/>
            </a:xfrm>
          </p:grpSpPr>
          <p:pic>
            <p:nvPicPr>
              <p:cNvPr id="115" name="" descr=""/>
              <p:cNvPicPr/>
              <p:nvPr/>
            </p:nvPicPr>
            <p:blipFill>
              <a:blip r:embed="rId2"/>
              <a:srcRect l="31840" t="20330" r="10750" b="9031"/>
              <a:stretch/>
            </p:blipFill>
            <p:spPr>
              <a:xfrm rot="2247600">
                <a:off x="4123800" y="4582800"/>
                <a:ext cx="1805400" cy="163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"/>
              <p:cNvSpPr/>
              <p:nvPr/>
            </p:nvSpPr>
            <p:spPr>
              <a:xfrm rot="322200">
                <a:off x="3973320" y="4421160"/>
                <a:ext cx="1998000" cy="60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322200">
                <a:off x="4241520" y="5922000"/>
                <a:ext cx="1134720" cy="601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4460760" y="5067360"/>
              <a:ext cx="215640" cy="231840"/>
            </a:xfrm>
            <a:prstGeom prst="ellipse">
              <a:avLst/>
            </a:prstGeom>
            <a:noFill/>
            <a:ln w="38160">
              <a:solidFill>
                <a:srgbClr val="0000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 rot="5400000">
            <a:off x="4103640" y="272880"/>
            <a:ext cx="936720" cy="8642160"/>
          </a:xfrm>
          <a:custGeom>
            <a:avLst/>
            <a:gdLst>
              <a:gd name="textAreaLeft" fmla="*/ 0 w 936720"/>
              <a:gd name="textAreaRight" fmla="*/ 338040 w 936720"/>
              <a:gd name="textAreaTop" fmla="*/ 0 h 8642160"/>
              <a:gd name="textAreaBottom" fmla="*/ 8642520 h 864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16200" y="10800"/>
                  <a:pt x="21600" y="10800"/>
                </a:cubicBezTo>
                <a:cubicBezTo>
                  <a:pt x="162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4920" y="476280"/>
            <a:ext cx="259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spacio intermembran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635280" y="3932280"/>
            <a:ext cx="216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atriz mitocondri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59280" y="4268880"/>
            <a:ext cx="2174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3080" y="3429000"/>
            <a:ext cx="16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NADH + H</a:t>
            </a:r>
            <a:r>
              <a:rPr b="1" lang="es-ES_tradnl" sz="12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    NAD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059280" y="3429000"/>
            <a:ext cx="194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Succinato       Fumarato 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32720" y="3213000"/>
            <a:ext cx="151128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½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+  2H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 H</a:t>
            </a:r>
            <a:r>
              <a:rPr b="1" lang="en-US" sz="12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765000"/>
            <a:ext cx="10080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66840" y="5213520"/>
            <a:ext cx="16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atriz mitocondrial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762360" y="5357880"/>
            <a:ext cx="522360" cy="15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H="1">
            <a:off x="5598720" y="51926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73920" y="5067360"/>
            <a:ext cx="208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pacio intermembra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870360" y="5770440"/>
            <a:ext cx="243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delo de mitocondria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7273800" y="1805040"/>
            <a:ext cx="289080" cy="144360"/>
            <a:chOff x="7273800" y="1805040"/>
            <a:chExt cx="289080" cy="144360"/>
          </a:xfrm>
        </p:grpSpPr>
        <p:sp>
          <p:nvSpPr>
            <p:cNvPr id="133" name=""/>
            <p:cNvSpPr/>
            <p:nvPr/>
          </p:nvSpPr>
          <p:spPr>
            <a:xfrm>
              <a:off x="7273800" y="1805040"/>
              <a:ext cx="289080" cy="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7273800" y="1949400"/>
              <a:ext cx="257040" cy="0"/>
            </a:xfrm>
            <a:prstGeom prst="line">
              <a:avLst/>
            </a:prstGeom>
            <a:ln w="38160">
              <a:solidFill>
                <a:srgbClr val="cc00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484360" y="126828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Membrana mitocondrial interna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132000" y="1484280"/>
            <a:ext cx="0" cy="287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37080" y="1968480"/>
            <a:ext cx="360360" cy="36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efe1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480440" y="1170000"/>
            <a:ext cx="538200" cy="539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19280" y="2457360"/>
            <a:ext cx="288720" cy="289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84720" y="2006640"/>
            <a:ext cx="289080" cy="288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09080" y="1971720"/>
            <a:ext cx="288720" cy="2887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17840" y="2690640"/>
            <a:ext cx="289080" cy="28908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2C1A-ECB1-45A0-844C-1F8A09B762E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11"/>
          <p:cNvSpPr/>
          <p:nvPr/>
        </p:nvSpPr>
        <p:spPr>
          <a:xfrm>
            <a:off x="539640" y="932040"/>
            <a:ext cx="8604360" cy="43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99"/>
                </a:solidFill>
                <a:latin typeface="Arial"/>
              </a:rPr>
              <a:t>Grupos prostéticos de los componentes de la cadena respiratori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Nucleótidos de flavina (FMN y FAD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presentes en las flavoproteín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Centros  ferro-sulfurados  o   centro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hierro-azufre (Fe-S) presentes en l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proteínas ferro-sulfurada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SzPct val="102812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Grupos  hemos  presentes  en   l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0" lang="es-ES" sz="1800" spc="-1" strike="noStrike">
                <a:solidFill>
                  <a:srgbClr val="000099"/>
                </a:solidFill>
                <a:latin typeface="Arial"/>
              </a:rPr>
              <a:t>proteínas citocromo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8640" indent="-457200">
              <a:lnSpc>
                <a:spcPct val="100000"/>
              </a:lnSpc>
              <a:buClr>
                <a:srgbClr val="000099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2"/>
          <p:cNvSpPr/>
          <p:nvPr/>
        </p:nvSpPr>
        <p:spPr>
          <a:xfrm>
            <a:off x="611280" y="1003320"/>
            <a:ext cx="8532720" cy="0"/>
          </a:xfrm>
          <a:prstGeom prst="line">
            <a:avLst/>
          </a:prstGeom>
          <a:ln w="10152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23"/>
          <p:cNvSpPr/>
          <p:nvPr/>
        </p:nvSpPr>
        <p:spPr>
          <a:xfrm>
            <a:off x="546480" y="476280"/>
            <a:ext cx="632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VE" sz="2800" spc="-1" strike="noStrike">
                <a:solidFill>
                  <a:srgbClr val="000000"/>
                </a:solidFill>
                <a:latin typeface="Arial"/>
              </a:rPr>
              <a:t>Cadena de transporte de electrones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5580000" y="1917720"/>
            <a:ext cx="3422520" cy="4032360"/>
            <a:chOff x="5580000" y="1917720"/>
            <a:chExt cx="3422520" cy="4032360"/>
          </a:xfrm>
        </p:grpSpPr>
        <p:pic>
          <p:nvPicPr>
            <p:cNvPr id="147" name="" descr=""/>
            <p:cNvPicPr/>
            <p:nvPr/>
          </p:nvPicPr>
          <p:blipFill>
            <a:blip r:embed="rId10"/>
            <a:srcRect l="5757" t="15775" r="16821" b="15775"/>
            <a:stretch/>
          </p:blipFill>
          <p:spPr>
            <a:xfrm>
              <a:off x="5580000" y="1917720"/>
              <a:ext cx="3422520" cy="403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6883200" y="5505480"/>
              <a:ext cx="12240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Flavoproteína vegetal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87640" y="3116160"/>
              <a:ext cx="505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AD</a:t>
              </a:r>
              <a:endParaRPr b="1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75F8-E3D7-44E3-8E83-E5F19037704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2T17:16:13Z</dcterms:created>
  <dc:creator>FIDEL CASTRO</dc:creator>
  <dc:description/>
  <dc:language>en-US</dc:language>
  <cp:lastModifiedBy>Bj</cp:lastModifiedBy>
  <dcterms:modified xsi:type="dcterms:W3CDTF">2012-02-04T10:03:40Z</dcterms:modified>
  <cp:revision>2244</cp:revision>
  <dc:subject/>
  <dc:title>Diapositiva 1</dc:title>
</cp:coreProperties>
</file>