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4.jpeg" ContentType="image/jpe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4.png" ContentType="image/png"/>
  <Override PartName="/ppt/media/image11.jpeg" ContentType="image/jpeg"/>
  <Override PartName="/ppt/media/image9.jpeg" ContentType="image/jpeg"/>
  <Override PartName="/ppt/media/image13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2.png" ContentType="image/pn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8280" y="728640"/>
            <a:ext cx="485748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CF19-C5F7-4BB9-A23E-5C7FC01EBB9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F2EB-DEA0-4457-9243-C06444DFFD5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040" y="4614840"/>
            <a:ext cx="5025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768B-21EF-415C-BE5E-C8802D6E325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6BD2-C943-40AE-BD52-8F72A82BAE3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9B9C-D1B9-4B1B-BE33-9FE69DAF1B7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00A1-3F85-41DE-879A-CCFA468A9C5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56E7-68E4-4F08-A694-0A9243170A8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A0F1-2294-48BE-B226-0F02EA8B936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6D66-5369-4B43-A8D9-671FE0F0A8B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D8C4-FAD7-4D83-84CF-8E3A21A6BB5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E50B-4696-4CF3-87CD-FF272A56985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0A2B-0D0B-4A32-8730-6973E836CA2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D811-D6D4-4246-93EB-4A31705C305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08FE-7630-4285-98BB-148C3D36B5C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A708-AAD9-4E95-89F0-1D4C5C270F2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343C-F077-4232-912A-7D1528CEE63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D279-CF22-450D-AE91-8829D1D1896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8EB8-CD88-4935-BDDD-643694C544D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4EBB-4655-42BA-9BED-52CB597DC2E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0C07-07BC-40E1-ADBD-9E4259E0FD0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0352-AE3C-4F80-A38E-8864F4BA7D2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B84E-37D2-41E9-BF03-FD6BAFABE5F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3EB5-6E00-433E-AD24-A09E2033BCC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1311-CF39-47D0-A652-E01F5C8F585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A4AC9-BAFA-4896-953C-62569C54F4F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7F11-2F97-46BD-8C96-8C412E0171A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0B3F-E049-414A-ADBE-C954B299B87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683-F6E9-450D-A9DB-F1B13175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4BB-B159-4367-86F0-C729EF60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0FD-4DD9-4FB7-A171-0B672A5D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0CE-0852-4426-BBAD-88574624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564E-4D66-4325-8EE3-AF3D7DD9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9C3B-DDD1-4E30-8F96-ABAD6766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DAEF-B57D-4418-9766-E8026181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3069-F11F-4AEA-BBB2-53013332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D9F-CF31-411B-90C0-B272E09E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2E7-605B-4B8B-903A-BC302FF7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81E8-383E-4578-97DE-CA9A4B2C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74D-2866-4A97-8A8C-9B809657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87D6-F00D-4E27-89F8-4C341F07E761}" type="datetime">
              <a:rPr b="0" lang="es-ES_tradnl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E744-4375-4009-8572-1EF2E8162D48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755640" y="1197000"/>
            <a:ext cx="8283600" cy="0"/>
          </a:xfrm>
          <a:prstGeom prst="line">
            <a:avLst/>
          </a:prstGeom>
          <a:ln w="1522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50920" y="620640"/>
            <a:ext cx="1800000" cy="597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1800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24000" y="1762200"/>
            <a:ext cx="69850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3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99"/>
                </a:solidFill>
                <a:latin typeface="Arial Black"/>
              </a:rPr>
              <a:t>El ATP Y LA TRANSFERENCIA DE LA ENER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637080" y="4076640"/>
            <a:ext cx="42480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 Black"/>
              </a:rPr>
              <a:t>Prof. F. Castro Carabal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2987640" y="3213000"/>
            <a:ext cx="48243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cc0099"/>
                </a:solidFill>
                <a:latin typeface="Arial Black"/>
              </a:rPr>
              <a:t>TEMA  Nº 9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cc0099"/>
                </a:solidFill>
                <a:latin typeface="Arial Black"/>
              </a:rPr>
              <a:t>UNIDAD I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851280" y="52164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8080"/>
                </a:solidFill>
                <a:latin typeface="Arial Black"/>
              </a:rPr>
              <a:t>Clase IV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3635280" y="6021360"/>
            <a:ext cx="381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cc"/>
                </a:solidFill>
                <a:latin typeface="Arial"/>
              </a:rPr>
              <a:t>27 de Enero de 20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1680" y="671400"/>
            <a:ext cx="171936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16511" t="0" r="17350" b="0"/>
          <a:stretch/>
        </p:blipFill>
        <p:spPr>
          <a:xfrm>
            <a:off x="312840" y="4581360"/>
            <a:ext cx="1660320" cy="1925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24000" y="2709720"/>
            <a:ext cx="1581120" cy="175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048B-8C4B-42C2-848E-33515A6AF34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3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Nucleótidos de flavina </a:t>
            </a:r>
            <a:r>
              <a:rPr b="1" lang="es-VE" sz="2800" spc="-1" strike="noStrike">
                <a:solidFill>
                  <a:srgbClr val="003399"/>
                </a:solidFill>
                <a:latin typeface="Wingdings 3"/>
                <a:ea typeface="Wingdings 3"/>
              </a:rPr>
              <a:t></a:t>
            </a: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 FMN y FA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10237" t="4819" r="56775" b="7663"/>
          <a:stretch/>
        </p:blipFill>
        <p:spPr>
          <a:xfrm>
            <a:off x="2698920" y="1128600"/>
            <a:ext cx="2808000" cy="4930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338560" y="1306440"/>
            <a:ext cx="358560" cy="3024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0 h 3024360"/>
              <a:gd name="textAreaBottom" fmla="*/ 30247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79"/>
                </a:lnTo>
                <a:cubicBezTo>
                  <a:pt x="10800" y="10879"/>
                  <a:pt x="5400" y="10879"/>
                  <a:pt x="0" y="10879"/>
                </a:cubicBezTo>
                <a:cubicBezTo>
                  <a:pt x="5400" y="10879"/>
                  <a:pt x="10800" y="10879"/>
                  <a:pt x="10800" y="1087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4920" y="1306440"/>
            <a:ext cx="287280" cy="4753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0 h 4753080"/>
              <a:gd name="textAreaBottom" fmla="*/ 4753440 h 475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79"/>
                </a:lnTo>
                <a:cubicBezTo>
                  <a:pt x="10800" y="10879"/>
                  <a:pt x="5400" y="10879"/>
                  <a:pt x="0" y="10879"/>
                </a:cubicBezTo>
                <a:cubicBezTo>
                  <a:pt x="5400" y="10879"/>
                  <a:pt x="10800" y="10879"/>
                  <a:pt x="10800" y="1087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90560" y="263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FM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3500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F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22560" y="4295880"/>
            <a:ext cx="863640" cy="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0200" y="4311720"/>
            <a:ext cx="863640" cy="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30920" y="1235160"/>
            <a:ext cx="86328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46360" y="1052640"/>
            <a:ext cx="216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3280" y="109044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6200" y="1090440"/>
            <a:ext cx="289080" cy="936720"/>
          </a:xfrm>
          <a:custGeom>
            <a:avLst/>
            <a:gdLst>
              <a:gd name="textAreaLeft" fmla="*/ 0 w 289080"/>
              <a:gd name="textAreaRight" fmla="*/ 104400 w 2890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45040" y="1432080"/>
            <a:ext cx="147168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00"/>
                </a:solidFill>
                <a:latin typeface="Arial"/>
              </a:rPr>
              <a:t>Anillo 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6600"/>
                </a:solidFill>
                <a:latin typeface="Arial"/>
              </a:rPr>
              <a:t>isoaloxaci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11760" y="2170080"/>
            <a:ext cx="216000" cy="1368360"/>
          </a:xfrm>
          <a:custGeom>
            <a:avLst/>
            <a:gdLst>
              <a:gd name="textAreaLeft" fmla="*/ 0 w 216000"/>
              <a:gd name="textAreaRight" fmla="*/ 78120 w 21600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2744640"/>
            <a:ext cx="1800360" cy="46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00"/>
                </a:solidFill>
                <a:latin typeface="Arial"/>
              </a:rPr>
              <a:t>Ribit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00"/>
                </a:solidFill>
                <a:latin typeface="Arial"/>
              </a:rPr>
              <a:t>(Azúcar-alcoho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6165720"/>
            <a:ext cx="5327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nucleotido de flavina y adenina (FA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y Mononucleotido de flavina (FM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80B-3BBA-4FA4-8FF5-F316CD1229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11079" t="5017" r="0" b="6538"/>
          <a:stretch/>
        </p:blipFill>
        <p:spPr>
          <a:xfrm>
            <a:off x="324000" y="741240"/>
            <a:ext cx="8675640" cy="5712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00000" y="6453360"/>
            <a:ext cx="2232000" cy="28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FMN y FAD oxidad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EB40-F80B-48E1-B851-7202057EB4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1"/>
          <p:cNvSpPr/>
          <p:nvPr/>
        </p:nvSpPr>
        <p:spPr>
          <a:xfrm>
            <a:off x="539640" y="1052640"/>
            <a:ext cx="8604360" cy="52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99"/>
                </a:solidFill>
                <a:latin typeface="Arial"/>
              </a:rPr>
              <a:t>Resumen de las características del FMN y FA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stán unidas a sus proteínas en ciertos caso por fuerzas covalente y no covalentes en otros cas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Sufren su oxidación y reducción reversibles en el anillo de isoaloxacina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Sus formas oxidadas pueden aceptar de 1 o 2 H desde un sustrato reducid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Las formas parcialmente reducidas (con 1 H) se llaman semiquinonas y se abrevian como FMNH• y FADH•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Las formas completamente reducidas se abrevian como FMNH</a:t>
            </a:r>
            <a:r>
              <a:rPr b="0" lang="es-VE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y FADH</a:t>
            </a:r>
            <a:r>
              <a:rPr b="0" lang="es-VE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Dado que transfieren de 1 a 2 H, pueden actuar como intermediarios entre reacciones que donan 2 H y las que aceptan 1 H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318E-739F-4781-A645-7270F3D92DF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3"/>
          <p:cNvSpPr/>
          <p:nvPr/>
        </p:nvSpPr>
        <p:spPr>
          <a:xfrm>
            <a:off x="0" y="404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Proteínas ferro-sulfuradas y sus centr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ferro-sulfurados o centros hierro-azufre (Fe-S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3498" t="2368" r="2081" b="14971"/>
          <a:stretch/>
        </p:blipFill>
        <p:spPr>
          <a:xfrm>
            <a:off x="324000" y="3716280"/>
            <a:ext cx="3166920" cy="2737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2206" t="2787" r="1267" b="11014"/>
          <a:stretch/>
        </p:blipFill>
        <p:spPr>
          <a:xfrm>
            <a:off x="5965920" y="3573360"/>
            <a:ext cx="2927160" cy="3035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300720" y="1844640"/>
            <a:ext cx="93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508720" y="1557000"/>
            <a:ext cx="431640" cy="19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rcRect l="2983" t="0" r="4150" b="9242"/>
          <a:stretch/>
        </p:blipFill>
        <p:spPr>
          <a:xfrm>
            <a:off x="3016080" y="1217520"/>
            <a:ext cx="3140280" cy="28591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580000" y="1271520"/>
            <a:ext cx="72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318280" y="1341000"/>
            <a:ext cx="287280" cy="142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1800" y="198900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013360" y="1491840"/>
            <a:ext cx="276120" cy="104760"/>
          </a:xfrm>
          <a:prstGeom prst="line">
            <a:avLst/>
          </a:prstGeom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84720" y="3284640"/>
            <a:ext cx="64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3284640"/>
            <a:ext cx="79236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77080" y="3284640"/>
            <a:ext cx="79056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CBA4-3C79-4368-BDFD-096AB49102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1"/>
          <p:cNvSpPr/>
          <p:nvPr/>
        </p:nvSpPr>
        <p:spPr>
          <a:xfrm>
            <a:off x="539640" y="1052640"/>
            <a:ext cx="8604360" cy="59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Resumen de las características de los centros Fe-S de las proteínas ferro-sulfurad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n estos centros el Fe no esta en forma de hemo, sino unido a átomos de azufre inorgánico y a los azufre de las cisteínas de la proteín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stos centros pueden existir en tres forma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Forma FeS    </a:t>
            </a:r>
            <a:r>
              <a:rPr b="0" lang="es-VE" sz="18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1 Fe forma un complejo con los azufre de 4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residuos de cisteín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Forma Fe</a:t>
            </a:r>
            <a:r>
              <a:rPr b="0" lang="es-VE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lang="es-VE" sz="1800" spc="-1" strike="noStrike" baseline="-25000">
                <a:solidFill>
                  <a:srgbClr val="000099"/>
                </a:solidFill>
                <a:latin typeface="Arial"/>
              </a:rPr>
              <a:t>2  </a:t>
            </a:r>
            <a:r>
              <a:rPr b="0" lang="es-VE" sz="18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2 Fe, c/u formando un complejo con los azufre de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2 residuos de cisteína y 2 azufre inorgánic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Forma Fe</a:t>
            </a:r>
            <a:r>
              <a:rPr b="0" lang="es-VE" sz="18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lang="es-VE" sz="18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4 Fe, c/u formando un complejo con los azufre de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                        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1 residuos de cisteína y 3 azufre inorgánic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Participan en la transferencia de un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s-VE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a la vez, en las que se oxida o reduce uno de los átomos de F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15280" y="6346800"/>
            <a:ext cx="360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BFFC-82A7-4ABA-BD98-294B04303C9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rcRect l="64352" t="0" r="0" b="57163"/>
          <a:stretch/>
        </p:blipFill>
        <p:spPr>
          <a:xfrm>
            <a:off x="5076720" y="907920"/>
            <a:ext cx="3673440" cy="25974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3"/>
          <p:cNvSpPr/>
          <p:nvPr/>
        </p:nvSpPr>
        <p:spPr>
          <a:xfrm>
            <a:off x="0" y="388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Grupos hemos de los citocrom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rcRect l="0" t="52892" r="42405" b="9855"/>
          <a:stretch/>
        </p:blipFill>
        <p:spPr>
          <a:xfrm>
            <a:off x="2050920" y="4005360"/>
            <a:ext cx="5759640" cy="2192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rcRect l="23027" t="5590" r="42405" b="57163"/>
          <a:stretch/>
        </p:blipFill>
        <p:spPr>
          <a:xfrm>
            <a:off x="826920" y="1247760"/>
            <a:ext cx="3457800" cy="2192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47640" y="5950080"/>
            <a:ext cx="352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emo 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(Presente en citocromos del tipo </a:t>
            </a:r>
            <a:r>
              <a:rPr b="0" i="1" lang="es-ES_tradnl" sz="1600" spc="-1" strike="noStrike">
                <a:solidFill>
                  <a:srgbClr val="006699"/>
                </a:solidFill>
                <a:latin typeface="Arial"/>
              </a:rPr>
              <a:t>a</a:t>
            </a: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83280" y="3505320"/>
            <a:ext cx="3492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emo 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(Presente en citocromos del tipo </a:t>
            </a:r>
            <a:r>
              <a:rPr b="0" i="1" lang="es-ES_tradnl" sz="1600" spc="-1" strike="noStrike">
                <a:solidFill>
                  <a:srgbClr val="006699"/>
                </a:solidFill>
                <a:latin typeface="Arial"/>
              </a:rPr>
              <a:t>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3505320"/>
            <a:ext cx="338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erro-protoporfirina I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(Presente en citocromos del tipo</a:t>
            </a:r>
            <a:r>
              <a:rPr b="0" i="1" lang="es-ES_tradnl" sz="1600" spc="-1" strike="noStrike">
                <a:solidFill>
                  <a:srgbClr val="006699"/>
                </a:solidFill>
                <a:latin typeface="Arial"/>
              </a:rPr>
              <a:t> b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5640" y="475920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la de isopren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7045-D238-43BD-B714-68A66C0B5C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rcRect l="10981" t="0" r="0" b="71935"/>
          <a:stretch/>
        </p:blipFill>
        <p:spPr>
          <a:xfrm>
            <a:off x="395280" y="1484280"/>
            <a:ext cx="4038480" cy="4138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23027" t="5590" r="42405" b="57163"/>
          <a:stretch/>
        </p:blipFill>
        <p:spPr>
          <a:xfrm>
            <a:off x="5437080" y="2387520"/>
            <a:ext cx="2881440" cy="1827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859280" y="4292640"/>
            <a:ext cx="3889440" cy="7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erro-protoporfirina I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99"/>
                </a:solidFill>
                <a:latin typeface="Arial"/>
              </a:rPr>
              <a:t>Presente en citocromos del tipo</a:t>
            </a:r>
            <a:r>
              <a:rPr b="1" i="1" lang="es-ES_tradnl" sz="1800" spc="-1" strike="noStrike">
                <a:solidFill>
                  <a:srgbClr val="006699"/>
                </a:solidFill>
                <a:latin typeface="Arial"/>
              </a:rPr>
              <a:t>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35280" y="5572080"/>
            <a:ext cx="1728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ongitud de on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3600" y="3556080"/>
            <a:ext cx="576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0" y="62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Espectro de absorción de citocromos del tipo </a:t>
            </a:r>
            <a:r>
              <a:rPr b="1" i="1" lang="es-VE" sz="2800" spc="-1" strike="noStrike">
                <a:solidFill>
                  <a:srgbClr val="003399"/>
                </a:solidFill>
                <a:latin typeface="Arial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01BC-FF4F-4F32-830F-5E87B62280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3"/>
          <p:cNvSpPr/>
          <p:nvPr/>
        </p:nvSpPr>
        <p:spPr>
          <a:xfrm>
            <a:off x="0" y="62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Espectro de absorción de citocromos del tipo </a:t>
            </a:r>
            <a:r>
              <a:rPr b="1" i="1" lang="es-VE" sz="2800" spc="-1" strike="noStrike">
                <a:solidFill>
                  <a:srgbClr val="003399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35280" y="5572080"/>
            <a:ext cx="1728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ongitud de on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3600" y="3556080"/>
            <a:ext cx="576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64352" t="0" r="0" b="57163"/>
          <a:stretch/>
        </p:blipFill>
        <p:spPr>
          <a:xfrm>
            <a:off x="5435640" y="2046240"/>
            <a:ext cx="3025800" cy="2139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859280" y="4206960"/>
            <a:ext cx="3960720" cy="7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emo 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99"/>
                </a:solidFill>
                <a:latin typeface="Arial"/>
              </a:rPr>
              <a:t>Presente en citocromos del tipo </a:t>
            </a:r>
            <a:r>
              <a:rPr b="1" i="1" lang="es-ES_tradnl" sz="1800" spc="-1" strike="noStrike">
                <a:solidFill>
                  <a:srgbClr val="006699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rcRect l="11969" t="34364" r="0" b="38637"/>
          <a:stretch/>
        </p:blipFill>
        <p:spPr>
          <a:xfrm>
            <a:off x="495360" y="1692360"/>
            <a:ext cx="3860640" cy="3848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136520" y="3986280"/>
            <a:ext cx="2174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DF25-66D5-4E92-B5D0-525DA493E9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rcRect l="12126" t="68275" r="0" b="4978"/>
          <a:stretch/>
        </p:blipFill>
        <p:spPr>
          <a:xfrm>
            <a:off x="504720" y="1689120"/>
            <a:ext cx="3922920" cy="3878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rcRect l="0" t="52892" r="42405" b="9855"/>
          <a:stretch/>
        </p:blipFill>
        <p:spPr>
          <a:xfrm>
            <a:off x="4356000" y="2276640"/>
            <a:ext cx="4680000" cy="17809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427640" y="4116240"/>
            <a:ext cx="4716360" cy="7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emo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99"/>
                </a:solidFill>
                <a:latin typeface="Arial"/>
              </a:rPr>
              <a:t>Presente en citocromos del tipo </a:t>
            </a:r>
            <a:r>
              <a:rPr b="1" i="1" lang="es-ES_tradnl" sz="1800" spc="-1" strike="noStrike">
                <a:solidFill>
                  <a:srgbClr val="006699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5280" y="5572080"/>
            <a:ext cx="1728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ongitud de on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3600" y="3390840"/>
            <a:ext cx="576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3"/>
          <p:cNvSpPr/>
          <p:nvPr/>
        </p:nvSpPr>
        <p:spPr>
          <a:xfrm>
            <a:off x="0" y="62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Espectro de absorción de citocromos del tipo </a:t>
            </a:r>
            <a:r>
              <a:rPr b="1" i="1" lang="es-VE" sz="2800" spc="-1" strike="noStrike">
                <a:solidFill>
                  <a:srgbClr val="003399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75FB-F4EB-4898-ACF0-4D2BBFD666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1"/>
          <p:cNvSpPr/>
          <p:nvPr/>
        </p:nvSpPr>
        <p:spPr>
          <a:xfrm>
            <a:off x="539640" y="1052640"/>
            <a:ext cx="86043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Resumen de las características de los grupos hemos de los citocrom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Le confieren a los citocromo una fuerte capacidad de absorción de lu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n el espectro visible (400 – 700 nm) debido a su resonanc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xistes 3 tipos de hemos en los citocromos: el hemo C, el hemo A y la ferro-protoporfirina I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Los tres tipos de hemo determinan tres clases de citocromos (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y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) que son  diferenciables por su espectro de absorción de luz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Dentro de cada clase de citocromo existen subclases que se distinguen por diferencias espectrales menor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l átomo de Fe del hemo en los citocromos del tipo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esta asociado a un ion cobre que interviene en la transferencia de los electron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D31A-C057-41C4-A248-FEF8AEF9D22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9640" y="981000"/>
            <a:ext cx="860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1) Analizar el ATP cómo “moneda energética” en los sistemas biológic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2) Revisar conceptos relacionados con las reacciones de oxido-reducción 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su importancia en los procesos de obtención de energía por los organism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3) Estudiar la glicólisis y el ciclo de Krebs como modelos de vías metabólicas generadoras de ATP y de intermediarios para otras vías metabólicas</a:t>
            </a:r>
            <a:r>
              <a:rPr b="1" lang="es-VE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4) Estudiar el mecanismo de transporte de los electrones provenientes de l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reacciones de oxido-reducción biológic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5) Estudiar el mecanismo de síntesis de ATP por fosforilación a nivel 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sustrato y por fosforilación oxidativ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72320" y="476280"/>
            <a:ext cx="52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Objetivos generales del te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34A-61AF-499A-B799-F66404CE6CA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1"/>
          <p:cNvSpPr/>
          <p:nvPr/>
        </p:nvSpPr>
        <p:spPr>
          <a:xfrm>
            <a:off x="539640" y="1052640"/>
            <a:ext cx="8604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3006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Los grupos hemo A y Fe-protorporfirina IX están unidos a su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citocromos (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y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) por fuerzas no covalen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Los grupos hemos C si están unidos covalentemente al citocromo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a través de enlaces tioéter de 2 grupos vinilos y 2 residuos de cisteina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Ciertos citocromos del tipo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son solubles y se unen por fuerzas iónicas a la cara externa de la membrana mitocondrial intern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Los citocromos tienen la capacidad de transportar un electrón cada vez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AE31-82B1-4704-A5F9-273065CA797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1"/>
          <p:cNvSpPr/>
          <p:nvPr/>
        </p:nvSpPr>
        <p:spPr>
          <a:xfrm>
            <a:off x="539640" y="1052640"/>
            <a:ext cx="8604360" cy="51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aracterísticas de los componentes de la cadena respirato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Complejo I (NADH deshidrogenasa 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NADH-ubiquinona oxido-rreductasa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Complejo II (Succinato deshidrogenas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Ubiquinona (Coenzima Q o Q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Complejo III (Complejo citocromo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bc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Ubiquinona-citocromo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 c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oxidorrreductas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Citocromo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 c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(No es un complej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Complejo IV  (Citocromo oxidas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8"/>
          <a:srcRect l="0" t="0" r="43254" b="0"/>
          <a:stretch/>
        </p:blipFill>
        <p:spPr>
          <a:xfrm>
            <a:off x="5548320" y="1916280"/>
            <a:ext cx="3085920" cy="4321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cc0066">
                <a:alpha val="5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EE2D-6CC4-4214-9864-D5BFFDA29A6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1"/>
          <p:cNvSpPr/>
          <p:nvPr/>
        </p:nvSpPr>
        <p:spPr>
          <a:xfrm>
            <a:off x="539640" y="1052640"/>
            <a:ext cx="86043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aracterísticas del complejo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s también llamado NADH deshidrogenasa o NADH-ubiquinona oxido- rreductas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sta formado por 42 subunidades diferentes. Una es una flavoproteína con un FMN, y como mínimo 6 centros ferro-sulfurad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Tiene forma de “L” con un brazo de la L hacia la membrana y el otro hacia la matriz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Recibe los iones hidruros transportados por los NADH + H</a:t>
            </a:r>
            <a:r>
              <a:rPr b="0" lang="es-VE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generados en las diversas reacciones de oxidación y forma NAD</a:t>
            </a:r>
            <a:r>
              <a:rPr b="0" lang="es-VE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Cataliza de forma acoplada la transferencia exergónica de un ion hidruro del NADH y un H* hacia la ubiquinona y la transferencia endergónica de protones desde la matriz el hacia espacio intermembran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A4D7-B893-40EE-B7E5-00C97EB5666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3"/>
          <p:cNvSpPr/>
          <p:nvPr/>
        </p:nvSpPr>
        <p:spPr>
          <a:xfrm>
            <a:off x="0" y="62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Complejo I (NADH deshidrogenas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052720" y="1407960"/>
            <a:ext cx="5688000" cy="43149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064200" y="4059360"/>
            <a:ext cx="2540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triz mitocondr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0360" y="1959120"/>
            <a:ext cx="254016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pacio intermembra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1844640"/>
            <a:ext cx="1295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9080" y="2205000"/>
            <a:ext cx="4330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49920" y="4525920"/>
            <a:ext cx="801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2 H</a:t>
            </a:r>
            <a:r>
              <a:rPr b="1" lang="en-US" sz="1800" spc="-1" strike="noStrike" baseline="30000">
                <a:solidFill>
                  <a:srgbClr val="cc0066"/>
                </a:solidFill>
                <a:latin typeface="Arial"/>
              </a:rPr>
              <a:t>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08720" y="1371600"/>
            <a:ext cx="560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cc0066"/>
                </a:solidFill>
                <a:latin typeface="Arial"/>
              </a:rPr>
              <a:t>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19320" y="4005360"/>
            <a:ext cx="863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22360" y="4292640"/>
            <a:ext cx="72072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2852640"/>
            <a:ext cx="12956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rana mitocond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06560" y="2637000"/>
            <a:ext cx="289080" cy="1296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360 h 1296720"/>
              <a:gd name="textAreaBottom" fmla="*/ 12963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"/>
                  <a:pt x="10800" y="31"/>
                </a:cubicBezTo>
                <a:lnTo>
                  <a:pt x="10800" y="10769"/>
                </a:lnTo>
                <a:cubicBezTo>
                  <a:pt x="10800" y="10785"/>
                  <a:pt x="5400" y="10800"/>
                  <a:pt x="0" y="10800"/>
                </a:cubicBezTo>
                <a:cubicBezTo>
                  <a:pt x="5400" y="10800"/>
                  <a:pt x="10800" y="10816"/>
                  <a:pt x="10800" y="10831"/>
                </a:cubicBezTo>
                <a:lnTo>
                  <a:pt x="10800" y="21569"/>
                </a:lnTo>
                <a:cubicBezTo>
                  <a:pt x="10800" y="2158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732720" y="234792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efe1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64160" y="2401920"/>
            <a:ext cx="1942920" cy="108000"/>
          </a:xfrm>
          <a:custGeom>
            <a:avLst/>
            <a:gdLst/>
            <a:ahLst/>
            <a:rect l="l" t="t" r="r" b="b"/>
            <a:pathLst>
              <a:path w="1247" h="159">
                <a:moveTo>
                  <a:pt x="1247" y="23"/>
                </a:moveTo>
                <a:cubicBezTo>
                  <a:pt x="827" y="11"/>
                  <a:pt x="408" y="0"/>
                  <a:pt x="204" y="23"/>
                </a:cubicBezTo>
                <a:cubicBezTo>
                  <a:pt x="0" y="46"/>
                  <a:pt x="53" y="136"/>
                  <a:pt x="23" y="15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08440" y="251136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3284640"/>
            <a:ext cx="122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9675-0BAC-40DD-83C2-B559B6A434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1"/>
          <p:cNvSpPr/>
          <p:nvPr/>
        </p:nvSpPr>
        <p:spPr>
          <a:xfrm>
            <a:off x="539640" y="1052640"/>
            <a:ext cx="8604360" cy="51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aracterísticas del complejo I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s también llamado succinato deshidrogenas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s la única enzima del ciclo de Krebs que a su vez es parte de 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cadena respirator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Posee como mínimo 4 tipos diferentes de proteínas, las cuales están  organizadas en cinco subunidade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Posee dos tipos de grupos prostetico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Un FAD unido covalentemente a la enzim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Dos centros ferro-sulfurados (F</a:t>
            </a:r>
            <a:r>
              <a:rPr b="0" lang="es-VE" sz="18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lang="es-VE" sz="18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Los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s-VE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pasan desde el succinato (provenientes del ciclo de Krebs) a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FAD y luego a los centros ferro-sulfurados y de allí a la ubiquinon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1CB-70D2-4CC5-AB2A-5D1B9EFBA33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3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Complejo II (Succinato deshidrogenas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89440" y="2205000"/>
            <a:ext cx="4330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73080" y="2060640"/>
            <a:ext cx="1295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rana mitocond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5640" y="2060640"/>
            <a:ext cx="288720" cy="863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360 h 863640"/>
              <a:gd name="textAreaBottom" fmla="*/ 86328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"/>
                  <a:pt x="10800" y="31"/>
                </a:cubicBezTo>
                <a:lnTo>
                  <a:pt x="10800" y="10769"/>
                </a:lnTo>
                <a:cubicBezTo>
                  <a:pt x="10800" y="10785"/>
                  <a:pt x="5400" y="10800"/>
                  <a:pt x="0" y="10800"/>
                </a:cubicBezTo>
                <a:cubicBezTo>
                  <a:pt x="5400" y="10800"/>
                  <a:pt x="10800" y="10816"/>
                  <a:pt x="10800" y="10831"/>
                </a:cubicBezTo>
                <a:lnTo>
                  <a:pt x="10800" y="21569"/>
                </a:lnTo>
                <a:cubicBezTo>
                  <a:pt x="10800" y="2158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rcRect l="0" t="12437" r="0" b="0"/>
          <a:stretch/>
        </p:blipFill>
        <p:spPr>
          <a:xfrm>
            <a:off x="2411280" y="1509840"/>
            <a:ext cx="5473800" cy="51591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227640" y="2836800"/>
            <a:ext cx="1729080" cy="39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32360" y="4653000"/>
            <a:ext cx="1512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24360" y="3573360"/>
            <a:ext cx="720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48360" y="2565360"/>
            <a:ext cx="2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rcRect l="87013" t="29682" r="6586" b="64773"/>
          <a:stretch/>
        </p:blipFill>
        <p:spPr>
          <a:xfrm>
            <a:off x="6877080" y="2503440"/>
            <a:ext cx="350640" cy="3272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683240" y="1341360"/>
            <a:ext cx="3168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96000" y="1700280"/>
            <a:ext cx="1152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rcRect l="88170" t="20575" r="6586" b="74635"/>
          <a:stretch/>
        </p:blipFill>
        <p:spPr>
          <a:xfrm>
            <a:off x="5791320" y="1994040"/>
            <a:ext cx="287280" cy="2826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rcRect l="88170" t="20575" r="6586" b="74635"/>
          <a:stretch/>
        </p:blipFill>
        <p:spPr>
          <a:xfrm>
            <a:off x="6080040" y="1994040"/>
            <a:ext cx="287280" cy="2826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rcRect l="88170" t="20575" r="6586" b="74635"/>
          <a:stretch/>
        </p:blipFill>
        <p:spPr>
          <a:xfrm>
            <a:off x="6372360" y="1989000"/>
            <a:ext cx="287280" cy="2826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rcRect l="88170" t="20575" r="6586" b="74635"/>
          <a:stretch/>
        </p:blipFill>
        <p:spPr>
          <a:xfrm>
            <a:off x="6661080" y="1994040"/>
            <a:ext cx="287280" cy="2826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411280" y="4653000"/>
            <a:ext cx="10810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1268280"/>
            <a:ext cx="2540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Espacio intermembra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58920" y="443700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Matriz mitocondr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64320" y="29988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66"/>
                </a:solidFill>
                <a:latin typeface="Arial"/>
              </a:rPr>
              <a:t>Complejo I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227640" y="3213000"/>
            <a:ext cx="43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F2A-AB87-4F6E-9151-1C339AEEE3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3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Complejo II (Succinato deshidrogenas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89440" y="2205000"/>
            <a:ext cx="4330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73080" y="2060640"/>
            <a:ext cx="1295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rana mitocond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95640" y="2060640"/>
            <a:ext cx="288720" cy="863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360 h 863640"/>
              <a:gd name="textAreaBottom" fmla="*/ 86328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"/>
                  <a:pt x="10800" y="31"/>
                </a:cubicBezTo>
                <a:lnTo>
                  <a:pt x="10800" y="10769"/>
                </a:lnTo>
                <a:cubicBezTo>
                  <a:pt x="10800" y="10785"/>
                  <a:pt x="5400" y="10800"/>
                  <a:pt x="0" y="10800"/>
                </a:cubicBezTo>
                <a:cubicBezTo>
                  <a:pt x="5400" y="10800"/>
                  <a:pt x="10800" y="10816"/>
                  <a:pt x="10800" y="10831"/>
                </a:cubicBezTo>
                <a:lnTo>
                  <a:pt x="10800" y="21569"/>
                </a:lnTo>
                <a:cubicBezTo>
                  <a:pt x="10800" y="2158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0" t="12437" r="0" b="0"/>
          <a:stretch/>
        </p:blipFill>
        <p:spPr>
          <a:xfrm>
            <a:off x="2411280" y="1509840"/>
            <a:ext cx="5473800" cy="51591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227640" y="2836800"/>
            <a:ext cx="1729080" cy="39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32360" y="4653000"/>
            <a:ext cx="1512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24360" y="3573360"/>
            <a:ext cx="720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948360" y="2565360"/>
            <a:ext cx="2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rcRect l="87013" t="29682" r="6586" b="64773"/>
          <a:stretch/>
        </p:blipFill>
        <p:spPr>
          <a:xfrm>
            <a:off x="6877080" y="2503440"/>
            <a:ext cx="350640" cy="3272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116000" y="1268280"/>
            <a:ext cx="2540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Espacio intermembra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11280" y="4653000"/>
            <a:ext cx="10810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58920" y="443700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Matriz mitocondr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311720" y="1197000"/>
            <a:ext cx="12952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icerol 3-P (citosólic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052640"/>
            <a:ext cx="1800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icerol 3-P deshidrogenas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7B66-518B-4BC5-B29A-ED5F651D4BD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3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Complejo II (Succinato deshidrogenas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89440" y="2205000"/>
            <a:ext cx="4330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3080" y="2060640"/>
            <a:ext cx="1295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rana mitocond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95640" y="2060640"/>
            <a:ext cx="288720" cy="863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360 h 863640"/>
              <a:gd name="textAreaBottom" fmla="*/ 86328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"/>
                  <a:pt x="10800" y="31"/>
                </a:cubicBezTo>
                <a:lnTo>
                  <a:pt x="10800" y="10769"/>
                </a:lnTo>
                <a:cubicBezTo>
                  <a:pt x="10800" y="10785"/>
                  <a:pt x="5400" y="10800"/>
                  <a:pt x="0" y="10800"/>
                </a:cubicBezTo>
                <a:cubicBezTo>
                  <a:pt x="5400" y="10800"/>
                  <a:pt x="10800" y="10816"/>
                  <a:pt x="10800" y="10831"/>
                </a:cubicBezTo>
                <a:lnTo>
                  <a:pt x="10800" y="21569"/>
                </a:lnTo>
                <a:cubicBezTo>
                  <a:pt x="10800" y="2158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rcRect l="0" t="12437" r="0" b="0"/>
          <a:stretch/>
        </p:blipFill>
        <p:spPr>
          <a:xfrm>
            <a:off x="2411280" y="1509840"/>
            <a:ext cx="5473800" cy="51591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116000" y="1268280"/>
            <a:ext cx="2540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Espacio intermembra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11280" y="4653000"/>
            <a:ext cx="10810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443700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Matriz mitocondr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11720" y="1197000"/>
            <a:ext cx="12952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icerol 3-P (citosólic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00720" y="1052640"/>
            <a:ext cx="1800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icerol 3-P deshidrogenas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49E0-83A1-455B-B252-FC1AD2DE4E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3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Complejo II (Succinato deshidrogenas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89440" y="2205000"/>
            <a:ext cx="4330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73080" y="2060640"/>
            <a:ext cx="1295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rana mitocond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195640" y="2060640"/>
            <a:ext cx="288720" cy="863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360 h 863640"/>
              <a:gd name="textAreaBottom" fmla="*/ 86328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"/>
                  <a:pt x="10800" y="31"/>
                </a:cubicBezTo>
                <a:lnTo>
                  <a:pt x="10800" y="10769"/>
                </a:lnTo>
                <a:cubicBezTo>
                  <a:pt x="10800" y="10785"/>
                  <a:pt x="5400" y="10800"/>
                  <a:pt x="0" y="10800"/>
                </a:cubicBezTo>
                <a:cubicBezTo>
                  <a:pt x="5400" y="10800"/>
                  <a:pt x="10800" y="10816"/>
                  <a:pt x="10800" y="10831"/>
                </a:cubicBezTo>
                <a:lnTo>
                  <a:pt x="10800" y="21569"/>
                </a:lnTo>
                <a:cubicBezTo>
                  <a:pt x="10800" y="2158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rcRect l="0" t="12437" r="0" b="0"/>
          <a:stretch/>
        </p:blipFill>
        <p:spPr>
          <a:xfrm>
            <a:off x="2411280" y="1509840"/>
            <a:ext cx="5473800" cy="51591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227640" y="2836800"/>
            <a:ext cx="1729080" cy="39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32360" y="4653000"/>
            <a:ext cx="1512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24360" y="3573360"/>
            <a:ext cx="720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948360" y="2565360"/>
            <a:ext cx="2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rcRect l="87013" t="29682" r="6586" b="64773"/>
          <a:stretch/>
        </p:blipFill>
        <p:spPr>
          <a:xfrm>
            <a:off x="6877080" y="2503440"/>
            <a:ext cx="350640" cy="327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4683240" y="1341360"/>
            <a:ext cx="3168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96000" y="1700280"/>
            <a:ext cx="1152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rcRect l="88170" t="20575" r="6586" b="74635"/>
          <a:stretch/>
        </p:blipFill>
        <p:spPr>
          <a:xfrm>
            <a:off x="5791320" y="1994040"/>
            <a:ext cx="287280" cy="2826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rcRect l="88170" t="20575" r="6586" b="74635"/>
          <a:stretch/>
        </p:blipFill>
        <p:spPr>
          <a:xfrm>
            <a:off x="6080040" y="1994040"/>
            <a:ext cx="287280" cy="2826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rcRect l="88170" t="20575" r="6586" b="74635"/>
          <a:stretch/>
        </p:blipFill>
        <p:spPr>
          <a:xfrm>
            <a:off x="6372360" y="1989000"/>
            <a:ext cx="287280" cy="2826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6"/>
          <a:srcRect l="88170" t="20575" r="6586" b="74635"/>
          <a:stretch/>
        </p:blipFill>
        <p:spPr>
          <a:xfrm>
            <a:off x="6661080" y="1994040"/>
            <a:ext cx="287280" cy="2826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2411280" y="4653000"/>
            <a:ext cx="10810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16000" y="1268280"/>
            <a:ext cx="2540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Espacio intermembra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58920" y="443700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Matriz mitocondr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3"/>
          <p:cNvSpPr/>
          <p:nvPr/>
        </p:nvSpPr>
        <p:spPr>
          <a:xfrm>
            <a:off x="0" y="544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66"/>
                </a:solidFill>
                <a:latin typeface="Arial"/>
              </a:rPr>
              <a:t>RESUM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64320" y="299880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66"/>
                </a:solidFill>
                <a:latin typeface="Arial"/>
              </a:rPr>
              <a:t>Complejo I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6227640" y="3213000"/>
            <a:ext cx="43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5E27-1BB1-4814-8230-6017DAE643B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1"/>
          <p:cNvSpPr/>
          <p:nvPr/>
        </p:nvSpPr>
        <p:spPr>
          <a:xfrm>
            <a:off x="539640" y="1052640"/>
            <a:ext cx="8604360" cy="43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aracterísticas de la ubiquinona (ó coenzima Q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s una benzoquinona liposoluble que posee una larga cadena lateral isopreno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Tiene por función el transporte de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s-VE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  <a:ea typeface="Arial"/>
              </a:rPr>
              <a:t> entre miembros de la cadena respiratoria y entre otros transportadores presentes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n la membrana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Puede aceptar un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s-VE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y transformarse en el radical semiquinona (QH</a:t>
            </a:r>
            <a:r>
              <a:rPr b="0" lang="ar-SA" sz="1800" spc="-1" strike="noStrike" baseline="30000">
                <a:solidFill>
                  <a:srgbClr val="000099"/>
                </a:solidFill>
                <a:latin typeface="Wingdings 2"/>
                <a:ea typeface="Wingdings 2"/>
              </a:rPr>
              <a:t>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   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o 2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e</a:t>
            </a:r>
            <a:r>
              <a:rPr b="0" i="1" lang="es-ES_tradnl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 formando el ubiquinol (QH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Arial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Al igual que las flavoproteínas transportadoras, la ubiquinona puede actuar como puente entre un donador de 2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e</a:t>
            </a:r>
            <a:r>
              <a:rPr b="0" i="1" lang="es-ES_tradnl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 y un aceptor de 1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e</a:t>
            </a:r>
            <a:r>
              <a:rPr b="0" i="1" lang="es-ES_tradnl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D0B-F2F2-4362-B1B3-413EED340FC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3"/>
          <p:cNvSpPr/>
          <p:nvPr/>
        </p:nvSpPr>
        <p:spPr>
          <a:xfrm>
            <a:off x="0" y="1268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99"/>
                </a:solidFill>
                <a:latin typeface="Arial"/>
              </a:rPr>
              <a:t>Cadena de transporte de electrones (</a:t>
            </a:r>
            <a:r>
              <a:rPr b="1" i="1" lang="es-VE" sz="3200" spc="-1" strike="noStrike">
                <a:solidFill>
                  <a:srgbClr val="000099"/>
                </a:solidFill>
                <a:latin typeface="Arial"/>
              </a:rPr>
              <a:t>e-</a:t>
            </a:r>
            <a:r>
              <a:rPr b="1" lang="es-VE" sz="32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1917720"/>
            <a:ext cx="5616720" cy="373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ACA5-8343-44F4-82EE-DC577CF96D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2771640" y="1125360"/>
            <a:ext cx="4104000" cy="535176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23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Estructura y función de la ubiquino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48360" y="1773360"/>
            <a:ext cx="2736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66"/>
                </a:solidFill>
                <a:latin typeface="Arial"/>
              </a:rPr>
              <a:t>Ubiquinona (Q) Completamente oxida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48360" y="3645000"/>
            <a:ext cx="2736720" cy="63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66"/>
                </a:solidFill>
                <a:latin typeface="Arial"/>
              </a:rPr>
              <a:t>Radical semiquinona (QH</a:t>
            </a:r>
            <a:r>
              <a:rPr b="1" lang="es-ES_tradnl" sz="1400" spc="-1" strike="noStrike" baseline="30000">
                <a:solidFill>
                  <a:srgbClr val="cc0066"/>
                </a:solidFill>
                <a:latin typeface="Wingdings 2"/>
                <a:ea typeface="Wingdings 2"/>
              </a:rPr>
              <a:t></a:t>
            </a:r>
            <a:r>
              <a:rPr b="1" lang="es-ES_tradnl" sz="1400" spc="-1" strike="noStrike">
                <a:solidFill>
                  <a:srgbClr val="cc0066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76720" y="5516640"/>
            <a:ext cx="27370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66"/>
                </a:solidFill>
                <a:latin typeface="Arial"/>
              </a:rPr>
              <a:t>Ubiquinol (QH</a:t>
            </a:r>
            <a:r>
              <a:rPr b="1" lang="es-ES_tradnl" sz="1400" spc="-1" strike="noStrike" baseline="-25000">
                <a:solidFill>
                  <a:srgbClr val="cc0066"/>
                </a:solidFill>
                <a:latin typeface="Arial"/>
              </a:rPr>
              <a:t>2</a:t>
            </a:r>
            <a:r>
              <a:rPr b="1" lang="es-ES_tradnl" sz="1400" spc="-1" strike="noStrike">
                <a:solidFill>
                  <a:srgbClr val="cc0066"/>
                </a:solidFill>
                <a:latin typeface="Arial"/>
              </a:rPr>
              <a:t>) Completamente reduci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9F4-5EDA-4D11-8248-4F64A3FCB30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1"/>
          <p:cNvSpPr/>
          <p:nvPr/>
        </p:nvSpPr>
        <p:spPr>
          <a:xfrm>
            <a:off x="539640" y="1052640"/>
            <a:ext cx="8604360" cy="41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aracterísticas del complejo II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s también llamado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Complejo citocromo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bc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1 o Ubiquinona-citocromo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 c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oxidorreductas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sta formado por 2 dimeros c/u formado por 11 subunidades idéntic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Transfiere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 e</a:t>
            </a:r>
            <a:r>
              <a:rPr b="0" lang="es-ES_tradnl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desde el QH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al citocromo c en simultaneo al transporte de protones desde la matriz al espacio intermembran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l citocromo c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y la proteína ferro-sulfarada se proyectan hacia la superficie de la membrana interna interactuando con el citocromo 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Presenta dos sitios de unión a la ubiquinona (Q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Arial"/>
              </a:rPr>
              <a:t>P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y Q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D94D-DB36-43E0-BE48-9265A0993B2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3"/>
          <p:cNvSpPr/>
          <p:nvPr/>
        </p:nvSpPr>
        <p:spPr>
          <a:xfrm>
            <a:off x="0" y="40464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Complejo III (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omplejo citocromo </a:t>
            </a:r>
            <a:r>
              <a:rPr b="1" i="1" lang="es-ES_tradnl" sz="2800" spc="-1" strike="noStrike">
                <a:solidFill>
                  <a:srgbClr val="333399"/>
                </a:solidFill>
                <a:latin typeface="Arial"/>
              </a:rPr>
              <a:t>bc</a:t>
            </a:r>
            <a:r>
              <a:rPr b="1" lang="es-ES_tradnl" sz="2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 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Ubiquinona-citocromo</a:t>
            </a:r>
            <a:r>
              <a:rPr b="1" i="1" lang="es-ES_tradnl" sz="2800" spc="-1" strike="noStrike">
                <a:solidFill>
                  <a:srgbClr val="333399"/>
                </a:solidFill>
                <a:latin typeface="Arial"/>
              </a:rPr>
              <a:t> c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oxidorreductasa</a:t>
            </a: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rcRect l="0" t="0" r="0" b="8788"/>
          <a:stretch/>
        </p:blipFill>
        <p:spPr>
          <a:xfrm>
            <a:off x="2103480" y="2038320"/>
            <a:ext cx="5226120" cy="38386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826920" y="5877000"/>
            <a:ext cx="2540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Matriz mitocondr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71640" y="1557360"/>
            <a:ext cx="253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Espacio intermembra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95440" y="3481560"/>
            <a:ext cx="1295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embrana mitocond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ter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73080" y="3260880"/>
            <a:ext cx="289080" cy="1296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360 h 1296720"/>
              <a:gd name="textAreaBottom" fmla="*/ 12963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"/>
                  <a:pt x="10800" y="31"/>
                </a:cubicBezTo>
                <a:lnTo>
                  <a:pt x="10800" y="10769"/>
                </a:lnTo>
                <a:cubicBezTo>
                  <a:pt x="10800" y="10785"/>
                  <a:pt x="5400" y="10800"/>
                  <a:pt x="0" y="10800"/>
                </a:cubicBezTo>
                <a:cubicBezTo>
                  <a:pt x="5400" y="10800"/>
                  <a:pt x="10800" y="10816"/>
                  <a:pt x="10800" y="10831"/>
                </a:cubicBezTo>
                <a:lnTo>
                  <a:pt x="10800" y="21569"/>
                </a:lnTo>
                <a:cubicBezTo>
                  <a:pt x="10800" y="2158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13200" y="2413080"/>
            <a:ext cx="3492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eína ferro-sulfurad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00560" y="1913040"/>
            <a:ext cx="428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itocromo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(no forma parte de este complej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195640" y="2398680"/>
            <a:ext cx="14396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itocromo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92720" y="4630680"/>
            <a:ext cx="1224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56360" y="2757600"/>
            <a:ext cx="122400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661080" y="4917960"/>
            <a:ext cx="1656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onomero 2 de 11 subunidad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6227280" y="52070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4970520"/>
            <a:ext cx="1656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onomero 1 de 11 subunidad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11280" y="52783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Arial"/>
              </a:rPr>
              <a:t>Unidad dimerica funcio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0800-F562-41CC-9E93-140322C2773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1"/>
          <p:cNvSpPr/>
          <p:nvPr/>
        </p:nvSpPr>
        <p:spPr>
          <a:xfrm>
            <a:off x="539640" y="1052640"/>
            <a:ext cx="860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aracterísticas del citocromo 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s una proteína monomérica  independiente y no forman parte de ningún complejo de la cadena respirator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Son solubles y están presentes en la cara externa de la membrana mitocondrial interna, unidas por interacciones iónic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Su función es transferir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s-VE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desplazándose desde el complejo III hacia el complejo IV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Solo tiene la capacidad de transportar un electrón cada vez a través de su único grupo hem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DB29-B863-4E8E-8B51-0395C327F7D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3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Citocromo c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103480" y="2038320"/>
            <a:ext cx="5226120" cy="42084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547640" y="5925960"/>
            <a:ext cx="2540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Matriz mitocondr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47640" y="1557360"/>
            <a:ext cx="2540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Espacio intermembra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95440" y="3481560"/>
            <a:ext cx="1295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embrana mitocond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ter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73080" y="3260880"/>
            <a:ext cx="289080" cy="1296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360 h 1296720"/>
              <a:gd name="textAreaBottom" fmla="*/ 12963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"/>
                  <a:pt x="10800" y="31"/>
                </a:cubicBezTo>
                <a:lnTo>
                  <a:pt x="10800" y="10769"/>
                </a:lnTo>
                <a:cubicBezTo>
                  <a:pt x="10800" y="10785"/>
                  <a:pt x="5400" y="10800"/>
                  <a:pt x="0" y="10800"/>
                </a:cubicBezTo>
                <a:cubicBezTo>
                  <a:pt x="5400" y="10800"/>
                  <a:pt x="10800" y="10816"/>
                  <a:pt x="10800" y="10831"/>
                </a:cubicBezTo>
                <a:lnTo>
                  <a:pt x="10800" y="21569"/>
                </a:lnTo>
                <a:cubicBezTo>
                  <a:pt x="10800" y="2158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13200" y="2413080"/>
            <a:ext cx="3492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teína ferro-sulfurada de Riesk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00560" y="1913040"/>
            <a:ext cx="171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tocromo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95640" y="2398680"/>
            <a:ext cx="14396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itocromo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92720" y="4630680"/>
            <a:ext cx="1224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56360" y="2757600"/>
            <a:ext cx="122400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3214200">
            <a:off x="3708720" y="2275560"/>
            <a:ext cx="1008000" cy="1009800"/>
          </a:xfrm>
          <a:prstGeom prst="blockArc">
            <a:avLst>
              <a:gd name="adj1" fmla="val 7743810"/>
              <a:gd name="adj2" fmla="val 3056190"/>
              <a:gd name="adj3" fmla="val 847"/>
            </a:avLst>
          </a:prstGeom>
          <a:solidFill>
            <a:srgbClr val="bbe0e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195640" y="2060640"/>
            <a:ext cx="1439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rupo hem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564000" y="2276640"/>
            <a:ext cx="57636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B185-97C6-47B6-9094-4BD8E1C3A4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1"/>
          <p:cNvSpPr/>
          <p:nvPr/>
        </p:nvSpPr>
        <p:spPr>
          <a:xfrm>
            <a:off x="539640" y="1052640"/>
            <a:ext cx="8604360" cy="45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aracterísticas del complejo I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s también llamado citocromo oxidas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Transporta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s-VE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desde el citocromo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al O</a:t>
            </a:r>
            <a:r>
              <a:rPr b="0" lang="es-VE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reduciéndolo para formar H</a:t>
            </a:r>
            <a:r>
              <a:rPr b="0" lang="es-VE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También produce el bombeo de protones desde la matriz al espacio intermembran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l complejo está formado por 3 subunidades esenciales (I, II y III)  para su funció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Tales subunidades son las que poseen los grupos hemos y los iones cobre (Cu) que interviene en la transferencia de los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s-VE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al O</a:t>
            </a:r>
            <a:r>
              <a:rPr b="0" lang="es-VE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9C2-9916-4326-BEEE-57D477A4519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2671920" y="1173240"/>
            <a:ext cx="4852800" cy="53514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23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Complejo IV (Citocromo oxidasa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63560" y="5589720"/>
            <a:ext cx="2016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Matriz mitocondr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878120" y="1039680"/>
            <a:ext cx="244764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Espacio intermembra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71720" y="3481560"/>
            <a:ext cx="1295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embrana mitocond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ter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36840" y="2765520"/>
            <a:ext cx="334800" cy="1979640"/>
          </a:xfrm>
          <a:custGeom>
            <a:avLst/>
            <a:gdLst>
              <a:gd name="textAreaLeft" fmla="*/ 213840 w 334800"/>
              <a:gd name="textAreaRight" fmla="*/ 335160 w 334800"/>
              <a:gd name="textAreaTop" fmla="*/ 720 h 1979640"/>
              <a:gd name="textAreaBottom" fmla="*/ 1978920 h 19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"/>
                  <a:pt x="10800" y="31"/>
                </a:cubicBezTo>
                <a:lnTo>
                  <a:pt x="10800" y="10769"/>
                </a:lnTo>
                <a:cubicBezTo>
                  <a:pt x="10800" y="10785"/>
                  <a:pt x="5400" y="10800"/>
                  <a:pt x="0" y="10800"/>
                </a:cubicBezTo>
                <a:cubicBezTo>
                  <a:pt x="5400" y="10800"/>
                  <a:pt x="10800" y="10816"/>
                  <a:pt x="10800" y="10831"/>
                </a:cubicBezTo>
                <a:lnTo>
                  <a:pt x="10800" y="21569"/>
                </a:lnTo>
                <a:cubicBezTo>
                  <a:pt x="10800" y="2158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671920" y="1413000"/>
            <a:ext cx="1008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488280" y="5877000"/>
            <a:ext cx="1008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71920" y="6237360"/>
            <a:ext cx="122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ombead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92640" y="6200640"/>
            <a:ext cx="1223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ustrat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175280" y="1308240"/>
            <a:ext cx="287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20120" y="3429000"/>
            <a:ext cx="1224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ubunidades núcleo del complej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95800" y="1676520"/>
            <a:ext cx="1079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entro bicuclea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59640" y="1052640"/>
            <a:ext cx="1944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ínas periféric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 complej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6300720" y="1341360"/>
            <a:ext cx="50328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57800" y="2133720"/>
            <a:ext cx="358920" cy="2950920"/>
          </a:xfrm>
          <a:custGeom>
            <a:avLst/>
            <a:gdLst>
              <a:gd name="textAreaLeft" fmla="*/ 0 w 358920"/>
              <a:gd name="textAreaRight" fmla="*/ 129600 w 358920"/>
              <a:gd name="textAreaTop" fmla="*/ 0 h 2950920"/>
              <a:gd name="textAreaBottom" fmla="*/ 2951280 h 29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372360" y="360684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767120" y="1125360"/>
            <a:ext cx="560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cc0066"/>
                </a:solidFill>
                <a:latin typeface="Arial"/>
              </a:rPr>
              <a:t>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716360" y="5897520"/>
            <a:ext cx="560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cc0066"/>
                </a:solidFill>
                <a:latin typeface="Arial"/>
              </a:rPr>
              <a:t>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8000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087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75B6-40DE-4331-A8EC-2FB727A7E6A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rcRect l="3611" t="12922" r="1915" b="21940"/>
          <a:stretch/>
        </p:blipFill>
        <p:spPr>
          <a:xfrm>
            <a:off x="289080" y="2516040"/>
            <a:ext cx="8675640" cy="25210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3274920" y="208440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pacio intermembra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635280" y="554040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triz mitocondr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3080" y="5037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ADH + H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NA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059280" y="5037120"/>
            <a:ext cx="194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uccinato       Fumara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32720" y="4821120"/>
            <a:ext cx="151128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+  2H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0920" y="2373480"/>
            <a:ext cx="1008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7273800" y="3413160"/>
            <a:ext cx="289080" cy="144360"/>
            <a:chOff x="7273800" y="3413160"/>
            <a:chExt cx="289080" cy="144360"/>
          </a:xfrm>
        </p:grpSpPr>
        <p:sp>
          <p:nvSpPr>
            <p:cNvPr id="389" name=""/>
            <p:cNvSpPr/>
            <p:nvPr/>
          </p:nvSpPr>
          <p:spPr>
            <a:xfrm>
              <a:off x="7273800" y="3413160"/>
              <a:ext cx="289080" cy="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7273800" y="3557520"/>
              <a:ext cx="257040" cy="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2484360" y="287640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embrana mitocondrial inter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32000" y="30924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37080" y="35766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efe1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480440" y="2778120"/>
            <a:ext cx="538200" cy="539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19280" y="4065480"/>
            <a:ext cx="288720" cy="289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84720" y="3614760"/>
            <a:ext cx="289080" cy="289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09080" y="3579840"/>
            <a:ext cx="288720" cy="288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17840" y="4299120"/>
            <a:ext cx="289080" cy="288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3"/>
          <p:cNvSpPr/>
          <p:nvPr/>
        </p:nvSpPr>
        <p:spPr>
          <a:xfrm>
            <a:off x="0" y="404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Resumen del fluj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de e</a:t>
            </a:r>
            <a:r>
              <a:rPr b="1" lang="es-VE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1" lang="es-VE" sz="28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y protones a través de la cade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1D7-2955-4770-B8C5-06AE5897993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1"/>
          <p:cNvSpPr/>
          <p:nvPr/>
        </p:nvSpPr>
        <p:spPr>
          <a:xfrm>
            <a:off x="539640" y="1052640"/>
            <a:ext cx="860436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Reacciones proveedoras de NADH + H</a:t>
            </a:r>
            <a:r>
              <a:rPr b="1" lang="es-ES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 y FADH</a:t>
            </a:r>
            <a:r>
              <a:rPr b="1" lang="es-ES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 a la cadena respirato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99"/>
                </a:solidFill>
                <a:latin typeface="Arial"/>
              </a:rPr>
              <a:t>Gliceraldehído-3P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→ 1,3 Bifosfoglicerato (Gliceraldehido-3P deshidrogenas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NADH + H</a:t>
            </a:r>
            <a:r>
              <a:rPr b="0" lang="en-US" sz="16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+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Lanzadera malato-aspartato </a:t>
            </a:r>
            <a:r>
              <a:rPr b="0" lang="en-US" sz="16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Complejo 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FADH</a:t>
            </a:r>
            <a:r>
              <a:rPr b="0" lang="en-US" sz="1600" spc="-1" strike="noStrike" baseline="-25000">
                <a:solidFill>
                  <a:srgbClr val="000099"/>
                </a:solidFill>
                <a:latin typeface="Arial"/>
                <a:ea typeface="Arial"/>
              </a:rPr>
              <a:t>2 </a:t>
            </a:r>
            <a:r>
              <a:rPr b="0" lang="en-US" sz="16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Lanzadera glicerol-3P </a:t>
            </a:r>
            <a:r>
              <a:rPr b="0" lang="en-US" sz="16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Q </a:t>
            </a:r>
            <a:r>
              <a:rPr b="0" lang="en-US" sz="16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Complejo I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99"/>
                </a:solidFill>
                <a:latin typeface="Arial"/>
              </a:rPr>
              <a:t>Piruvato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→ Acetil-CoA (Complejo piruvato deshidrogenasa) </a:t>
            </a:r>
            <a:r>
              <a:rPr b="0" lang="en-US" sz="16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NADH + H</a:t>
            </a:r>
            <a:r>
              <a:rPr b="0" lang="en-US" sz="16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99"/>
                </a:solidFill>
                <a:latin typeface="Arial"/>
              </a:rPr>
              <a:t>Isocitrato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-Cetoglutarato (Isocitrato deshidrogenasa) </a:t>
            </a:r>
            <a:r>
              <a:rPr b="0" lang="en-US" sz="16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NADH + H</a:t>
            </a:r>
            <a:r>
              <a:rPr b="0" lang="en-US" sz="16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s-VE" sz="1600" spc="-1" strike="noStrike">
                <a:solidFill>
                  <a:srgbClr val="000099"/>
                </a:solidFill>
                <a:latin typeface="Arial"/>
              </a:rPr>
              <a:t>-Cetoglutarato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→ Succinil-CoA (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-cetoglutarato deshidrogenasa) </a:t>
            </a:r>
            <a:r>
              <a:rPr b="0" lang="en-US" sz="16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NADH + H</a:t>
            </a:r>
            <a:r>
              <a:rPr b="0" lang="en-US" sz="16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99"/>
                </a:solidFill>
                <a:latin typeface="Arial"/>
              </a:rPr>
              <a:t>Succinato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→ Fumarato (Succinato deshidrogenasa) </a:t>
            </a:r>
            <a:r>
              <a:rPr b="0" lang="en-US" sz="16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FADH</a:t>
            </a:r>
            <a:r>
              <a:rPr b="0" lang="en-US" sz="16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99"/>
                </a:solidFill>
                <a:latin typeface="Arial"/>
              </a:rPr>
              <a:t>Malato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→ Oxalacetato (Malato deshidrogenasa) </a:t>
            </a:r>
            <a:r>
              <a:rPr b="0" lang="en-US" sz="16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NADH + H</a:t>
            </a:r>
            <a:r>
              <a:rPr b="0" lang="en-US" sz="16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E0B8-2E78-41C9-8316-BA4DEF6194F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1"/>
          <p:cNvSpPr/>
          <p:nvPr/>
        </p:nvSpPr>
        <p:spPr>
          <a:xfrm>
            <a:off x="539640" y="1052640"/>
            <a:ext cx="860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Inhibidores del transporte de electr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Antimicina A  </a:t>
            </a:r>
            <a:r>
              <a:rPr b="0" lang="es-VE" sz="18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ntibiótico (se usa como insecticida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Piericidina     </a:t>
            </a:r>
            <a:r>
              <a:rPr b="0" lang="es-VE" sz="18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Antibiótico (se usa como insecticida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Mixotiazol      </a:t>
            </a:r>
            <a:r>
              <a:rPr b="0" lang="es-VE" sz="18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Antibiótico ( se usa como antifungicida agrícol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Rotenona      </a:t>
            </a:r>
            <a:r>
              <a:rPr b="0" lang="es-VE" sz="18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Insecticida de origen vegetal (raíces de leguminosas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Amital            </a:t>
            </a:r>
            <a:r>
              <a:rPr b="0" lang="es-VE" sz="18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Droga que actúa como sedante del sistema nervios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                              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centr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CO                </a:t>
            </a:r>
            <a:r>
              <a:rPr b="0" lang="es-VE" sz="18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Monóxido de carbono: es un gas incoloro, inodoro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                              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y no irritan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Cianuro         </a:t>
            </a:r>
            <a:r>
              <a:rPr b="0" lang="es-VE" sz="18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Anión monovalente (CN</a:t>
            </a:r>
            <a:r>
              <a:rPr b="0" lang="es-VE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  <a:ea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EAB5-7984-4AEA-84C7-52FE44D8FE2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1"/>
          <p:cNvSpPr/>
          <p:nvPr/>
        </p:nvSpPr>
        <p:spPr>
          <a:xfrm>
            <a:off x="539640" y="932040"/>
            <a:ext cx="860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Etapas de la respiración celul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Etapa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Producción de acetil-CoA a parti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de moléculas combustib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Etapa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Oxidación del acetil-CoA en el cicl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de Kreb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99"/>
                </a:solidFill>
                <a:uFillTx/>
                <a:latin typeface="Arial"/>
              </a:rPr>
              <a:t>Etapa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Transferencia electrónica 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fosforilación oxidativa (Sínte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de ATP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543960" y="476280"/>
            <a:ext cx="23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1"/>
          <a:srcRect l="6879" t="3647" r="10244" b="42644"/>
          <a:stretch/>
        </p:blipFill>
        <p:spPr>
          <a:xfrm>
            <a:off x="5783400" y="1695600"/>
            <a:ext cx="2820960" cy="4120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cc0066">
                <a:alpha val="5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B504-643D-4E64-82D0-BF104E13270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36360" y="2330640"/>
            <a:ext cx="9144000" cy="1503000"/>
            <a:chOff x="36360" y="2330640"/>
            <a:chExt cx="9144000" cy="1503000"/>
          </a:xfrm>
        </p:grpSpPr>
        <p:sp>
          <p:nvSpPr>
            <p:cNvPr id="407" name=""/>
            <p:cNvSpPr/>
            <p:nvPr/>
          </p:nvSpPr>
          <p:spPr>
            <a:xfrm>
              <a:off x="36360" y="2330640"/>
              <a:ext cx="9144000" cy="15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mplejo I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6600"/>
                  </a:solidFill>
                  <a:latin typeface="Arial"/>
                </a:rPr>
                <a:t>NADH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Complejo I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Complejo III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itocromo c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Complejo IV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s-ES_tradnl" sz="1800" spc="-1" strike="noStrike">
                  <a:solidFill>
                    <a:srgbClr val="cc6600"/>
                  </a:solidFill>
                  <a:latin typeface="Arial"/>
                </a:rPr>
                <a:t>H</a:t>
              </a:r>
              <a:r>
                <a:rPr b="1" lang="es-ES_tradnl" sz="1800" spc="-1" strike="noStrike" baseline="-25000">
                  <a:solidFill>
                    <a:srgbClr val="cc6600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cc6600"/>
                  </a:solidFill>
                  <a:latin typeface="Arial"/>
                </a:rPr>
                <a:t>O</a:t>
              </a:r>
              <a:r>
                <a:rPr b="0" lang="es-ES_tradnl" sz="1800" spc="-1" strike="noStrike">
                  <a:solidFill>
                    <a:srgbClr val="cc66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45088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414840" y="3354480"/>
              <a:ext cx="31140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470196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01140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82692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8103960" y="3354480"/>
              <a:ext cx="31140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31840" y="2830680"/>
              <a:ext cx="0" cy="360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Rectangle 23"/>
          <p:cNvSpPr/>
          <p:nvPr/>
        </p:nvSpPr>
        <p:spPr>
          <a:xfrm>
            <a:off x="0" y="538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Inhibidores del transporte de </a:t>
            </a:r>
            <a:r>
              <a:rPr b="1" i="1" lang="es-VE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i="1" lang="es-VE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1" lang="es-VE" sz="2800" spc="-1" strike="noStrike">
                <a:solidFill>
                  <a:srgbClr val="333399"/>
                </a:solidFill>
                <a:latin typeface="Arial"/>
                <a:ea typeface="Arial"/>
              </a:rPr>
              <a:t> en</a:t>
            </a: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 la cade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19A2-EFFB-4C0C-BEA8-EC5D5217FD1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36360" y="2330640"/>
            <a:ext cx="9144000" cy="1503000"/>
            <a:chOff x="36360" y="2330640"/>
            <a:chExt cx="9144000" cy="1503000"/>
          </a:xfrm>
        </p:grpSpPr>
        <p:sp>
          <p:nvSpPr>
            <p:cNvPr id="417" name=""/>
            <p:cNvSpPr/>
            <p:nvPr/>
          </p:nvSpPr>
          <p:spPr>
            <a:xfrm>
              <a:off x="36360" y="2330640"/>
              <a:ext cx="9144000" cy="15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mplejo I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6600"/>
                  </a:solidFill>
                  <a:latin typeface="Arial"/>
                </a:rPr>
                <a:t>NADH</a:t>
              </a:r>
              <a:r>
                <a:rPr b="0" lang="es-ES_tradnl" sz="18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Complejo I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Complejo III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itocromo c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Complejo IV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s-ES_tradnl" sz="1800" spc="-1" strike="noStrike">
                  <a:solidFill>
                    <a:srgbClr val="cc6600"/>
                  </a:solidFill>
                  <a:latin typeface="Arial"/>
                </a:rPr>
                <a:t>H</a:t>
              </a:r>
              <a:r>
                <a:rPr b="1" lang="es-ES_tradnl" sz="1800" spc="-1" strike="noStrike" baseline="-25000">
                  <a:solidFill>
                    <a:srgbClr val="cc6600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cc6600"/>
                  </a:solidFill>
                  <a:latin typeface="Arial"/>
                </a:rPr>
                <a:t>O</a:t>
              </a:r>
              <a:r>
                <a:rPr b="0" lang="es-ES_tradnl" sz="1800" spc="-1" strike="noStrike">
                  <a:solidFill>
                    <a:srgbClr val="cc66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245088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6414840" y="3354480"/>
              <a:ext cx="31140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470196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301140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82692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8103960" y="3354480"/>
              <a:ext cx="31140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31840" y="2830680"/>
              <a:ext cx="0" cy="360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1260360" y="4073400"/>
            <a:ext cx="13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66"/>
                </a:solidFill>
                <a:latin typeface="Arial"/>
              </a:rPr>
              <a:t>Amit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66"/>
                </a:solidFill>
                <a:latin typeface="Arial"/>
              </a:rPr>
              <a:t>Roteno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66"/>
                </a:solidFill>
                <a:latin typeface="Arial"/>
              </a:rPr>
              <a:t>Piericidina 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1692360" y="3656160"/>
            <a:ext cx="0" cy="420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21440" y="5468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Piericidina 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00720" y="5468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Roteno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438280" y="54687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Amit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5940360" y="4094280"/>
            <a:ext cx="3168720" cy="9903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3852720" y="4076640"/>
            <a:ext cx="2192400" cy="13892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rcRect l="0" t="53650" r="65794" b="11075"/>
          <a:stretch/>
        </p:blipFill>
        <p:spPr>
          <a:xfrm>
            <a:off x="2556000" y="4149720"/>
            <a:ext cx="1295280" cy="1012680"/>
          </a:xfrm>
          <a:prstGeom prst="rect">
            <a:avLst/>
          </a:prstGeom>
          <a:ln w="0">
            <a:noFill/>
          </a:ln>
        </p:spPr>
      </p:pic>
      <p:grpSp>
        <p:nvGrpSpPr>
          <p:cNvPr id="433" name=""/>
          <p:cNvGrpSpPr/>
          <p:nvPr/>
        </p:nvGrpSpPr>
        <p:grpSpPr>
          <a:xfrm>
            <a:off x="1607760" y="3228840"/>
            <a:ext cx="289440" cy="289080"/>
            <a:chOff x="1607760" y="3228840"/>
            <a:chExt cx="289440" cy="289080"/>
          </a:xfrm>
        </p:grpSpPr>
        <p:sp>
          <p:nvSpPr>
            <p:cNvPr id="434" name=""/>
            <p:cNvSpPr/>
            <p:nvPr/>
          </p:nvSpPr>
          <p:spPr>
            <a:xfrm>
              <a:off x="1608120" y="3228840"/>
              <a:ext cx="289080" cy="2890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1607760" y="3228840"/>
              <a:ext cx="289080" cy="2890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Rectangle 23"/>
          <p:cNvSpPr/>
          <p:nvPr/>
        </p:nvSpPr>
        <p:spPr>
          <a:xfrm>
            <a:off x="0" y="538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Inhibidores del transporte de </a:t>
            </a:r>
            <a:r>
              <a:rPr b="1" i="1" lang="es-VE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i="1" lang="es-VE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1" lang="es-VE" sz="2800" spc="-1" strike="noStrike">
                <a:solidFill>
                  <a:srgbClr val="333399"/>
                </a:solidFill>
                <a:latin typeface="Arial"/>
                <a:ea typeface="Arial"/>
              </a:rPr>
              <a:t> en</a:t>
            </a: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 la cade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6E6-13AA-46E4-9B90-6484A200124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36360" y="2330640"/>
            <a:ext cx="9144000" cy="1503000"/>
            <a:chOff x="36360" y="2330640"/>
            <a:chExt cx="9144000" cy="1503000"/>
          </a:xfrm>
        </p:grpSpPr>
        <p:sp>
          <p:nvSpPr>
            <p:cNvPr id="438" name=""/>
            <p:cNvSpPr/>
            <p:nvPr/>
          </p:nvSpPr>
          <p:spPr>
            <a:xfrm>
              <a:off x="36360" y="2330640"/>
              <a:ext cx="9144000" cy="15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mplejo I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6600"/>
                  </a:solidFill>
                  <a:latin typeface="Arial"/>
                </a:rPr>
                <a:t>NADH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Complejo I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Complejo III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itocromo c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Complejo IV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s-ES_tradnl" sz="1800" spc="-1" strike="noStrike">
                  <a:solidFill>
                    <a:srgbClr val="cc6600"/>
                  </a:solidFill>
                  <a:latin typeface="Arial"/>
                </a:rPr>
                <a:t>H</a:t>
              </a:r>
              <a:r>
                <a:rPr b="1" lang="es-ES_tradnl" sz="1800" spc="-1" strike="noStrike" baseline="-25000">
                  <a:solidFill>
                    <a:srgbClr val="cc6600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cc6600"/>
                  </a:solidFill>
                  <a:latin typeface="Arial"/>
                </a:rPr>
                <a:t>O</a:t>
              </a:r>
              <a:r>
                <a:rPr b="0" lang="es-ES_tradnl" sz="1800" spc="-1" strike="noStrike">
                  <a:solidFill>
                    <a:srgbClr val="006666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45088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6414840" y="3354480"/>
              <a:ext cx="31140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70196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01140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82692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8103960" y="3354480"/>
              <a:ext cx="31140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31840" y="2830680"/>
              <a:ext cx="0" cy="360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745080" y="3247920"/>
            <a:ext cx="288720" cy="289080"/>
            <a:chOff x="3745080" y="3247920"/>
            <a:chExt cx="288720" cy="289080"/>
          </a:xfrm>
        </p:grpSpPr>
        <p:sp>
          <p:nvSpPr>
            <p:cNvPr id="447" name=""/>
            <p:cNvSpPr/>
            <p:nvPr/>
          </p:nvSpPr>
          <p:spPr>
            <a:xfrm>
              <a:off x="3745080" y="3247920"/>
              <a:ext cx="288720" cy="2890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3745080" y="3247920"/>
              <a:ext cx="288720" cy="2890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3419640" y="3957480"/>
            <a:ext cx="143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66"/>
                </a:solidFill>
                <a:latin typeface="Arial"/>
              </a:rPr>
              <a:t>Antimicina 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66"/>
                </a:solidFill>
                <a:latin typeface="Arial"/>
              </a:rPr>
              <a:t>Mixotiaz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3908520" y="3609720"/>
            <a:ext cx="15840" cy="34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39640" y="4869000"/>
            <a:ext cx="4286160" cy="1095120"/>
            <a:chOff x="539640" y="4869000"/>
            <a:chExt cx="4286160" cy="109512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rcRect l="0" t="68941" r="0" b="12138"/>
            <a:stretch/>
          </p:blipFill>
          <p:spPr>
            <a:xfrm>
              <a:off x="539640" y="4869000"/>
              <a:ext cx="428616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2123640" y="5613480"/>
              <a:ext cx="11512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99"/>
                  </a:solidFill>
                  <a:latin typeface="Arial"/>
                </a:rPr>
                <a:t>Mixotiazo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6600" y="5032440"/>
              <a:ext cx="719280" cy="592200"/>
            </a:xfrm>
            <a:prstGeom prst="rect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42560" y="5676840"/>
              <a:ext cx="2890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69800" y="5346720"/>
              <a:ext cx="14292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7" name="" descr=""/>
          <p:cNvPicPr/>
          <p:nvPr/>
        </p:nvPicPr>
        <p:blipFill>
          <a:blip r:embed="rId2"/>
          <a:srcRect l="6411" t="2831" r="28346" b="60490"/>
          <a:stretch/>
        </p:blipFill>
        <p:spPr>
          <a:xfrm>
            <a:off x="5869080" y="4576680"/>
            <a:ext cx="2879640" cy="1228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6804000" y="5589720"/>
            <a:ext cx="1368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Antimicina 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3"/>
          <p:cNvSpPr/>
          <p:nvPr/>
        </p:nvSpPr>
        <p:spPr>
          <a:xfrm>
            <a:off x="0" y="538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Inhibidores del transporte de </a:t>
            </a:r>
            <a:r>
              <a:rPr b="1" i="1" lang="es-VE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i="1" lang="es-VE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1" lang="es-VE" sz="2800" spc="-1" strike="noStrike">
                <a:solidFill>
                  <a:srgbClr val="333399"/>
                </a:solidFill>
                <a:latin typeface="Arial"/>
                <a:ea typeface="Arial"/>
              </a:rPr>
              <a:t> en</a:t>
            </a: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 la cade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0A19-E63C-4B73-AE90-1C9CA77256C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36360" y="2330640"/>
            <a:ext cx="9144000" cy="1503000"/>
            <a:chOff x="36360" y="2330640"/>
            <a:chExt cx="9144000" cy="1503000"/>
          </a:xfrm>
        </p:grpSpPr>
        <p:sp>
          <p:nvSpPr>
            <p:cNvPr id="461" name=""/>
            <p:cNvSpPr/>
            <p:nvPr/>
          </p:nvSpPr>
          <p:spPr>
            <a:xfrm>
              <a:off x="36360" y="2330640"/>
              <a:ext cx="9144000" cy="15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mplejo I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6600"/>
                  </a:solidFill>
                  <a:latin typeface="Arial"/>
                </a:rPr>
                <a:t>NADH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Complejo I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Complejo III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itocromo c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Complejo IV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s-ES_tradnl" sz="1800" spc="-1" strike="noStrike">
                  <a:solidFill>
                    <a:srgbClr val="cc6600"/>
                  </a:solidFill>
                  <a:latin typeface="Arial"/>
                </a:rPr>
                <a:t>H</a:t>
              </a:r>
              <a:r>
                <a:rPr b="1" lang="es-ES_tradnl" sz="1800" spc="-1" strike="noStrike" baseline="-25000">
                  <a:solidFill>
                    <a:srgbClr val="cc6600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cc6600"/>
                  </a:solidFill>
                  <a:latin typeface="Arial"/>
                </a:rPr>
                <a:t>O</a:t>
              </a:r>
              <a:r>
                <a:rPr b="0" lang="es-ES_tradnl" sz="1800" spc="-1" strike="noStrike">
                  <a:solidFill>
                    <a:srgbClr val="006666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245088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6414840" y="3354480"/>
              <a:ext cx="31140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70196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01140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82692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8103960" y="3354480"/>
              <a:ext cx="31140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31840" y="2830680"/>
              <a:ext cx="0" cy="360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7182000" y="3222720"/>
            <a:ext cx="288720" cy="288720"/>
            <a:chOff x="7182000" y="3222720"/>
            <a:chExt cx="288720" cy="288720"/>
          </a:xfrm>
        </p:grpSpPr>
        <p:sp>
          <p:nvSpPr>
            <p:cNvPr id="470" name=""/>
            <p:cNvSpPr/>
            <p:nvPr/>
          </p:nvSpPr>
          <p:spPr>
            <a:xfrm>
              <a:off x="7182000" y="3222720"/>
              <a:ext cx="288720" cy="28872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7182000" y="3222720"/>
              <a:ext cx="288720" cy="28872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7110360" y="4141800"/>
            <a:ext cx="6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66"/>
                </a:solidFill>
                <a:latin typeface="Arial"/>
              </a:rPr>
              <a:t>CN</a:t>
            </a:r>
            <a:r>
              <a:rPr b="0" lang="es-ES_tradnl" sz="1600" spc="-1" strike="noStrike" baseline="30000">
                <a:solidFill>
                  <a:srgbClr val="006666"/>
                </a:solidFill>
                <a:latin typeface="Arial"/>
                <a:ea typeface="Arial"/>
              </a:rPr>
              <a:t>–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66"/>
                </a:solidFill>
                <a:latin typeface="Arial"/>
              </a:rPr>
              <a:t>C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7327800" y="358452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rcRect l="3976" t="18443" r="8018" b="17234"/>
          <a:stretch/>
        </p:blipFill>
        <p:spPr>
          <a:xfrm>
            <a:off x="5187960" y="4465800"/>
            <a:ext cx="1224000" cy="38736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244680" y="4883040"/>
            <a:ext cx="180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Monóxido de carbono (C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477040" y="4851360"/>
            <a:ext cx="936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ianur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678120" y="4491000"/>
            <a:ext cx="934920" cy="368280"/>
            <a:chOff x="3678120" y="4491000"/>
            <a:chExt cx="934920" cy="368280"/>
          </a:xfrm>
        </p:grpSpPr>
        <p:sp>
          <p:nvSpPr>
            <p:cNvPr id="478" name=""/>
            <p:cNvSpPr/>
            <p:nvPr/>
          </p:nvSpPr>
          <p:spPr>
            <a:xfrm>
              <a:off x="3678120" y="449100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C  O: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054680" y="4608720"/>
              <a:ext cx="78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54680" y="4665600"/>
              <a:ext cx="784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054680" y="4722840"/>
              <a:ext cx="78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Rectangle 23"/>
          <p:cNvSpPr/>
          <p:nvPr/>
        </p:nvSpPr>
        <p:spPr>
          <a:xfrm>
            <a:off x="0" y="538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Inhibidores del transporte de </a:t>
            </a:r>
            <a:r>
              <a:rPr b="1" i="1" lang="es-VE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i="1" lang="es-VE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1" lang="es-VE" sz="2800" spc="-1" strike="noStrike">
                <a:solidFill>
                  <a:srgbClr val="333399"/>
                </a:solidFill>
                <a:latin typeface="Arial"/>
                <a:ea typeface="Arial"/>
              </a:rPr>
              <a:t> en</a:t>
            </a: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 la cade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114A-B5C9-4118-B5F7-7D5B6086E203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1"/>
          <p:cNvSpPr/>
          <p:nvPr/>
        </p:nvSpPr>
        <p:spPr>
          <a:xfrm>
            <a:off x="539640" y="1052640"/>
            <a:ext cx="860436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ambio en el potencial de reducción (</a:t>
            </a:r>
            <a:r>
              <a:rPr b="1" lang="es-ES" sz="1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E’º) 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de los </a:t>
            </a: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i="1" lang="es-ES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VE" sz="1800" spc="-1" strike="noStrike">
                <a:solidFill>
                  <a:srgbClr val="000099"/>
                </a:solidFill>
                <a:latin typeface="Arial"/>
              </a:rPr>
              <a:t>desde el NADH al O</a:t>
            </a:r>
            <a:r>
              <a:rPr b="1" lang="es-VE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NADH  +   H</a:t>
            </a:r>
            <a:r>
              <a:rPr b="0" lang="es-ES_tradnl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+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½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O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                H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O  +  NAD</a:t>
            </a:r>
            <a:r>
              <a:rPr b="0" lang="es-ES_tradnl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0" lang="es-ES_tradnl" sz="1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E’º =   E’º del aceptor de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e</a:t>
            </a:r>
            <a:r>
              <a:rPr b="0" i="1" lang="en-US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   –   E’º  del dador de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e</a:t>
            </a:r>
            <a:r>
              <a:rPr b="0" i="1" lang="en-US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0" lang="es-ES_tradnl" sz="1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E’º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=  + 0,82 V  –  (– 0,32 V) = + 1,14 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ambio de energía libre estándar (</a:t>
            </a:r>
            <a:r>
              <a:rPr b="1" lang="es-ES_tradnl" sz="1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G’º)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de los 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desde el NADH al 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∆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G’º = – n.F.∆E’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         ∆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G’º = – 2 x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96,5 KJ/V.mol x 1,14 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∆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G’º =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220 KJ/mo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356000" y="206064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F581-9DBD-4B41-A230-C217B31ED97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0" y="1484280"/>
            <a:ext cx="9144000" cy="3494160"/>
            <a:chOff x="0" y="1484280"/>
            <a:chExt cx="9144000" cy="3494160"/>
          </a:xfrm>
        </p:grpSpPr>
        <p:pic>
          <p:nvPicPr>
            <p:cNvPr id="488" name="Picture 29" descr=""/>
            <p:cNvPicPr/>
            <p:nvPr/>
          </p:nvPicPr>
          <p:blipFill>
            <a:blip r:embed="rId1"/>
            <a:srcRect l="1269" t="11026" r="2938" b="6289"/>
            <a:stretch/>
          </p:blipFill>
          <p:spPr>
            <a:xfrm>
              <a:off x="250920" y="1811160"/>
              <a:ext cx="8604000" cy="31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TextBox 30"/>
            <p:cNvSpPr/>
            <p:nvPr/>
          </p:nvSpPr>
          <p:spPr>
            <a:xfrm>
              <a:off x="0" y="1484280"/>
              <a:ext cx="9144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Calibri"/>
                  <a:ea typeface="ＭＳ Ｐゴシック"/>
                </a:rPr>
                <a:t>Potenciales  de redox estándar de los transportadores de la cadena respiratori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Box 31"/>
            <p:cNvSpPr/>
            <p:nvPr/>
          </p:nvSpPr>
          <p:spPr>
            <a:xfrm>
              <a:off x="435240" y="1916280"/>
              <a:ext cx="24728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acción redox (hemirreacción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0360" y="4978440"/>
              <a:ext cx="8424720" cy="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4000" y="2708280"/>
              <a:ext cx="8424720" cy="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09D3-8E6C-4331-ABBB-A091433387F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1"/>
          <p:cNvSpPr/>
          <p:nvPr/>
        </p:nvSpPr>
        <p:spPr>
          <a:xfrm>
            <a:off x="539640" y="1052640"/>
            <a:ext cx="860436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ambio en el potencial de reducción (</a:t>
            </a:r>
            <a:r>
              <a:rPr b="1" lang="es-ES" sz="1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E’º) 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de los </a:t>
            </a: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i="1" lang="es-ES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VE" sz="1800" spc="-1" strike="noStrike">
                <a:solidFill>
                  <a:srgbClr val="000099"/>
                </a:solidFill>
                <a:latin typeface="Arial"/>
              </a:rPr>
              <a:t>desde el NADH al O</a:t>
            </a:r>
            <a:r>
              <a:rPr b="1" lang="es-VE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NADH  +   H</a:t>
            </a:r>
            <a:r>
              <a:rPr b="0" lang="es-ES_tradnl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+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½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O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                H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O  +  NAD</a:t>
            </a:r>
            <a:r>
              <a:rPr b="0" lang="es-ES_tradnl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0" lang="es-ES_tradnl" sz="1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E’º =   E’º del aceptor de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e</a:t>
            </a:r>
            <a:r>
              <a:rPr b="0" i="1" lang="en-US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   –   E’º  del donador de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e</a:t>
            </a:r>
            <a:r>
              <a:rPr b="0" i="1" lang="en-US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0" lang="es-ES_tradnl" sz="1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E’º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=  + 0,82 V  –  (– 0,32 V) = + 1,14 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ambio de energía libre estándar (</a:t>
            </a:r>
            <a:r>
              <a:rPr b="1" lang="es-ES_tradnl" sz="1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G’º)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de los 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desde el NADH al 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∆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G’º = – n.F.∆E’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         ∆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G’º = – 2 x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96,5 KJ/V.mol x 1,14 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∆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G’º =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220 KJ/mo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356000" y="206064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991-CE98-410C-9AAB-37DC306C1674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30" descr=""/>
          <p:cNvPicPr/>
          <p:nvPr/>
        </p:nvPicPr>
        <p:blipFill>
          <a:blip r:embed="rId1"/>
          <a:stretch/>
        </p:blipFill>
        <p:spPr>
          <a:xfrm>
            <a:off x="216000" y="1268280"/>
            <a:ext cx="8893080" cy="435780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23"/>
          <p:cNvSpPr/>
          <p:nvPr/>
        </p:nvSpPr>
        <p:spPr>
          <a:xfrm>
            <a:off x="147816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AF63-FDD1-4BF2-BB30-1F95918D94A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179280" y="115920"/>
            <a:ext cx="8820360" cy="6506640"/>
            <a:chOff x="179280" y="115920"/>
            <a:chExt cx="8820360" cy="6506640"/>
          </a:xfrm>
        </p:grpSpPr>
        <p:pic>
          <p:nvPicPr>
            <p:cNvPr id="500" name="Picture 30" descr=""/>
            <p:cNvPicPr/>
            <p:nvPr/>
          </p:nvPicPr>
          <p:blipFill>
            <a:blip r:embed="rId1"/>
            <a:stretch/>
          </p:blipFill>
          <p:spPr>
            <a:xfrm>
              <a:off x="179280" y="700200"/>
              <a:ext cx="8820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2895480" y="1924200"/>
              <a:ext cx="505080" cy="287280"/>
            </a:xfrm>
            <a:prstGeom prst="rect">
              <a:avLst/>
            </a:prstGeom>
            <a:solidFill>
              <a:srgbClr val="eae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82520" y="120600"/>
              <a:ext cx="7077240" cy="689040"/>
            </a:xfrm>
            <a:prstGeom prst="rect">
              <a:avLst/>
            </a:prstGeom>
            <a:solidFill>
              <a:srgbClr val="ece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820880" y="749160"/>
              <a:ext cx="10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(220 KJ/mol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062000" y="150840"/>
              <a:ext cx="0" cy="719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8159400" y="115920"/>
              <a:ext cx="12600" cy="785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989840" y="82080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068480" y="79848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30640" y="2127240"/>
              <a:ext cx="123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(143,4 KJ/mol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54400" y="2874960"/>
              <a:ext cx="120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(115,8 KJ/mol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219640" y="2548080"/>
              <a:ext cx="12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(109,2 KJ/mol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67400" y="2865600"/>
              <a:ext cx="127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(102,3 KJ/mol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22920" y="3782880"/>
              <a:ext cx="115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(52,1 KJ/mol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227640" y="4446720"/>
              <a:ext cx="144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(0 KJ/mol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74840" y="1898640"/>
              <a:ext cx="1305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(149,6 KJ/mol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516040" y="1133640"/>
              <a:ext cx="10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(216 KJ/mol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69840" y="5118120"/>
              <a:ext cx="511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’º  entre componentes de la caden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12"/>
            <p:cNvSpPr/>
            <p:nvPr/>
          </p:nvSpPr>
          <p:spPr>
            <a:xfrm>
              <a:off x="1362240" y="3510000"/>
              <a:ext cx="4001760" cy="7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333399"/>
                  </a:solidFill>
                  <a:latin typeface="Arial"/>
                  <a:ea typeface="ＭＳ Ｐゴシック"/>
                </a:rPr>
                <a:t>∆</a:t>
              </a:r>
              <a:r>
                <a:rPr b="0" lang="es-ES_tradnl" sz="1600" spc="-1" strike="noStrike">
                  <a:solidFill>
                    <a:srgbClr val="333399"/>
                  </a:solidFill>
                  <a:latin typeface="Arial"/>
                  <a:ea typeface="ＭＳ Ｐゴシック"/>
                </a:rPr>
                <a:t>E’º  = E’º aceptor  ─   E’º donador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333399"/>
                  </a:solidFill>
                  <a:latin typeface="Arial"/>
                  <a:ea typeface="ＭＳ Ｐゴシック"/>
                </a:rPr>
                <a:t>∆</a:t>
              </a:r>
              <a:r>
                <a:rPr b="0" lang="es-ES_tradnl" sz="1600" spc="-1" strike="noStrike">
                  <a:solidFill>
                    <a:srgbClr val="333399"/>
                  </a:solidFill>
                  <a:latin typeface="Arial"/>
                  <a:ea typeface="ＭＳ Ｐゴシック"/>
                </a:rPr>
                <a:t>G’º = – n.F.∆E’º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88000" y="5454720"/>
              <a:ext cx="4211640" cy="11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it. c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→ Cit. c 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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  6,6  KJ/mo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it. c  → Cit. a 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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–  6,9  KJ/mo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it. a  → Cit. 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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  50,2  KJ/mol (</a:t>
              </a:r>
              <a:r>
                <a:rPr b="0" lang="en-US" sz="1200" spc="-1" strike="noStrike">
                  <a:solidFill>
                    <a:srgbClr val="cc0066"/>
                  </a:solidFill>
                  <a:latin typeface="Wingdings 2"/>
                  <a:ea typeface="Wingdings 2"/>
                </a:rPr>
                <a:t>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it. 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→ 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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  52,1 KJ/mol  (</a:t>
              </a:r>
              <a:r>
                <a:rPr b="0" lang="en-US" sz="1200" spc="-1" strike="noStrike">
                  <a:solidFill>
                    <a:srgbClr val="cc0066"/>
                  </a:solidFill>
                  <a:latin typeface="Wingdings 2"/>
                  <a:ea typeface="Wingdings 2"/>
                </a:rPr>
                <a:t>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71640" y="5454720"/>
              <a:ext cx="4319640" cy="11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DH → FMN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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  4  KJ/mo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MN → Q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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  66,4  KJ/mol (</a:t>
              </a:r>
              <a:r>
                <a:rPr b="0" lang="en-US" sz="1200" spc="-1" strike="noStrike">
                  <a:solidFill>
                    <a:srgbClr val="cc0066"/>
                  </a:solidFill>
                  <a:latin typeface="Wingdings 2"/>
                  <a:ea typeface="Wingdings 2"/>
                </a:rPr>
                <a:t>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 → Cit. b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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  6,2  KJ/mo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it. b → Cit c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 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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–  27,6  KJ/mol (</a:t>
              </a:r>
              <a:r>
                <a:rPr b="0" lang="en-US" sz="1200" spc="-1" strike="noStrike">
                  <a:solidFill>
                    <a:srgbClr val="cc0066"/>
                  </a:solidFill>
                  <a:latin typeface="Wingdings 2"/>
                  <a:ea typeface="Wingdings 2"/>
                </a:rPr>
                <a:t>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570040" y="260280"/>
              <a:ext cx="46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Arial"/>
                </a:rPr>
                <a:t>G’º en la cadena respiratori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8317080" y="616572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287960" y="2276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0066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cc0066"/>
                </a:solidFill>
                <a:latin typeface="Wingdings 2"/>
                <a:ea typeface="Wingdings 2"/>
              </a:rPr>
              <a:t></a:t>
            </a:r>
            <a:r>
              <a:rPr b="0" lang="en-US" sz="1200" spc="-1" strike="noStrike">
                <a:solidFill>
                  <a:srgbClr val="cc0066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754360" y="14652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0066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cc0066"/>
                </a:solidFill>
                <a:latin typeface="Wingdings 2"/>
                <a:ea typeface="Wingdings 2"/>
              </a:rPr>
              <a:t></a:t>
            </a:r>
            <a:r>
              <a:rPr b="0" lang="en-US" sz="1200" spc="-1" strike="noStrike">
                <a:solidFill>
                  <a:srgbClr val="cc0066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292880" y="404172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0066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cc0066"/>
                </a:solidFill>
                <a:latin typeface="Wingdings 2"/>
                <a:ea typeface="Wingdings 2"/>
              </a:rPr>
              <a:t></a:t>
            </a:r>
            <a:r>
              <a:rPr b="0" lang="en-US" sz="1200" spc="-1" strike="noStrike">
                <a:solidFill>
                  <a:srgbClr val="cc0066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591240" y="3249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0066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cc0066"/>
                </a:solidFill>
                <a:latin typeface="Wingdings 2"/>
                <a:ea typeface="Wingdings 2"/>
              </a:rPr>
              <a:t></a:t>
            </a:r>
            <a:r>
              <a:rPr b="0" lang="en-US" sz="1200" spc="-1" strike="noStrike">
                <a:solidFill>
                  <a:srgbClr val="cc0066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79A0-BE08-4EFE-9655-AD827FF4E1A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8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rcRect l="11803" t="0" r="0" b="0"/>
          <a:stretch/>
        </p:blipFill>
        <p:spPr>
          <a:xfrm>
            <a:off x="-36360" y="-27000"/>
            <a:ext cx="9288360" cy="696924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124000" y="220500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in de la clas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708360" y="3141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6D07-531D-4DD0-AEFA-3FA2E2A7451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5240" y="1814400"/>
            <a:ext cx="4513320" cy="4824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0" t="26823" r="0" b="909"/>
          <a:stretch/>
        </p:blipFill>
        <p:spPr>
          <a:xfrm>
            <a:off x="1084320" y="282600"/>
            <a:ext cx="4567320" cy="2778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8782" t="40273" r="12262" b="0"/>
          <a:stretch/>
        </p:blipFill>
        <p:spPr>
          <a:xfrm>
            <a:off x="5869080" y="5045040"/>
            <a:ext cx="3240000" cy="1697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706920" y="6453360"/>
            <a:ext cx="201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724360" y="5589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6160" y="5589720"/>
            <a:ext cx="285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70560" y="5084640"/>
            <a:ext cx="719280" cy="0"/>
          </a:xfrm>
          <a:prstGeom prst="line">
            <a:avLst/>
          </a:prstGeom>
          <a:ln w="76320">
            <a:solidFill>
              <a:srgbClr val="cdd3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5138640"/>
            <a:ext cx="217440" cy="142920"/>
          </a:xfrm>
          <a:prstGeom prst="rect">
            <a:avLst/>
          </a:prstGeom>
          <a:solidFill>
            <a:srgbClr val="ff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9080" y="4869000"/>
            <a:ext cx="3240000" cy="215640"/>
          </a:xfrm>
          <a:prstGeom prst="rect">
            <a:avLst/>
          </a:prstGeom>
          <a:solidFill>
            <a:srgbClr val="d3d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36560" y="2844720"/>
            <a:ext cx="0" cy="43200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01680" y="76320"/>
            <a:ext cx="4338720" cy="222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724360" y="1268280"/>
            <a:ext cx="34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99"/>
                </a:solidFill>
                <a:latin typeface="Arial"/>
              </a:rPr>
              <a:t>Etapas de la respiración celu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06920" y="108000"/>
            <a:ext cx="146160" cy="1317600"/>
          </a:xfrm>
          <a:custGeom>
            <a:avLst/>
            <a:gdLst>
              <a:gd name="textAreaLeft" fmla="*/ 0 w 146160"/>
              <a:gd name="textAreaRight" fmla="*/ 52560 w 146160"/>
              <a:gd name="textAreaTop" fmla="*/ 34200 h 1317600"/>
              <a:gd name="textAreaBottom" fmla="*/ 1283400 h 131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38960" y="1557360"/>
            <a:ext cx="185400" cy="4751280"/>
          </a:xfrm>
          <a:custGeom>
            <a:avLst/>
            <a:gdLst>
              <a:gd name="textAreaLeft" fmla="*/ 0 w 185400"/>
              <a:gd name="textAreaRight" fmla="*/ 66960 w 185400"/>
              <a:gd name="textAreaTop" fmla="*/ 123840 h 4751280"/>
              <a:gd name="textAreaBottom" fmla="*/ 462744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793"/>
                </a:lnTo>
                <a:cubicBezTo>
                  <a:pt x="10800" y="11693"/>
                  <a:pt x="16200" y="12593"/>
                  <a:pt x="21600" y="12593"/>
                </a:cubicBezTo>
                <a:cubicBezTo>
                  <a:pt x="16200" y="12593"/>
                  <a:pt x="10800" y="13493"/>
                  <a:pt x="10800" y="1439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8840" y="2565360"/>
            <a:ext cx="0" cy="28908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46840" y="4111560"/>
            <a:ext cx="165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tocondri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1840" y="549360"/>
            <a:ext cx="1082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360" y="76500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7308720" y="3141360"/>
            <a:ext cx="288720" cy="3311640"/>
          </a:xfrm>
          <a:custGeom>
            <a:avLst/>
            <a:gdLst>
              <a:gd name="textAreaLeft" fmla="*/ 0 w 288720"/>
              <a:gd name="textAreaRight" fmla="*/ 104040 w 288720"/>
              <a:gd name="textAreaTop" fmla="*/ 38880 h 3311640"/>
              <a:gd name="textAreaBottom" fmla="*/ 3272760 h 331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8"/>
                  <a:pt x="10800" y="815"/>
                </a:cubicBezTo>
                <a:lnTo>
                  <a:pt x="10800" y="5894"/>
                </a:lnTo>
                <a:cubicBezTo>
                  <a:pt x="10800" y="6302"/>
                  <a:pt x="16200" y="6709"/>
                  <a:pt x="21600" y="6709"/>
                </a:cubicBezTo>
                <a:cubicBezTo>
                  <a:pt x="16200" y="6709"/>
                  <a:pt x="10800" y="7117"/>
                  <a:pt x="10800" y="7524"/>
                </a:cubicBezTo>
                <a:lnTo>
                  <a:pt x="10800" y="20785"/>
                </a:lnTo>
                <a:cubicBezTo>
                  <a:pt x="10800" y="211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4720" y="139680"/>
            <a:ext cx="86364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6000" y="4292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65640" y="1609560"/>
            <a:ext cx="1584360" cy="505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mplejo piruva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shidrogenas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78240" y="549360"/>
            <a:ext cx="1008000" cy="337320"/>
          </a:xfrm>
          <a:prstGeom prst="rect">
            <a:avLst/>
          </a:prstGeom>
          <a:solidFill>
            <a:srgbClr val="ffc5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icóli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09800" y="1322280"/>
            <a:ext cx="936720" cy="142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iruva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2637000"/>
            <a:ext cx="1224000" cy="2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etil-Co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4720" y="3789360"/>
            <a:ext cx="863640" cy="360360"/>
          </a:xfrm>
          <a:prstGeom prst="rect">
            <a:avLst/>
          </a:prstGeom>
          <a:solidFill>
            <a:srgbClr val="ff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iclo 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804000" y="4436640"/>
            <a:ext cx="144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5138640"/>
            <a:ext cx="360360" cy="142920"/>
          </a:xfrm>
          <a:prstGeom prst="rect">
            <a:avLst/>
          </a:prstGeom>
          <a:solidFill>
            <a:srgbClr val="ff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4149720"/>
            <a:ext cx="1133280" cy="647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xid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l acetil-Co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32720" y="3284640"/>
            <a:ext cx="2160360" cy="72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apa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ferencia electrónic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fosforilación oxidati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44000" y="3968640"/>
            <a:ext cx="215640" cy="790560"/>
          </a:xfrm>
          <a:prstGeom prst="downArrow">
            <a:avLst>
              <a:gd name="adj1" fmla="val 50000"/>
              <a:gd name="adj2" fmla="val 91653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96920"/>
            <a:ext cx="863640" cy="951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Ácidos gras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60360" y="260280"/>
            <a:ext cx="144000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inoácid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00240" y="1522440"/>
            <a:ext cx="4321080" cy="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8000" y="1268280"/>
            <a:ext cx="1150920" cy="64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acetil-Co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84720" y="5210280"/>
            <a:ext cx="1656000" cy="641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dena  de  transporte de electron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B30-FD9E-4A7B-A696-4940042B5E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1"/>
          <p:cNvSpPr/>
          <p:nvPr/>
        </p:nvSpPr>
        <p:spPr>
          <a:xfrm>
            <a:off x="539640" y="932040"/>
            <a:ext cx="860436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oncepto de cadena de transporte de electrones (o cadena respiratori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Consiste en una serie de moléculas que tienen por función transportar e</a:t>
            </a:r>
            <a:r>
              <a:rPr b="0" lang="es-ES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de forma secuencial desde especies dadoras a especies aceptor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Importantes características de la cadena de transporte de electr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Se localiza en la membrana interna de las mitocondri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300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Los equivalentes reductores que transfieren pueden ser </a:t>
            </a:r>
            <a:r>
              <a:rPr b="0" i="1" lang="es-ES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s-ES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, hidrógenos (H</a:t>
            </a:r>
            <a:r>
              <a:rPr b="0" lang="es-ES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 + </a:t>
            </a:r>
            <a:r>
              <a:rPr b="0" i="1" lang="es-ES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s-ES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) o iones hidruro (H</a:t>
            </a:r>
            <a:r>
              <a:rPr b="0" lang="es-ES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  <a:ea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300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  <a:ea typeface="Arial"/>
              </a:rPr>
              <a:t>Los </a:t>
            </a:r>
            <a:r>
              <a:rPr b="0" i="1" lang="es-ES" sz="1800" spc="-1" strike="noStrike">
                <a:solidFill>
                  <a:srgbClr val="000099"/>
                </a:solidFill>
                <a:latin typeface="Arial"/>
                <a:ea typeface="Arial"/>
              </a:rPr>
              <a:t>e</a:t>
            </a:r>
            <a:r>
              <a:rPr b="0" i="1" lang="es-ES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  <a:ea typeface="Arial"/>
              </a:rPr>
              <a:t> se desplazan gradualmente desde transportadores con E’º menor a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transportadores con E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  <a:ea typeface="Arial"/>
              </a:rPr>
              <a:t>’º mayor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300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La mayoría son proteínas integrales de membrana del tipo conjugad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3006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  <a:ea typeface="Arial"/>
              </a:rPr>
              <a:t>El único transportador no proteico, es una molécula liposoluble llamada ubiquinona (o coenzima Q 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3006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  <a:ea typeface="Arial"/>
              </a:rPr>
              <a:t>La mayoría de sus componentes están organizados en 4 complejos supramacromoleculares (I, II, III y IV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704-78F5-4361-9EA5-B09897B3309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50920" y="1125360"/>
          <a:ext cx="8675640" cy="5061240"/>
        </p:xfrm>
        <a:graphic>
          <a:graphicData uri="http://schemas.openxmlformats.org/drawingml/2006/table">
            <a:tbl>
              <a:tblPr/>
              <a:tblGrid>
                <a:gridCol w="4321080"/>
                <a:gridCol w="1008000"/>
                <a:gridCol w="1728720"/>
                <a:gridCol w="16178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Da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unidad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s prostético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jo I (NADH deshidrogenasa 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H-ubiquinona oxidorreductasa)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N, Fe-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jo II (Succinato deshidrogenasa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, Fe-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biquinona (ó Coenzima Q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jo III (Complejo citocromo </a:t>
                      </a: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  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biquinona-citocromo</a:t>
                      </a: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orrreductasa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ocromo</a:t>
                      </a: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 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 es un complejo)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jo IV  (Citocromo oxidasa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o,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Cu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181080" y="760320"/>
            <a:ext cx="89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MPONENTES  DE LA CADENA DE TRANSPORTE  DE ELECTR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125360"/>
            <a:ext cx="8640720" cy="5040"/>
          </a:xfrm>
          <a:prstGeom prst="line">
            <a:avLst/>
          </a:prstGeom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773360"/>
            <a:ext cx="8640720" cy="4680"/>
          </a:xfrm>
          <a:prstGeom prst="line">
            <a:avLst/>
          </a:prstGeom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17080" y="6238800"/>
            <a:ext cx="431640" cy="360360"/>
          </a:xfrm>
          <a:prstGeom prst="rect">
            <a:avLst/>
          </a:prstGeom>
          <a:solidFill>
            <a:srgbClr val="fff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80360" y="1916280"/>
            <a:ext cx="1512720" cy="4465440"/>
          </a:xfrm>
          <a:prstGeom prst="rect">
            <a:avLst/>
          </a:prstGeom>
          <a:noFill/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3C43-490B-48E0-AAA4-3EC10240A4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3611" t="12922" r="1915" b="21940"/>
          <a:stretch/>
        </p:blipFill>
        <p:spPr>
          <a:xfrm>
            <a:off x="289080" y="907920"/>
            <a:ext cx="8675640" cy="252108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3814200" y="4201920"/>
            <a:ext cx="2424960" cy="2392200"/>
            <a:chOff x="3814200" y="4201920"/>
            <a:chExt cx="2424960" cy="2392200"/>
          </a:xfrm>
        </p:grpSpPr>
        <p:grpSp>
          <p:nvGrpSpPr>
            <p:cNvPr id="114" name=""/>
            <p:cNvGrpSpPr/>
            <p:nvPr/>
          </p:nvGrpSpPr>
          <p:grpSpPr>
            <a:xfrm>
              <a:off x="3814200" y="4201920"/>
              <a:ext cx="2424960" cy="2392200"/>
              <a:chOff x="3814200" y="4201920"/>
              <a:chExt cx="2424960" cy="2392200"/>
            </a:xfrm>
          </p:grpSpPr>
          <p:pic>
            <p:nvPicPr>
              <p:cNvPr id="115" name="" descr=""/>
              <p:cNvPicPr/>
              <p:nvPr/>
            </p:nvPicPr>
            <p:blipFill>
              <a:blip r:embed="rId2"/>
              <a:srcRect l="31840" t="20330" r="10750" b="9031"/>
              <a:stretch/>
            </p:blipFill>
            <p:spPr>
              <a:xfrm rot="2247600">
                <a:off x="4123800" y="4582800"/>
                <a:ext cx="1805400" cy="163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 rot="322200">
                <a:off x="3973320" y="4421160"/>
                <a:ext cx="1998000" cy="60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322200">
                <a:off x="4241520" y="5922000"/>
                <a:ext cx="1134720" cy="60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4460760" y="5067360"/>
              <a:ext cx="215640" cy="23184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 rot="5400000">
            <a:off x="4103640" y="272880"/>
            <a:ext cx="936720" cy="8642160"/>
          </a:xfrm>
          <a:custGeom>
            <a:avLst/>
            <a:gdLst>
              <a:gd name="textAreaLeft" fmla="*/ 0 w 936720"/>
              <a:gd name="textAreaRight" fmla="*/ 338040 w 936720"/>
              <a:gd name="textAreaTop" fmla="*/ 0 h 8642160"/>
              <a:gd name="textAreaBottom" fmla="*/ 8642520 h 864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4920" y="47628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pacio intermembra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393228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triz mitocondr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59280" y="4268880"/>
            <a:ext cx="217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080" y="3429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ADH + H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NA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9280" y="3429000"/>
            <a:ext cx="194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uccinato       Fumara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32720" y="3213000"/>
            <a:ext cx="151128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+  2H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765000"/>
            <a:ext cx="1008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6840" y="521352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atriz mitocondr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62360" y="5357880"/>
            <a:ext cx="522360" cy="1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598720" y="51926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73920" y="506736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pacio intermembra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70360" y="5770440"/>
            <a:ext cx="24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odelo de mitocondr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273800" y="1805040"/>
            <a:ext cx="289080" cy="144360"/>
            <a:chOff x="7273800" y="1805040"/>
            <a:chExt cx="289080" cy="144360"/>
          </a:xfrm>
        </p:grpSpPr>
        <p:sp>
          <p:nvSpPr>
            <p:cNvPr id="133" name=""/>
            <p:cNvSpPr/>
            <p:nvPr/>
          </p:nvSpPr>
          <p:spPr>
            <a:xfrm>
              <a:off x="7273800" y="1805040"/>
              <a:ext cx="289080" cy="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7273800" y="1949400"/>
              <a:ext cx="257040" cy="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484360" y="126828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embrana mitocondrial inter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32000" y="148428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37080" y="19684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efe1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80440" y="1170000"/>
            <a:ext cx="538200" cy="539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9280" y="2457360"/>
            <a:ext cx="288720" cy="289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4720" y="2006640"/>
            <a:ext cx="289080" cy="288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09080" y="1971720"/>
            <a:ext cx="288720" cy="288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17840" y="2690640"/>
            <a:ext cx="289080" cy="289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CE24-3240-4ED0-9629-5200750891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1"/>
          <p:cNvSpPr/>
          <p:nvPr/>
        </p:nvSpPr>
        <p:spPr>
          <a:xfrm>
            <a:off x="539640" y="932040"/>
            <a:ext cx="860436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Grupos prostéticos de los componentes de la cadena respirato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Nucleótidos de flavina (FMN y FA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presentes en las flavoproteín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Centros  ferro-sulfurados  o   centro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hierro-azufre (Fe-S) presentes en l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proteínas ferro-sulfurad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Grupos  hemos  presentes  en   l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proteínas citocrom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580000" y="1917720"/>
            <a:ext cx="3422520" cy="4032360"/>
            <a:chOff x="5580000" y="1917720"/>
            <a:chExt cx="3422520" cy="4032360"/>
          </a:xfrm>
        </p:grpSpPr>
        <p:pic>
          <p:nvPicPr>
            <p:cNvPr id="147" name="" descr=""/>
            <p:cNvPicPr/>
            <p:nvPr/>
          </p:nvPicPr>
          <p:blipFill>
            <a:blip r:embed="rId10"/>
            <a:srcRect l="5757" t="15775" r="16821" b="15775"/>
            <a:stretch/>
          </p:blipFill>
          <p:spPr>
            <a:xfrm>
              <a:off x="5580000" y="1917720"/>
              <a:ext cx="3422520" cy="40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883200" y="5505480"/>
              <a:ext cx="1224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Flavoproteína vegetal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87640" y="3116160"/>
              <a:ext cx="50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FAD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ACE8-1F0A-40FB-91A7-FE52678AC1D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2T17:16:13Z</dcterms:created>
  <dc:creator>FIDEL CASTRO</dc:creator>
  <dc:description/>
  <dc:language>en-US</dc:language>
  <cp:lastModifiedBy>Bj</cp:lastModifiedBy>
  <dcterms:modified xsi:type="dcterms:W3CDTF">2012-02-04T10:03:40Z</dcterms:modified>
  <cp:revision>2244</cp:revision>
  <dc:subject/>
  <dc:title>Diapositiva 1</dc:title>
</cp:coreProperties>
</file>