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97CB-3340-4160-9C48-34EC8BE3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78BB-2A31-4D81-90B2-A126D3A3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7DEF-7D54-4EAC-B5A9-1B16DF3DE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38FF-E65A-409C-A8F5-7E71EEFF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BFA5-3C6D-4CED-8E7E-34847D5C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5AD2-55F7-421E-B6DD-69E8150A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553A-44E1-445F-B4CA-AC2D101F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2509-4D6C-44AC-9143-1C1BE21E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129A-5691-423D-BC59-6FF2509C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B80D-6919-422D-944C-C454B89C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F101-266B-45F5-BDDE-74F91300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728B-6B0A-40E0-910C-1B54FD76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C2F8-7FDA-43CD-A866-CF2355A50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6320" y="22860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2860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2209320"/>
            <a:ext cx="358164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VNI-Ariston"/>
              </a:rPr>
              <a:t>Moân hoïc</a:t>
            </a:r>
            <a:r>
              <a:rPr b="1" i="1" lang="en-US" sz="4400" spc="-1" strike="noStrike">
                <a:solidFill>
                  <a:srgbClr val="000000"/>
                </a:solidFill>
                <a:latin typeface="VNI-Aristo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480" y="3200400"/>
            <a:ext cx="77724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8c3d91"/>
                    </a:gs>
                    <a:gs pos="100000">
                      <a:srgbClr val="0000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VNI-Times"/>
              </a:rPr>
              <a:t> </a:t>
            </a:r>
            <a:r>
              <a:rPr b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8c3d91"/>
                    </a:gs>
                    <a:gs pos="100000">
                      <a:srgbClr val="0000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VNI-Times"/>
              </a:rPr>
              <a:t>CHÍNH TRÒ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8c3d91"/>
                  </a:gs>
                  <a:gs pos="100000">
                    <a:srgbClr val="0000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VNI-Times"/>
              <a:ea typeface="VNI-Times"/>
            </a:endParaRPr>
          </a:p>
        </p:txBody>
      </p:sp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14400" y="3124080"/>
            <a:ext cx="2895480" cy="1295640"/>
          </a:xfrm>
          <a:prstGeom prst="flowChartAlternateProcess">
            <a:avLst/>
          </a:prstGeom>
          <a:solidFill>
            <a:srgbClr val="6600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0f2c2"/>
                </a:solidFill>
                <a:latin typeface="VNI-Vari"/>
              </a:rPr>
              <a:t>Tính chaát cuû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0f2c2"/>
                </a:solidFill>
                <a:latin typeface="VNI-Vari"/>
              </a:rPr>
              <a:t>söï phaùt trieå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5943600"/>
            <a:ext cx="6172200" cy="609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Times"/>
              </a:rPr>
              <a:t>Sô ñoà 2.8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Tính chaát cuûa söï phaùt trieå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95680" y="2362320"/>
            <a:ext cx="3810240" cy="685800"/>
          </a:xfrm>
          <a:prstGeom prst="flowChartAlternateProcess">
            <a:avLst/>
          </a:prstGeom>
          <a:solidFill>
            <a:srgbClr val="6600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0f2c2"/>
                </a:solidFill>
                <a:latin typeface="VNI-Zap"/>
              </a:rPr>
              <a:t>Tính khaùch quan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95680" y="3429000"/>
            <a:ext cx="3810240" cy="685800"/>
          </a:xfrm>
          <a:prstGeom prst="flowChartAlternateProcess">
            <a:avLst/>
          </a:prstGeom>
          <a:solidFill>
            <a:srgbClr val="6600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0f2c2"/>
                </a:solidFill>
                <a:latin typeface="VNI-Zap"/>
              </a:rPr>
              <a:t>Tính phoå  bieá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4495680"/>
            <a:ext cx="3733920" cy="685800"/>
          </a:xfrm>
          <a:prstGeom prst="flowChartAlternateProcess">
            <a:avLst/>
          </a:prstGeom>
          <a:solidFill>
            <a:srgbClr val="6600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0f2c2"/>
                </a:solidFill>
                <a:latin typeface="VNI-Zap"/>
              </a:rPr>
              <a:t>Tính ña daïng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70" idx="3"/>
            <a:endCxn id="172" idx="1"/>
          </p:cNvCxnSpPr>
          <p:nvPr/>
        </p:nvCxnSpPr>
        <p:spPr>
          <a:xfrm flipV="1">
            <a:off x="3809520" y="2704680"/>
            <a:ext cx="68652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" name=""/>
          <p:cNvCxnSpPr>
            <a:stCxn id="170" idx="3"/>
            <a:endCxn id="173" idx="1"/>
          </p:cNvCxnSpPr>
          <p:nvPr/>
        </p:nvCxnSpPr>
        <p:spPr>
          <a:xfrm>
            <a:off x="3809520" y="3771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" name=""/>
          <p:cNvCxnSpPr>
            <a:stCxn id="170" idx="3"/>
            <a:endCxn id="174" idx="1"/>
          </p:cNvCxnSpPr>
          <p:nvPr/>
        </p:nvCxnSpPr>
        <p:spPr>
          <a:xfrm>
            <a:off x="3809520" y="3771720"/>
            <a:ext cx="68652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736560" y="130824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Duff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NI-Duff"/>
              </a:rPr>
              <a:t>b. Tính chấ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35920" y="762120"/>
            <a:ext cx="617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NGUYÊN LÝ VỀ SỰ PHÁT TRIỂ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19320" y="5867280"/>
            <a:ext cx="7086600" cy="609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Times"/>
              </a:rPr>
              <a:t>Sô ñoà 2.9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i="1" lang="en-US" sz="2400" spc="-1" strike="noStrike">
                <a:solidFill>
                  <a:srgbClr val="777777"/>
                </a:solidFill>
                <a:latin typeface="VNI-Univer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Toång quaùt veà söï phaùt trieå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76320" y="1141920"/>
            <a:ext cx="8915400" cy="4242600"/>
            <a:chOff x="76320" y="1141920"/>
            <a:chExt cx="8915400" cy="4242600"/>
          </a:xfrm>
        </p:grpSpPr>
        <p:sp>
          <p:nvSpPr>
            <p:cNvPr id="182" name=""/>
            <p:cNvSpPr/>
            <p:nvPr/>
          </p:nvSpPr>
          <p:spPr>
            <a:xfrm>
              <a:off x="76320" y="2666880"/>
              <a:ext cx="2286000" cy="990720"/>
            </a:xfrm>
            <a:prstGeom prst="roundRect">
              <a:avLst>
                <a:gd name="adj" fmla="val 16667"/>
              </a:avLst>
            </a:prstGeom>
            <a:solidFill>
              <a:srgbClr val="6600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0f2c2"/>
                  </a:solidFill>
                  <a:latin typeface="VNI-Vivi"/>
                </a:rPr>
                <a:t>Nguyeân lyù veà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0f2c2"/>
                  </a:solidFill>
                  <a:latin typeface="VNI-Vivi"/>
                </a:rPr>
                <a:t>söï phaùt trieå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38280" y="3809880"/>
              <a:ext cx="1981440" cy="838080"/>
            </a:xfrm>
            <a:prstGeom prst="roundRect">
              <a:avLst>
                <a:gd name="adj" fmla="val 16667"/>
              </a:avLst>
            </a:prstGeom>
            <a:solidFill>
              <a:srgbClr val="6600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0f2c2"/>
                  </a:solidFill>
                  <a:latin typeface="VNI-Duff"/>
                </a:rPr>
                <a:t>Tính chaá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0f2c2"/>
                  </a:solidFill>
                  <a:latin typeface="VNI-Duff"/>
                </a:rPr>
                <a:t>cuûa phaùt trieå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00600" y="1371600"/>
              <a:ext cx="1981080" cy="838080"/>
            </a:xfrm>
            <a:prstGeom prst="roundRect">
              <a:avLst>
                <a:gd name="adj" fmla="val 16667"/>
              </a:avLst>
            </a:prstGeom>
            <a:solidFill>
              <a:srgbClr val="6600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0f2c2"/>
                  </a:solidFill>
                  <a:latin typeface="VNI-Univer"/>
                </a:rPr>
                <a:t>Vaän ñoäng the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0f2c2"/>
                  </a:solidFill>
                  <a:latin typeface="VNI-Univer"/>
                </a:rPr>
                <a:t>höôùng tieán bo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14600" y="1371600"/>
              <a:ext cx="1828800" cy="838080"/>
            </a:xfrm>
            <a:prstGeom prst="roundRect">
              <a:avLst>
                <a:gd name="adj" fmla="val 16667"/>
              </a:avLst>
            </a:prstGeom>
            <a:solidFill>
              <a:srgbClr val="6600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0f2c2"/>
                  </a:solidFill>
                  <a:latin typeface="VNI-Duff"/>
                </a:rPr>
                <a:t>Khaùi nieä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0f2c2"/>
                  </a:solidFill>
                  <a:latin typeface="VNI-Duff"/>
                </a:rPr>
                <a:t>phaùt trieå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76920" y="3276360"/>
              <a:ext cx="1981080" cy="533520"/>
            </a:xfrm>
            <a:prstGeom prst="roundRect">
              <a:avLst>
                <a:gd name="adj" fmla="val 16667"/>
              </a:avLst>
            </a:prstGeom>
            <a:solidFill>
              <a:srgbClr val="6600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0f2c2"/>
                  </a:solidFill>
                  <a:latin typeface="VNI-Univer"/>
                </a:rPr>
                <a:t>Khaùch qu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876920" y="3962160"/>
              <a:ext cx="1981080" cy="533520"/>
            </a:xfrm>
            <a:prstGeom prst="roundRect">
              <a:avLst>
                <a:gd name="adj" fmla="val 16667"/>
              </a:avLst>
            </a:prstGeom>
            <a:solidFill>
              <a:srgbClr val="6600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0f2c2"/>
                  </a:solidFill>
                  <a:latin typeface="VNI-Univer"/>
                </a:rPr>
                <a:t>Tính phoå bieá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76920" y="4647960"/>
              <a:ext cx="1981080" cy="533520"/>
            </a:xfrm>
            <a:prstGeom prst="roundRect">
              <a:avLst>
                <a:gd name="adj" fmla="val 16667"/>
              </a:avLst>
            </a:prstGeom>
            <a:solidFill>
              <a:srgbClr val="6600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0f2c2"/>
                  </a:solidFill>
                  <a:latin typeface="VNI-Univer"/>
                </a:rPr>
                <a:t>Tính ña daï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9" name=""/>
            <p:cNvCxnSpPr>
              <a:stCxn id="182" idx="3"/>
              <a:endCxn id="185" idx="1"/>
            </p:cNvCxnSpPr>
            <p:nvPr/>
          </p:nvCxnSpPr>
          <p:spPr>
            <a:xfrm flipV="1">
              <a:off x="2361960" y="1790280"/>
              <a:ext cx="153000" cy="13723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90" name=""/>
            <p:cNvCxnSpPr>
              <a:stCxn id="182" idx="3"/>
              <a:endCxn id="183" idx="1"/>
            </p:cNvCxnSpPr>
            <p:nvPr/>
          </p:nvCxnSpPr>
          <p:spPr>
            <a:xfrm>
              <a:off x="2361960" y="3161880"/>
              <a:ext cx="76680" cy="10674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91" name=""/>
            <p:cNvCxnSpPr>
              <a:stCxn id="185" idx="3"/>
              <a:endCxn id="184" idx="1"/>
            </p:cNvCxnSpPr>
            <p:nvPr/>
          </p:nvCxnSpPr>
          <p:spPr>
            <a:xfrm>
              <a:off x="4343400" y="1790280"/>
              <a:ext cx="4579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92" name=""/>
            <p:cNvCxnSpPr>
              <a:stCxn id="183" idx="3"/>
              <a:endCxn id="186" idx="1"/>
            </p:cNvCxnSpPr>
            <p:nvPr/>
          </p:nvCxnSpPr>
          <p:spPr>
            <a:xfrm flipV="1">
              <a:off x="4419720" y="3542400"/>
              <a:ext cx="457920" cy="6865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93" name=""/>
            <p:cNvCxnSpPr>
              <a:stCxn id="183" idx="3"/>
              <a:endCxn id="187" idx="1"/>
            </p:cNvCxnSpPr>
            <p:nvPr/>
          </p:nvCxnSpPr>
          <p:spPr>
            <a:xfrm>
              <a:off x="4419720" y="4228560"/>
              <a:ext cx="4579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94" name=""/>
            <p:cNvCxnSpPr>
              <a:stCxn id="183" idx="3"/>
              <a:endCxn id="188" idx="1"/>
            </p:cNvCxnSpPr>
            <p:nvPr/>
          </p:nvCxnSpPr>
          <p:spPr>
            <a:xfrm>
              <a:off x="4419720" y="4228560"/>
              <a:ext cx="457920" cy="6865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sp>
          <p:nvSpPr>
            <p:cNvPr id="195" name=""/>
            <p:cNvSpPr/>
            <p:nvPr/>
          </p:nvSpPr>
          <p:spPr>
            <a:xfrm>
              <a:off x="7315200" y="2438280"/>
              <a:ext cx="1676520" cy="838080"/>
            </a:xfrm>
            <a:prstGeom prst="roundRect">
              <a:avLst>
                <a:gd name="adj" fmla="val 16667"/>
              </a:avLst>
            </a:prstGeom>
            <a:solidFill>
              <a:srgbClr val="6600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0f2c2"/>
                  </a:solidFill>
                  <a:latin typeface="VNI-Souvir"/>
                </a:rPr>
                <a:t>Quan ñieåm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0f2c2"/>
                  </a:solidFill>
                  <a:latin typeface="VNI-Souvir"/>
                </a:rPr>
                <a:t>phaùt trieå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"/>
            <p:cNvCxnSpPr>
              <a:stCxn id="183" idx="2"/>
              <a:endCxn id="195" idx="2"/>
            </p:cNvCxnSpPr>
            <p:nvPr/>
          </p:nvCxnSpPr>
          <p:spPr>
            <a:xfrm flipH="1" flipV="1" rot="5400000">
              <a:off x="5104080" y="1599480"/>
              <a:ext cx="1372320" cy="4725000"/>
            </a:xfrm>
            <a:prstGeom prst="bentConnector3">
              <a:avLst>
                <a:gd name="adj1" fmla="val -53686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7" name=""/>
            <p:cNvCxnSpPr>
              <a:stCxn id="185" idx="0"/>
              <a:endCxn id="195" idx="0"/>
            </p:cNvCxnSpPr>
            <p:nvPr/>
          </p:nvCxnSpPr>
          <p:spPr>
            <a:xfrm flipH="1" rot="16200000">
              <a:off x="5257440" y="-458280"/>
              <a:ext cx="1067400" cy="4725000"/>
            </a:xfrm>
            <a:prstGeom prst="bentConnector3">
              <a:avLst>
                <a:gd name="adj1" fmla="val -21423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98" name=""/>
          <p:cNvSpPr/>
          <p:nvPr/>
        </p:nvSpPr>
        <p:spPr>
          <a:xfrm>
            <a:off x="295200" y="669960"/>
            <a:ext cx="20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KẾT LU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5360" y="203040"/>
            <a:ext cx="60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NGUYÊN LÝ VỀ SỰ PHÁT TRIỂ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219320" y="152280"/>
            <a:ext cx="68580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800000">
                    <a:alpha val="95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VNI-Times"/>
              </a:rPr>
              <a:t>II.THEÁ GIÔÙI VAÄN ÑOÄNG PHAÙT TRIEÅN THEO QUY LUAÄT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800000">
                  <a:alpha val="95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VNI-Times"/>
              <a:ea typeface="VNI-Times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5562720"/>
            <a:ext cx="5639040" cy="609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NI-Times"/>
              </a:rPr>
              <a:t>Sô ñoà 2.10:</a:t>
            </a:r>
            <a:r>
              <a:rPr b="1" lang="en-US" sz="24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hái </a:t>
            </a:r>
            <a:r>
              <a:rPr b="1" lang="en-US" sz="2400" spc="-1" strike="noStrike">
                <a:solidFill>
                  <a:srgbClr val="000000"/>
                </a:solidFill>
                <a:latin typeface="VNI-Times"/>
              </a:rPr>
              <a:t>niệm </a:t>
            </a:r>
            <a:r>
              <a:rPr b="1" i="1" lang="en-US" sz="3200" spc="-1" strike="noStrike">
                <a:solidFill>
                  <a:srgbClr val="000000"/>
                </a:solidFill>
                <a:latin typeface="VNI-Times"/>
              </a:rPr>
              <a:t>Quy luaä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143000" y="990720"/>
            <a:ext cx="33526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NI-Times"/>
              </a:rPr>
              <a:t>1.Quy luaät laø gì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NI-Times"/>
              <a:ea typeface="VNI-Times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124080"/>
            <a:ext cx="1905120" cy="1143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NI-Park"/>
              </a:rPr>
              <a:t>Quy  luaä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3124080"/>
            <a:ext cx="3124440" cy="1143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VNI-Present"/>
              </a:rPr>
              <a:t>Moái lieân heä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VNI-Present"/>
              </a:rPr>
              <a:t>baûn chaát, taát nhieâ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48520" y="1905120"/>
            <a:ext cx="27432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00"/>
                </a:solidFill>
                <a:latin typeface="VNI-Disney"/>
              </a:rPr>
              <a:t>Giöõa caùc maë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00"/>
                </a:solidFill>
                <a:latin typeface="VNI-Disney"/>
              </a:rPr>
              <a:t>trong moät söï vaät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248520" y="4114800"/>
            <a:ext cx="2743200" cy="12193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00"/>
                </a:solidFill>
                <a:latin typeface="VNI-Disney"/>
              </a:rPr>
              <a:t>Giöõa caùc söï vaät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205" idx="3"/>
            <a:endCxn id="206" idx="1"/>
          </p:cNvCxnSpPr>
          <p:nvPr/>
        </p:nvCxnSpPr>
        <p:spPr>
          <a:xfrm>
            <a:off x="2146320" y="3695400"/>
            <a:ext cx="7372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0" name=""/>
          <p:cNvCxnSpPr>
            <a:stCxn id="206" idx="3"/>
            <a:endCxn id="207" idx="1"/>
          </p:cNvCxnSpPr>
          <p:nvPr/>
        </p:nvCxnSpPr>
        <p:spPr>
          <a:xfrm flipV="1">
            <a:off x="6032520" y="2628360"/>
            <a:ext cx="203760" cy="1067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206" idx="3"/>
            <a:endCxn id="208" idx="1"/>
          </p:cNvCxnSpPr>
          <p:nvPr/>
        </p:nvCxnSpPr>
        <p:spPr>
          <a:xfrm>
            <a:off x="6032520" y="3695400"/>
            <a:ext cx="203760" cy="1028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8600" y="6248520"/>
            <a:ext cx="8534520" cy="609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VNI-Times"/>
              </a:rPr>
              <a:t>Sô ñoà 2.11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VNI-Tekon"/>
              </a:rPr>
              <a:t>Phaân loaïi quy luaät döïa vaøo tính phoå bie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51040" y="990720"/>
            <a:ext cx="33526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2. Phân loại Quy luật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2819520"/>
            <a:ext cx="3504960" cy="2209680"/>
          </a:xfrm>
          <a:prstGeom prst="flowChartAlternateProcess">
            <a:avLst/>
          </a:prstGeom>
          <a:solidFill>
            <a:srgbClr val="993366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NI-Ariston"/>
              </a:rPr>
              <a:t>Phaân loïai qu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NI-Ariston"/>
              </a:rPr>
              <a:t>luaät döïa vaø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NI-Ariston"/>
              </a:rPr>
              <a:t>tính phoå bie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24280" y="1676520"/>
            <a:ext cx="3581640" cy="1371600"/>
          </a:xfrm>
          <a:prstGeom prst="flowChartAlternateProcess">
            <a:avLst/>
          </a:prstGeom>
          <a:solidFill>
            <a:srgbClr val="ffcc99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NI-Times"/>
              </a:rPr>
              <a:t>Quy luaät rieâ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4" idx="3"/>
            <a:endCxn id="215" idx="1"/>
          </p:cNvCxnSpPr>
          <p:nvPr/>
        </p:nvCxnSpPr>
        <p:spPr>
          <a:xfrm flipV="1">
            <a:off x="4279680" y="2361600"/>
            <a:ext cx="432360" cy="1562760"/>
          </a:xfrm>
          <a:prstGeom prst="straightConnector1">
            <a:avLst/>
          </a:prstGeom>
          <a:ln w="38160">
            <a:solidFill>
              <a:srgbClr val="c0c0c0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4724280" y="3276720"/>
            <a:ext cx="3505320" cy="1143000"/>
          </a:xfrm>
          <a:prstGeom prst="flowChartAlternateProcess">
            <a:avLst/>
          </a:prstGeom>
          <a:solidFill>
            <a:srgbClr val="ffcc99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NI-Times"/>
              </a:rPr>
              <a:t>Quy luaät ch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24280" y="4724280"/>
            <a:ext cx="3505320" cy="1371600"/>
          </a:xfrm>
          <a:prstGeom prst="flowChartAlternateProcess">
            <a:avLst/>
          </a:prstGeom>
          <a:solidFill>
            <a:srgbClr val="ffcc99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NI-Times"/>
              </a:rPr>
              <a:t>Quy luaä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NI-Times"/>
              </a:rPr>
              <a:t>phoå bie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"/>
          <p:cNvCxnSpPr>
            <a:stCxn id="214" idx="3"/>
            <a:endCxn id="217" idx="1"/>
          </p:cNvCxnSpPr>
          <p:nvPr/>
        </p:nvCxnSpPr>
        <p:spPr>
          <a:xfrm flipV="1">
            <a:off x="4279680" y="3848040"/>
            <a:ext cx="432360" cy="76680"/>
          </a:xfrm>
          <a:prstGeom prst="straightConnector1">
            <a:avLst/>
          </a:prstGeom>
          <a:ln w="38160">
            <a:solidFill>
              <a:srgbClr val="c0c0c0"/>
            </a:solidFill>
            <a:miter/>
          </a:ln>
        </p:spPr>
      </p:cxnSp>
      <p:cxnSp>
        <p:nvCxnSpPr>
          <p:cNvPr id="220" name=""/>
          <p:cNvCxnSpPr>
            <a:stCxn id="214" idx="3"/>
            <a:endCxn id="218" idx="1"/>
          </p:cNvCxnSpPr>
          <p:nvPr/>
        </p:nvCxnSpPr>
        <p:spPr>
          <a:xfrm>
            <a:off x="4279680" y="3924000"/>
            <a:ext cx="432360" cy="1486440"/>
          </a:xfrm>
          <a:prstGeom prst="straightConnector1">
            <a:avLst/>
          </a:prstGeom>
          <a:ln w="38160">
            <a:solidFill>
              <a:srgbClr val="c0c0c0"/>
            </a:solidFill>
            <a:miter/>
          </a:ln>
        </p:spPr>
      </p:cxnSp>
      <p:sp>
        <p:nvSpPr>
          <p:cNvPr id="221" name=""/>
          <p:cNvSpPr txBox="1"/>
          <p:nvPr/>
        </p:nvSpPr>
        <p:spPr>
          <a:xfrm>
            <a:off x="825480" y="152280"/>
            <a:ext cx="68580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800000">
                    <a:alpha val="95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VNI-Times"/>
              </a:rPr>
              <a:t>II.THEÁ GIÔÙI VAÄN ÑOÄNG PHAÙT TRIEÅN THEO QUY LUAÄT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800000">
                  <a:alpha val="95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VNI-Times"/>
              <a:ea typeface="VNI-Times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4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650"/>
                            </p:stCondLst>
                            <p:childTnLst>
                              <p:par>
                                <p:cTn id="45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750"/>
                            </p:stCondLst>
                            <p:childTnLst>
                              <p:par>
                                <p:cTn id="46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5867280"/>
            <a:ext cx="7696440" cy="609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777777"/>
                </a:solidFill>
                <a:uFillTx/>
                <a:latin typeface="VNI-Times"/>
              </a:rPr>
              <a:t>Sô ñoà 2.12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Phaân loaïi quy luaät döïa vaøo lónh vöï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2362320"/>
            <a:ext cx="3200400" cy="2133360"/>
          </a:xfrm>
          <a:prstGeom prst="flowChartAlternateProcess">
            <a:avLst/>
          </a:prstGeom>
          <a:solidFill>
            <a:srgbClr val="ff99cc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NI-Ariston"/>
              </a:rPr>
              <a:t>Phaân loaïi qu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NI-Ariston"/>
              </a:rPr>
              <a:t>luaät döïa vaø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NI-Ariston"/>
              </a:rPr>
              <a:t>lónh vöï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1219320"/>
            <a:ext cx="3353040" cy="1295280"/>
          </a:xfrm>
          <a:prstGeom prst="flowChartAlternateProcess">
            <a:avLst/>
          </a:prstGeom>
          <a:solidFill>
            <a:srgbClr val="ff99cc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NI-Times"/>
              </a:rPr>
              <a:t>Quy luaä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NI-Times"/>
              </a:rPr>
              <a:t>töï nhieâ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225" idx="3"/>
            <a:endCxn id="226" idx="1"/>
          </p:cNvCxnSpPr>
          <p:nvPr/>
        </p:nvCxnSpPr>
        <p:spPr>
          <a:xfrm flipV="1">
            <a:off x="4280040" y="1866240"/>
            <a:ext cx="660600" cy="1562760"/>
          </a:xfrm>
          <a:prstGeom prst="straightConnector1">
            <a:avLst/>
          </a:prstGeom>
          <a:ln w="38160">
            <a:solidFill>
              <a:srgbClr val="003300"/>
            </a:solidFill>
            <a:miter/>
          </a:ln>
        </p:spPr>
      </p:cxnSp>
      <p:sp>
        <p:nvSpPr>
          <p:cNvPr id="228" name=""/>
          <p:cNvSpPr/>
          <p:nvPr/>
        </p:nvSpPr>
        <p:spPr>
          <a:xfrm>
            <a:off x="4952880" y="2819520"/>
            <a:ext cx="3353040" cy="1143000"/>
          </a:xfrm>
          <a:prstGeom prst="flowChartAlternateProcess">
            <a:avLst/>
          </a:prstGeom>
          <a:solidFill>
            <a:srgbClr val="ff99cc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NI-Times"/>
              </a:rPr>
              <a:t>Quy luaät X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4267080"/>
            <a:ext cx="3353040" cy="1371600"/>
          </a:xfrm>
          <a:prstGeom prst="flowChartAlternateProcess">
            <a:avLst/>
          </a:prstGeom>
          <a:solidFill>
            <a:srgbClr val="ff99cc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NI-Times"/>
              </a:rPr>
              <a:t>Quy luaä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NI-Times"/>
              </a:rPr>
              <a:t>Tö d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"/>
          <p:cNvCxnSpPr>
            <a:stCxn id="225" idx="3"/>
            <a:endCxn id="228" idx="1"/>
          </p:cNvCxnSpPr>
          <p:nvPr/>
        </p:nvCxnSpPr>
        <p:spPr>
          <a:xfrm flipV="1">
            <a:off x="4280040" y="3390480"/>
            <a:ext cx="660600" cy="38880"/>
          </a:xfrm>
          <a:prstGeom prst="straightConnector1">
            <a:avLst/>
          </a:prstGeom>
          <a:ln w="38160">
            <a:solidFill>
              <a:srgbClr val="003300"/>
            </a:solidFill>
            <a:miter/>
          </a:ln>
        </p:spPr>
      </p:cxnSp>
      <p:cxnSp>
        <p:nvCxnSpPr>
          <p:cNvPr id="231" name=""/>
          <p:cNvCxnSpPr>
            <a:stCxn id="225" idx="3"/>
            <a:endCxn id="229" idx="1"/>
          </p:cNvCxnSpPr>
          <p:nvPr/>
        </p:nvCxnSpPr>
        <p:spPr>
          <a:xfrm>
            <a:off x="4280040" y="3428640"/>
            <a:ext cx="660600" cy="1524600"/>
          </a:xfrm>
          <a:prstGeom prst="straightConnector1">
            <a:avLst/>
          </a:prstGeom>
          <a:ln w="38160">
            <a:solidFill>
              <a:srgbClr val="003300"/>
            </a:solidFill>
            <a:miter/>
          </a:ln>
        </p:spPr>
      </p:cxnSp>
      <p:sp>
        <p:nvSpPr>
          <p:cNvPr id="232" name=""/>
          <p:cNvSpPr txBox="1"/>
          <p:nvPr/>
        </p:nvSpPr>
        <p:spPr>
          <a:xfrm>
            <a:off x="1219320" y="152280"/>
            <a:ext cx="68580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800000">
                    <a:alpha val="95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VNI-Times"/>
              </a:rPr>
              <a:t>II.THEÁ GIÔÙI VAÄN ÑOÄNG PHAÙT TRIEÅN THEO QUY LUAÄT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800000">
                  <a:alpha val="95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VNI-Times"/>
              <a:ea typeface="VNI-Times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500"/>
                            </p:stCondLst>
                            <p:childTnLst>
                              <p:par>
                                <p:cTn id="50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1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800"/>
                            </p:stCondLst>
                            <p:childTnLst>
                              <p:par>
                                <p:cTn id="51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2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4750"/>
                            </p:stCondLst>
                            <p:childTnLst>
                              <p:par>
                                <p:cTn id="52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5486400"/>
            <a:ext cx="7848360" cy="609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777777"/>
                </a:solidFill>
                <a:uFillTx/>
                <a:latin typeface="VNI-Times"/>
              </a:rPr>
              <a:t>Sô ñoà 2.13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Caùc quy luaät cuûa pheùp bieän chöù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209680"/>
            <a:ext cx="3200400" cy="2133720"/>
          </a:xfrm>
          <a:prstGeom prst="flowChartAlternateProcess">
            <a:avLst/>
          </a:pr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NI-Times"/>
              </a:rPr>
              <a:t>Caùc quy luaä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NI-Times"/>
              </a:rPr>
              <a:t>cuûa pheùp 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43400" y="2286000"/>
            <a:ext cx="4267080" cy="1981080"/>
          </a:xfrm>
          <a:prstGeom prst="flowChartAlternateProcess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NI-Bodon"/>
              </a:rPr>
              <a:t>Caùc quy luaät phoå bieá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NI-Bodon"/>
              </a:rPr>
              <a:t>cuûa töï nhieâ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NI-Bodon"/>
              </a:rPr>
              <a:t>xaõ hoäi, tö du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6" idx="3"/>
            <a:endCxn id="237" idx="1"/>
          </p:cNvCxnSpPr>
          <p:nvPr/>
        </p:nvCxnSpPr>
        <p:spPr>
          <a:xfrm>
            <a:off x="3822480" y="3276360"/>
            <a:ext cx="508680" cy="1080"/>
          </a:xfrm>
          <a:prstGeom prst="straightConnector1">
            <a:avLst/>
          </a:prstGeom>
          <a:ln w="38160">
            <a:solidFill>
              <a:srgbClr val="333300"/>
            </a:solidFill>
            <a:miter/>
          </a:ln>
        </p:spPr>
      </p:cxnSp>
      <p:sp>
        <p:nvSpPr>
          <p:cNvPr id="239" name=""/>
          <p:cNvSpPr txBox="1"/>
          <p:nvPr/>
        </p:nvSpPr>
        <p:spPr>
          <a:xfrm>
            <a:off x="1219320" y="152280"/>
            <a:ext cx="68580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800000">
                    <a:alpha val="95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VNI-Times"/>
              </a:rPr>
              <a:t>II.THEÁ GIÔÙI VAÄN ÑOÄNG PHAÙT TRIEÅN THEO QUY LUAÄT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800000">
                  <a:alpha val="95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VNI-Times"/>
              <a:ea typeface="VNI-Times"/>
            </a:endParaRP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800"/>
                            </p:stCondLst>
                            <p:childTnLst>
                              <p:par>
                                <p:cTn id="5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666880" y="5486400"/>
            <a:ext cx="4038840" cy="609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777777"/>
                </a:solidFill>
                <a:uFillTx/>
                <a:latin typeface="VNI-Times"/>
              </a:rPr>
              <a:t>Sô ñoà 2.14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Maâu thuaã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32240" y="3733920"/>
            <a:ext cx="3353040" cy="1447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NI-Broad"/>
              </a:rPr>
              <a:t>Maët ñoái laäp</a:t>
            </a:r>
            <a:r>
              <a:rPr b="1" lang="en-US" sz="3200" spc="-1" strike="noStrike">
                <a:solidFill>
                  <a:srgbClr val="000066"/>
                </a:solidFill>
                <a:latin typeface="VNI-Chauce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NI-Chaucer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0880" y="838080"/>
            <a:ext cx="8229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ff9900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1.QL thống nhất và đấu tranh của các mặt đối lập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ff9900"/>
                  </a:gs>
                  <a:gs pos="100000">
                    <a:srgbClr val="ffffcc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3733920"/>
            <a:ext cx="3048120" cy="1371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VNI-Times"/>
              </a:rPr>
              <a:t>Maët ñoái laäp</a:t>
            </a:r>
            <a:r>
              <a:rPr b="1" lang="en-US" sz="3800" spc="-1" strike="noStrike">
                <a:solidFill>
                  <a:srgbClr val="000066"/>
                </a:solidFill>
                <a:latin typeface="VNI-Chaucer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VNI-Chaucer"/>
              </a:rPr>
              <a:t>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24480" y="4495680"/>
            <a:ext cx="4572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32040" y="4267080"/>
            <a:ext cx="1403640" cy="18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632040" y="4495680"/>
            <a:ext cx="1403640" cy="180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2120" y="1709640"/>
            <a:ext cx="7696080" cy="17398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35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VNI-Dom"/>
              </a:rPr>
              <a:t>-Maâu thuaãn laø maët ñoái laäp lieân heä, taùc ñoäng qua laïi nhau trong moät theå thoáng nhaá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08360" y="3809880"/>
            <a:ext cx="14731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VNI-Aptima"/>
              </a:rPr>
              <a:t>Maâu thuaã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143000" y="152280"/>
            <a:ext cx="68580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800000">
                    <a:alpha val="95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VNI-Times"/>
              </a:rPr>
              <a:t>III. Nhöõng quy luaät cô baûn cuûa pheùp BC DV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800000">
                  <a:alpha val="95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VNI-Times"/>
              <a:ea typeface="VNI-Times"/>
            </a:endParaRPr>
          </a:p>
        </p:txBody>
      </p:sp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1239840"/>
            <a:ext cx="9144000" cy="92160"/>
          </a:xfrm>
          <a:prstGeom prst="flowChartProcess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1239840"/>
            <a:ext cx="9144000" cy="92160"/>
          </a:xfrm>
          <a:prstGeom prst="flowChartProcess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6172200" y="5638680"/>
            <a:ext cx="2971800" cy="1219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Times"/>
              </a:rPr>
              <a:t>Sô ñoà 2.15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77777"/>
                </a:solidFill>
                <a:latin typeface="VNI-Tekon"/>
              </a:rPr>
              <a:t>Thoáng nhaát caùc maët ñoái laä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4724280"/>
            <a:ext cx="6019920" cy="35060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35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NI-Dom"/>
              </a:rPr>
              <a:t>Thoáng nhaát cuûa 2 maët ñoái laäp laø söï nöông töïa laãn nhau, töông taùc qua laïi, thoáng nhaát, ñoàng nhaát, cuøng chuyeån hoùa (sang maët ñoái laäp kia, hoaëc thaønh caùi khaù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6320" y="1905120"/>
            <a:ext cx="2514600" cy="1828800"/>
          </a:xfrm>
          <a:prstGeom prst="flowChartProcess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NI-Times"/>
              </a:rPr>
              <a:t>Thoáng nhaá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NI-Times"/>
              </a:rPr>
              <a:t>cuûa caùc maë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NI-Times"/>
              </a:rPr>
              <a:t>ñoái laä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048120" y="1219320"/>
            <a:ext cx="3962160" cy="609480"/>
          </a:xfrm>
          <a:prstGeom prst="flowChartProcess">
            <a:avLst/>
          </a:prstGeom>
          <a:blipFill rotWithShape="0">
            <a:blip r:embed="rId6"/>
            <a:srcRect/>
            <a:stretch/>
          </a:blip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VNI-Revue"/>
              </a:rPr>
              <a:t>Toàn taïi khoâng rôøi nh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8120" y="2057400"/>
            <a:ext cx="3962160" cy="609480"/>
          </a:xfrm>
          <a:prstGeom prst="flowChartProcess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VNI-Revue"/>
              </a:rPr>
              <a:t>Taùc ñoäng qua laïi laãn nha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8120" y="2895480"/>
            <a:ext cx="3962160" cy="609840"/>
          </a:xfrm>
          <a:prstGeom prst="flowChartProcess">
            <a:avLst/>
          </a:prstGeom>
          <a:blipFill rotWithShape="0">
            <a:blip r:embed="rId8"/>
            <a:srcRect/>
            <a:stretch/>
          </a:blip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VNI-Revue"/>
              </a:rPr>
              <a:t>Thaâm nhaäp laãn nh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3733920"/>
            <a:ext cx="3962160" cy="609480"/>
          </a:xfrm>
          <a:prstGeom prst="flowChartProcess">
            <a:avLst/>
          </a:prstGeom>
          <a:blipFill rotWithShape="0">
            <a:blip r:embed="rId9"/>
            <a:srcRect/>
            <a:stretch/>
          </a:blip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VNI-Times"/>
              </a:rPr>
              <a:t>Chuyeån hoùa laãn nh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467480" y="1981080"/>
            <a:ext cx="1600200" cy="1600200"/>
          </a:xfrm>
          <a:prstGeom prst="flowChartProcess">
            <a:avLst/>
          </a:prstGeom>
          <a:blipFill rotWithShape="0">
            <a:blip r:embed="rId10"/>
            <a:srcRect/>
            <a:stretch/>
          </a:blip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VNI-Times"/>
              </a:rPr>
              <a:t>Ñoà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VNI-Times"/>
              </a:rPr>
              <a:t>nhaá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58" idx="3"/>
            <a:endCxn id="259" idx="1"/>
          </p:cNvCxnSpPr>
          <p:nvPr/>
        </p:nvCxnSpPr>
        <p:spPr>
          <a:xfrm flipV="1">
            <a:off x="2603160" y="1523160"/>
            <a:ext cx="432360" cy="1296360"/>
          </a:xfrm>
          <a:prstGeom prst="straightConnector1">
            <a:avLst/>
          </a:prstGeom>
          <a:ln w="38160">
            <a:solidFill>
              <a:srgbClr val="0000ff"/>
            </a:solidFill>
            <a:miter/>
          </a:ln>
        </p:spPr>
      </p:cxnSp>
      <p:cxnSp>
        <p:nvCxnSpPr>
          <p:cNvPr id="265" name=""/>
          <p:cNvCxnSpPr>
            <a:stCxn id="258" idx="3"/>
            <a:endCxn id="260" idx="1"/>
          </p:cNvCxnSpPr>
          <p:nvPr/>
        </p:nvCxnSpPr>
        <p:spPr>
          <a:xfrm flipV="1">
            <a:off x="2603160" y="2361960"/>
            <a:ext cx="432360" cy="457920"/>
          </a:xfrm>
          <a:prstGeom prst="straightConnector1">
            <a:avLst/>
          </a:prstGeom>
          <a:ln w="38160">
            <a:solidFill>
              <a:srgbClr val="0000ff"/>
            </a:solidFill>
            <a:miter/>
          </a:ln>
        </p:spPr>
      </p:cxnSp>
      <p:cxnSp>
        <p:nvCxnSpPr>
          <p:cNvPr id="266" name=""/>
          <p:cNvCxnSpPr>
            <a:stCxn id="258" idx="3"/>
            <a:endCxn id="261" idx="1"/>
          </p:cNvCxnSpPr>
          <p:nvPr/>
        </p:nvCxnSpPr>
        <p:spPr>
          <a:xfrm>
            <a:off x="2603160" y="2819520"/>
            <a:ext cx="432360" cy="381600"/>
          </a:xfrm>
          <a:prstGeom prst="straightConnector1">
            <a:avLst/>
          </a:prstGeom>
          <a:ln w="38160">
            <a:solidFill>
              <a:srgbClr val="0000ff"/>
            </a:solidFill>
            <a:miter/>
          </a:ln>
        </p:spPr>
      </p:cxnSp>
      <p:cxnSp>
        <p:nvCxnSpPr>
          <p:cNvPr id="267" name=""/>
          <p:cNvCxnSpPr>
            <a:stCxn id="258" idx="3"/>
            <a:endCxn id="262" idx="1"/>
          </p:cNvCxnSpPr>
          <p:nvPr/>
        </p:nvCxnSpPr>
        <p:spPr>
          <a:xfrm>
            <a:off x="2603160" y="2819520"/>
            <a:ext cx="432360" cy="1219680"/>
          </a:xfrm>
          <a:prstGeom prst="straightConnector1">
            <a:avLst/>
          </a:prstGeom>
          <a:ln w="38160">
            <a:solidFill>
              <a:srgbClr val="0000ff"/>
            </a:solidFill>
            <a:miter/>
          </a:ln>
        </p:spPr>
      </p:cxnSp>
      <p:cxnSp>
        <p:nvCxnSpPr>
          <p:cNvPr id="268" name=""/>
          <p:cNvCxnSpPr>
            <a:stCxn id="261" idx="3"/>
            <a:endCxn id="263" idx="1"/>
          </p:cNvCxnSpPr>
          <p:nvPr/>
        </p:nvCxnSpPr>
        <p:spPr>
          <a:xfrm flipV="1">
            <a:off x="7022880" y="2781000"/>
            <a:ext cx="432360" cy="419760"/>
          </a:xfrm>
          <a:prstGeom prst="straightConnector1">
            <a:avLst/>
          </a:prstGeom>
          <a:ln w="38160">
            <a:solidFill>
              <a:srgbClr val="0000ff"/>
            </a:solidFill>
            <a:miter/>
          </a:ln>
        </p:spPr>
      </p:cxnSp>
      <p:cxnSp>
        <p:nvCxnSpPr>
          <p:cNvPr id="269" name=""/>
          <p:cNvCxnSpPr>
            <a:stCxn id="260" idx="3"/>
            <a:endCxn id="263" idx="1"/>
          </p:cNvCxnSpPr>
          <p:nvPr/>
        </p:nvCxnSpPr>
        <p:spPr>
          <a:xfrm>
            <a:off x="7022880" y="2362320"/>
            <a:ext cx="432360" cy="419760"/>
          </a:xfrm>
          <a:prstGeom prst="straightConnector1">
            <a:avLst/>
          </a:prstGeom>
          <a:ln w="38160">
            <a:solidFill>
              <a:srgbClr val="0000ff"/>
            </a:solidFill>
            <a:miter/>
          </a:ln>
        </p:spPr>
      </p:cxnSp>
      <p:sp>
        <p:nvSpPr>
          <p:cNvPr id="270" name=""/>
          <p:cNvSpPr txBox="1"/>
          <p:nvPr/>
        </p:nvSpPr>
        <p:spPr>
          <a:xfrm>
            <a:off x="609480" y="76320"/>
            <a:ext cx="8001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ff9900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1. Quy luật thống nhất và đấu tranh của các mặt đối lập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ff9900"/>
                  </a:gs>
                  <a:gs pos="100000">
                    <a:srgbClr val="ffffcc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000"/>
                            </p:stCondLst>
                            <p:childTnLst>
                              <p:par>
                                <p:cTn id="6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2000"/>
                            </p:stCondLst>
                            <p:childTnLst>
                              <p:par>
                                <p:cTn id="64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3000"/>
                            </p:stCondLst>
                            <p:childTnLst>
                              <p:par>
                                <p:cTn id="65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219320" y="5486400"/>
            <a:ext cx="7010280" cy="685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777777"/>
                </a:solidFill>
                <a:uFillTx/>
                <a:latin typeface="VNI-Times"/>
              </a:rPr>
              <a:t>Sô ñoà 2.16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Ñaáu tranh cuûa caùc maët ñoái laä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838080"/>
            <a:ext cx="7162560" cy="10688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35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NI-Dom"/>
              </a:rPr>
              <a:t>Ñaáu tranh cuûa 2 maët ñoái laäp A &amp; A’ cuûa söï vaä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3809880"/>
            <a:ext cx="2514600" cy="1371600"/>
          </a:xfrm>
          <a:prstGeom prst="flowChartProcess">
            <a:avLst/>
          </a:prstGeom>
          <a:solidFill>
            <a:srgbClr val="ccffff"/>
          </a:solidFill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NI-Centur"/>
              </a:rPr>
              <a:t>Söï vaät B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NI-Centur"/>
              </a:rPr>
              <a:t>B </a:t>
            </a:r>
            <a:r>
              <a:rPr b="1" lang="en-US" sz="46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en-US" sz="4600" spc="-1" strike="noStrike">
                <a:solidFill>
                  <a:srgbClr val="000000"/>
                </a:solidFill>
                <a:latin typeface="VNI-Centur"/>
              </a:rPr>
              <a:t> </a:t>
            </a:r>
            <a:r>
              <a:rPr b="1" lang="en-US" sz="3800" spc="-1" strike="noStrike">
                <a:solidFill>
                  <a:srgbClr val="000000"/>
                </a:solidFill>
                <a:latin typeface="VNI-Centur"/>
              </a:rPr>
              <a:t>B’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523880" y="2057400"/>
            <a:ext cx="2514600" cy="1295280"/>
          </a:xfrm>
          <a:prstGeom prst="flowChartProcess">
            <a:avLst/>
          </a:prstGeom>
          <a:solidFill>
            <a:srgbClr val="ccffff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VNI-Times"/>
              </a:rPr>
              <a:t>Maët ñoái laä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VNI-Times"/>
              </a:rPr>
              <a:t>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34120" y="2057400"/>
            <a:ext cx="2438280" cy="1371600"/>
          </a:xfrm>
          <a:prstGeom prst="flowChartProcess">
            <a:avLst/>
          </a:prstGeom>
          <a:solidFill>
            <a:srgbClr val="ccffff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VNI-Times"/>
              </a:rPr>
              <a:t>Maët ñoái laä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VNI-Times"/>
              </a:rPr>
              <a:t>A’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2666880"/>
            <a:ext cx="1295640" cy="0"/>
          </a:xfrm>
          <a:prstGeom prst="line">
            <a:avLst/>
          </a:prstGeom>
          <a:ln w="38160">
            <a:solidFill>
              <a:srgbClr val="66ff33"/>
            </a:solidFill>
            <a:miter/>
            <a:headEnd len="med" type="triangle" w="lg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2819520"/>
            <a:ext cx="1295640" cy="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648320" y="2819520"/>
            <a:ext cx="0" cy="9903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76320"/>
            <a:ext cx="8001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ff9900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NI-Times"/>
              </a:rPr>
              <a:t>1.QL thoáng nhaát &amp; ñaáu tranh cuûa caùc maët ñoåi laäp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ff9900"/>
                  </a:gs>
                  <a:gs pos="100000">
                    <a:srgbClr val="ffffcc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NI-Times"/>
              <a:ea typeface="VNI-Times"/>
            </a:endParaRPr>
          </a:p>
        </p:txBody>
      </p:sp>
    </p:spTree>
  </p:cSld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500"/>
                            </p:stCondLst>
                            <p:childTnLst>
                              <p:par>
                                <p:cTn id="7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000"/>
                            </p:stCondLst>
                            <p:childTnLst>
                              <p:par>
                                <p:cTn id="70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500"/>
                            </p:stCondLst>
                            <p:childTnLst>
                              <p:par>
                                <p:cTn id="7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3000"/>
                            </p:stCondLst>
                            <p:childTnLst>
                              <p:par>
                                <p:cTn id="7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"/>
          <p:cNvGraphicFramePr/>
          <p:nvPr/>
        </p:nvGraphicFramePr>
        <p:xfrm>
          <a:off x="0" y="38088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5791320"/>
            <a:ext cx="8076960" cy="838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777777"/>
                </a:solidFill>
                <a:uFillTx/>
                <a:latin typeface="VNI-Times"/>
              </a:rPr>
              <a:t>Moâ hình 2.17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777777"/>
                </a:solidFill>
                <a:latin typeface="VNI-Tekon"/>
              </a:rPr>
              <a:t>Maâu thuaãn laø nguoàn goác, ñoäng löïc vaän ñoäng &amp; phaùt trieå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3124080"/>
            <a:ext cx="2590560" cy="2667240"/>
          </a:xfrm>
          <a:prstGeom prst="ellipse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3124080"/>
            <a:ext cx="2590560" cy="2667240"/>
          </a:xfrm>
          <a:prstGeom prst="ellipse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61920" y="33526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685800"/>
            <a:ext cx="7772400" cy="1981080"/>
          </a:xfrm>
          <a:prstGeom prst="wedgeRoundRectCallout">
            <a:avLst>
              <a:gd name="adj1" fmla="val -6333"/>
              <a:gd name="adj2" fmla="val 55449"/>
              <a:gd name="adj3" fmla="val 16667"/>
            </a:avLst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00"/>
                </a:solidFill>
                <a:latin typeface="VNI-Times"/>
              </a:rPr>
              <a:t>Giaûi thích</a:t>
            </a:r>
            <a:r>
              <a:rPr b="1" lang="en-US" sz="2500" spc="-1" strike="noStrike">
                <a:solidFill>
                  <a:srgbClr val="006600"/>
                </a:solidFill>
                <a:latin typeface="VNI-Heather"/>
              </a:rPr>
              <a:t>: </a:t>
            </a:r>
            <a:r>
              <a:rPr b="0" lang="en-US" sz="2200" spc="-1" strike="noStrike">
                <a:solidFill>
                  <a:srgbClr val="006600"/>
                </a:solidFill>
                <a:latin typeface="VNI-Vari"/>
              </a:rPr>
              <a:t>Söï vaät A (B) laø moät theå thoáng nhaát cuûa 2 maët ñoái laäp A, A’ (B, B’) cuõng coù theå xem A &amp; B laø 2 maët ñoái laäp cuûa 1 maâu thuaãn khaù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VNI-Vari"/>
              </a:rPr>
              <a:t>Muõi teân chæ söï töông taùc qua laïi, ñöôïc xem laø 2 maët ñoái laäp trong 1 theå thoáng nhaát (maâu thuaã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429000" y="3124080"/>
            <a:ext cx="609480" cy="2667240"/>
          </a:xfrm>
          <a:custGeom>
            <a:avLst/>
            <a:gdLst/>
            <a:ahLst/>
            <a:rect l="l" t="t" r="r" b="b"/>
            <a:pathLst>
              <a:path w="832" h="1680">
                <a:moveTo>
                  <a:pt x="352" y="0"/>
                </a:moveTo>
                <a:cubicBezTo>
                  <a:pt x="592" y="168"/>
                  <a:pt x="832" y="336"/>
                  <a:pt x="784" y="528"/>
                </a:cubicBezTo>
                <a:cubicBezTo>
                  <a:pt x="736" y="720"/>
                  <a:pt x="128" y="960"/>
                  <a:pt x="64" y="1152"/>
                </a:cubicBezTo>
                <a:cubicBezTo>
                  <a:pt x="0" y="1344"/>
                  <a:pt x="344" y="1592"/>
                  <a:pt x="400" y="168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638680" y="3048120"/>
            <a:ext cx="609840" cy="2743200"/>
          </a:xfrm>
          <a:custGeom>
            <a:avLst/>
            <a:gdLst/>
            <a:ahLst/>
            <a:rect l="l" t="t" r="r" b="b"/>
            <a:pathLst>
              <a:path w="832" h="1680">
                <a:moveTo>
                  <a:pt x="352" y="0"/>
                </a:moveTo>
                <a:cubicBezTo>
                  <a:pt x="592" y="168"/>
                  <a:pt x="832" y="336"/>
                  <a:pt x="784" y="528"/>
                </a:cubicBezTo>
                <a:cubicBezTo>
                  <a:pt x="736" y="720"/>
                  <a:pt x="128" y="960"/>
                  <a:pt x="64" y="1152"/>
                </a:cubicBezTo>
                <a:cubicBezTo>
                  <a:pt x="0" y="1344"/>
                  <a:pt x="344" y="1592"/>
                  <a:pt x="400" y="168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90920" y="403848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03840" y="40528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4191120"/>
            <a:ext cx="76212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24080" y="4343400"/>
            <a:ext cx="762120" cy="0"/>
          </a:xfrm>
          <a:prstGeom prst="line">
            <a:avLst/>
          </a:prstGeom>
          <a:ln w="38160">
            <a:solidFill>
              <a:srgbClr val="ff00ff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952880" y="396252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266160" y="39765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B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4114800"/>
            <a:ext cx="76212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86400" y="4267080"/>
            <a:ext cx="762120" cy="0"/>
          </a:xfrm>
          <a:prstGeom prst="line">
            <a:avLst/>
          </a:prstGeom>
          <a:ln w="38160">
            <a:solidFill>
              <a:srgbClr val="ff00ff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86200" y="266688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199480" y="2681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343400" y="2895480"/>
            <a:ext cx="76212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343400" y="3048120"/>
            <a:ext cx="762120" cy="0"/>
          </a:xfrm>
          <a:prstGeom prst="line">
            <a:avLst/>
          </a:prstGeom>
          <a:ln w="38160">
            <a:solidFill>
              <a:srgbClr val="ff00ff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0"/>
            <a:ext cx="8001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ff9900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NI-Times"/>
              </a:rPr>
              <a:t>1.QL thoáng nhaát &amp; ñaáu tranh cuûa caùc maët ñoåi laäp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ff9900"/>
                  </a:gs>
                  <a:gs pos="100000">
                    <a:srgbClr val="ffffcc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NI-Times"/>
              <a:ea typeface="VNI-Times"/>
            </a:endParaRPr>
          </a:p>
        </p:txBody>
      </p:sp>
    </p:spTree>
  </p:cSld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3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000"/>
                            </p:stCondLst>
                            <p:childTnLst>
                              <p:par>
                                <p:cTn id="8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04920" y="1066680"/>
            <a:ext cx="86104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66680" y="380880"/>
            <a:ext cx="7315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VNI-Times"/>
              </a:rPr>
              <a:t>BAØI 2: NHÖÕNG NGUYEÂN LYÙ VAØ NHÖÕNG QUY LUAÄT </a:t>
            </a:r>
            <a:endParaRPr b="1" lang="en-US" sz="1600" spc="1" strike="noStrike">
              <a:ln w="0">
                <a:noFill/>
              </a:ln>
              <a:solidFill>
                <a:srgbClr val="003366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VNI-Times"/>
              <a:ea typeface="VNI-Time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VNI-Times"/>
              </a:rPr>
              <a:t>CÔ BAÛN CUÛA PHEÙP BCDV</a:t>
            </a:r>
            <a:endParaRPr b="1" lang="en-US" sz="1600" spc="1" strike="noStrike">
              <a:ln w="0">
                <a:noFill/>
              </a:ln>
              <a:solidFill>
                <a:srgbClr val="003366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VNI-Times"/>
              <a:ea typeface="VNI-Times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371600"/>
            <a:ext cx="8458200" cy="6311880"/>
          </a:xfrm>
          <a:prstGeom prst="rect">
            <a:avLst/>
          </a:prstGeom>
          <a:solidFill>
            <a:srgbClr val="e6d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imes"/>
                <a:ea typeface="Times New Roman"/>
              </a:rPr>
              <a:t>I. HAI NGUYEÂN LYÙ TOÅNG QUAÙT CUÛA PHEÙP BCD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ime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NI-Times"/>
                <a:ea typeface="Times New Roman"/>
              </a:rPr>
              <a:t>1. Moái lieân heä phoå bie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ime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NI-Times"/>
                <a:ea typeface="Times New Roman"/>
              </a:rPr>
              <a:t>2. Söï phaùt trieå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imes"/>
                <a:ea typeface="Times New Roman"/>
              </a:rPr>
              <a:t>II. THEÁ GIÔÙI VAÄN ÑOÄNG PHAÙT TRIEÅN THEO QUY LUA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ime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NI-Times"/>
                <a:ea typeface="Times New Roman"/>
              </a:rPr>
              <a:t>1. Phaïm truø quy lua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ime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NI-Times"/>
                <a:ea typeface="Times New Roman"/>
              </a:rPr>
              <a:t>2. Quy luaät töï nhieân &amp; quy luaät xaõ hoä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ime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NI-Times"/>
                <a:ea typeface="Times New Roman"/>
              </a:rPr>
              <a:t>3. Tính khaùch quan cuûa quy luaät vaø vai troø cuûa con ngöôø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imes"/>
                <a:ea typeface="Times New Roman"/>
              </a:rPr>
              <a:t>III. NHÖÕNG QUY LUAÄT CÔ BAÛN CUÛA PHEÙP BCD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ime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NI-Times"/>
                <a:ea typeface="Times New Roman"/>
              </a:rPr>
              <a:t>1. Quy luaät thoáng nhaát vaø ñaáu tranh cuûa caùc maët ñoái laäp (QL Maâu thuaã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ime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NI-Times"/>
                <a:ea typeface="Times New Roman"/>
              </a:rPr>
              <a:t>2. Quy luaät töø nhöõng thay ñoåi veà löôïng daãn ñeán söï thay ñoåi veà chaát vaø ngöôïc laïi (QL löôïng – chaá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ime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NI-Times"/>
                <a:ea typeface="Times New Roman"/>
              </a:rPr>
              <a:t>3. Quy luaät phuû ñònh cuûa phuû ñò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1066680" y="6248520"/>
            <a:ext cx="716292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777777"/>
                </a:solidFill>
                <a:uFillTx/>
                <a:latin typeface="VNI-Times"/>
              </a:rPr>
              <a:t>Sô ñoà 2. 18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Phaân loaïi maâu thuaã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2120" y="304920"/>
            <a:ext cx="3886200" cy="990360"/>
          </a:xfrm>
          <a:prstGeom prst="rect">
            <a:avLst/>
          </a:prstGeom>
          <a:solidFill>
            <a:srgbClr val="ff99cc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VNI-Vari"/>
              </a:rPr>
              <a:t>Caên cöù vaøo moái qu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VNI-Vari"/>
              </a:rPr>
              <a:t>heä ñoái vôùi SV xem xeù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181480" y="152280"/>
            <a:ext cx="3810240" cy="609840"/>
          </a:xfrm>
          <a:prstGeom prst="rect">
            <a:avLst/>
          </a:prstGeom>
          <a:solidFill>
            <a:srgbClr val="bbe0e3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VNI-Dom"/>
              </a:rPr>
              <a:t>Maâu thuaãn beân tro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"/>
          <p:cNvCxnSpPr>
            <a:stCxn id="311" idx="3"/>
            <a:endCxn id="312" idx="1"/>
          </p:cNvCxnSpPr>
          <p:nvPr/>
        </p:nvCxnSpPr>
        <p:spPr>
          <a:xfrm flipV="1">
            <a:off x="4660560" y="456480"/>
            <a:ext cx="508680" cy="343800"/>
          </a:xfrm>
          <a:prstGeom prst="straightConnector1">
            <a:avLst/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14" name=""/>
          <p:cNvCxnSpPr>
            <a:stCxn id="311" idx="3"/>
            <a:endCxn id="315" idx="1"/>
          </p:cNvCxnSpPr>
          <p:nvPr/>
        </p:nvCxnSpPr>
        <p:spPr>
          <a:xfrm>
            <a:off x="4660560" y="800280"/>
            <a:ext cx="508680" cy="343440"/>
          </a:xfrm>
          <a:prstGeom prst="straightConnector1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685800" y="1905120"/>
            <a:ext cx="3886200" cy="990360"/>
          </a:xfrm>
          <a:prstGeom prst="rect">
            <a:avLst/>
          </a:prstGeom>
          <a:solidFill>
            <a:srgbClr val="ff99cc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VNI-Vari"/>
              </a:rPr>
              <a:t>Caên cöù vaøo vai tro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VNI-Vari"/>
              </a:rPr>
              <a:t>quyeát ñònh phaùt trieån S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85800" y="3352680"/>
            <a:ext cx="3962520" cy="990720"/>
          </a:xfrm>
          <a:prstGeom prst="rect">
            <a:avLst/>
          </a:prstGeom>
          <a:solidFill>
            <a:srgbClr val="ff99cc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VNI-Vari"/>
              </a:rPr>
              <a:t>Caên cöù vaøo vai troø ôõ moã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VNI-Vari"/>
              </a:rPr>
              <a:t>giai ñoaïn phaùt trieån S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4724280"/>
            <a:ext cx="3962520" cy="990720"/>
          </a:xfrm>
          <a:prstGeom prst="rect">
            <a:avLst/>
          </a:prstGeom>
          <a:solidFill>
            <a:srgbClr val="ff99cc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VNI-Vari"/>
              </a:rPr>
              <a:t>Caên cöù vaøo lôïi ích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VNI-Vari"/>
              </a:rPr>
              <a:t>ñòa vò XH giöõa caùc G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81480" y="838080"/>
            <a:ext cx="3810240" cy="609840"/>
          </a:xfrm>
          <a:prstGeom prst="rect">
            <a:avLst/>
          </a:prstGeom>
          <a:solidFill>
            <a:srgbClr val="bbe0e3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VNI-Dom"/>
              </a:rPr>
              <a:t>Maâu thuaãn beân ngoaøi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181480" y="1676520"/>
            <a:ext cx="3733920" cy="609480"/>
          </a:xfrm>
          <a:prstGeom prst="rect">
            <a:avLst/>
          </a:prstGeom>
          <a:solidFill>
            <a:srgbClr val="bbe0e3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VNI-Dom"/>
              </a:rPr>
              <a:t>Maâu thuaãn cô baû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53040" y="2362320"/>
            <a:ext cx="3762360" cy="609480"/>
          </a:xfrm>
          <a:prstGeom prst="rect">
            <a:avLst/>
          </a:prstGeom>
          <a:solidFill>
            <a:srgbClr val="bbe0e3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VNI-Dom"/>
              </a:rPr>
              <a:t>Maâu thuaãn khoâng cô baûn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133960" y="3200400"/>
            <a:ext cx="3857760" cy="609480"/>
          </a:xfrm>
          <a:prstGeom prst="rect">
            <a:avLst/>
          </a:prstGeom>
          <a:solidFill>
            <a:srgbClr val="bbe0e3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VNI-Dom"/>
              </a:rPr>
              <a:t>Maâu thuaãn chuû  yeáu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133960" y="3886200"/>
            <a:ext cx="3857760" cy="609480"/>
          </a:xfrm>
          <a:prstGeom prst="rect">
            <a:avLst/>
          </a:prstGeom>
          <a:solidFill>
            <a:srgbClr val="bbe0e3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VNI-Dom"/>
              </a:rPr>
              <a:t>Maâu thuaãn thöù yeáu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105520" y="4800600"/>
            <a:ext cx="3809880" cy="609480"/>
          </a:xfrm>
          <a:prstGeom prst="rect">
            <a:avLst/>
          </a:prstGeom>
          <a:solidFill>
            <a:srgbClr val="bbe0e3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VNI-Dom"/>
              </a:rPr>
              <a:t>Maâu thuaãn ñoái khaù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105520" y="5486400"/>
            <a:ext cx="3809880" cy="609480"/>
          </a:xfrm>
          <a:prstGeom prst="rect">
            <a:avLst/>
          </a:prstGeom>
          <a:solidFill>
            <a:srgbClr val="bbe0e3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VNI-Dom"/>
              </a:rPr>
              <a:t>Maâu thuaãn khoâng ñoái khaù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17" idx="3"/>
            <a:endCxn id="321" idx="1"/>
          </p:cNvCxnSpPr>
          <p:nvPr/>
        </p:nvCxnSpPr>
        <p:spPr>
          <a:xfrm flipV="1">
            <a:off x="4660560" y="3504960"/>
            <a:ext cx="461160" cy="343440"/>
          </a:xfrm>
          <a:prstGeom prst="straightConnector1">
            <a:avLst/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26" name=""/>
          <p:cNvCxnSpPr>
            <a:stCxn id="322" idx="1"/>
            <a:endCxn id="317" idx="3"/>
          </p:cNvCxnSpPr>
          <p:nvPr/>
        </p:nvCxnSpPr>
        <p:spPr>
          <a:xfrm flipH="1" flipV="1">
            <a:off x="4660200" y="3847320"/>
            <a:ext cx="461160" cy="343800"/>
          </a:xfrm>
          <a:prstGeom prst="straightConnector1">
            <a:avLst/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27" name=""/>
          <p:cNvCxnSpPr>
            <a:stCxn id="316" idx="3"/>
            <a:endCxn id="319" idx="1"/>
          </p:cNvCxnSpPr>
          <p:nvPr/>
        </p:nvCxnSpPr>
        <p:spPr>
          <a:xfrm flipV="1">
            <a:off x="4584240" y="1980360"/>
            <a:ext cx="585000" cy="420120"/>
          </a:xfrm>
          <a:prstGeom prst="straightConnector1">
            <a:avLst/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28" name=""/>
          <p:cNvCxnSpPr>
            <a:stCxn id="323" idx="1"/>
            <a:endCxn id="318" idx="3"/>
          </p:cNvCxnSpPr>
          <p:nvPr/>
        </p:nvCxnSpPr>
        <p:spPr>
          <a:xfrm flipH="1">
            <a:off x="4660200" y="5105160"/>
            <a:ext cx="432360" cy="114840"/>
          </a:xfrm>
          <a:prstGeom prst="straightConnector1">
            <a:avLst/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29" name=""/>
          <p:cNvCxnSpPr>
            <a:stCxn id="324" idx="1"/>
            <a:endCxn id="318" idx="3"/>
          </p:cNvCxnSpPr>
          <p:nvPr/>
        </p:nvCxnSpPr>
        <p:spPr>
          <a:xfrm flipH="1" flipV="1">
            <a:off x="4660200" y="5219280"/>
            <a:ext cx="432360" cy="572400"/>
          </a:xfrm>
          <a:prstGeom prst="straightConnector1">
            <a:avLst/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30" name=""/>
          <p:cNvCxnSpPr>
            <a:stCxn id="316" idx="3"/>
            <a:endCxn id="320" idx="1"/>
          </p:cNvCxnSpPr>
          <p:nvPr/>
        </p:nvCxnSpPr>
        <p:spPr>
          <a:xfrm>
            <a:off x="4584600" y="2400480"/>
            <a:ext cx="556560" cy="267120"/>
          </a:xfrm>
          <a:prstGeom prst="straightConnector1">
            <a:avLst/>
          </a:prstGeom>
          <a:ln w="38160">
            <a:solidFill>
              <a:srgbClr val="003366"/>
            </a:solidFill>
            <a:miter/>
          </a:ln>
        </p:spPr>
      </p:cxnSp>
    </p:spTree>
  </p:cSld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1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4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0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0" y="7632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32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777777"/>
                </a:solidFill>
                <a:uFillTx/>
                <a:latin typeface="VNI-Times"/>
              </a:rPr>
              <a:t>Sô ñoà 2. 19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PPL nhaän thöùc &amp; giaûi quyeát maâu thuaã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62520" y="1619280"/>
            <a:ext cx="5029200" cy="609480"/>
          </a:xfrm>
          <a:prstGeom prst="flowChartProcess">
            <a:avLst/>
          </a:prstGeom>
          <a:solidFill>
            <a:srgbClr val="ccffcc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NI-Centur"/>
              </a:rPr>
              <a:t>Phaùt hieän ra caùc MT beân trong 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7" name=""/>
          <p:cNvCxnSpPr>
            <a:stCxn id="338" idx="3"/>
            <a:endCxn id="336" idx="1"/>
          </p:cNvCxnSpPr>
          <p:nvPr/>
        </p:nvCxnSpPr>
        <p:spPr>
          <a:xfrm flipV="1">
            <a:off x="3517560" y="1923480"/>
            <a:ext cx="432360" cy="1810440"/>
          </a:xfrm>
          <a:prstGeom prst="straightConnector1">
            <a:avLst/>
          </a:prstGeom>
          <a:ln w="38160">
            <a:solidFill>
              <a:srgbClr val="333300"/>
            </a:solidFill>
            <a:miter/>
          </a:ln>
        </p:spPr>
      </p:cxnSp>
      <p:sp>
        <p:nvSpPr>
          <p:cNvPr id="338" name=""/>
          <p:cNvSpPr/>
          <p:nvPr/>
        </p:nvSpPr>
        <p:spPr>
          <a:xfrm>
            <a:off x="380880" y="3048120"/>
            <a:ext cx="3124440" cy="1371600"/>
          </a:xfrm>
          <a:prstGeom prst="flowChartProcess">
            <a:avLst/>
          </a:prstGeom>
          <a:solidFill>
            <a:srgbClr val="ccffcc"/>
          </a:solidFill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</a:rPr>
              <a:t>Nhaän thöùc SV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</a:rPr>
              <a:t>caûi taïo 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962520" y="2514600"/>
            <a:ext cx="4952880" cy="1066680"/>
          </a:xfrm>
          <a:prstGeom prst="flowChartProcess">
            <a:avLst/>
          </a:prstGeom>
          <a:solidFill>
            <a:srgbClr val="ccffcc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NI-Centur"/>
              </a:rPr>
              <a:t>Phaûi chæ ra ñöôïc caùc maë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NI-Centur"/>
              </a:rPr>
              <a:t>ñoái laäp, vò trí cuûa no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962520" y="3886200"/>
            <a:ext cx="5029200" cy="609480"/>
          </a:xfrm>
          <a:prstGeom prst="flowChartProcess">
            <a:avLst/>
          </a:prstGeom>
          <a:solidFill>
            <a:srgbClr val="ccffcc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NI-Centur"/>
              </a:rPr>
              <a:t>Phaûi thaáy ñöôïc MLH baûn cha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962520" y="4800600"/>
            <a:ext cx="4952880" cy="990720"/>
          </a:xfrm>
          <a:prstGeom prst="flowChartProcess">
            <a:avLst/>
          </a:prstGeom>
          <a:solidFill>
            <a:srgbClr val="ccffcc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NI-Centur"/>
              </a:rPr>
              <a:t>Phaûi taïo ÑK thuùc ñaåy ñaá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NI-Centur"/>
              </a:rPr>
              <a:t>tranh giaûi quyeát maâu thuaã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"/>
          <p:cNvCxnSpPr>
            <a:stCxn id="338" idx="3"/>
            <a:endCxn id="340" idx="1"/>
          </p:cNvCxnSpPr>
          <p:nvPr/>
        </p:nvCxnSpPr>
        <p:spPr>
          <a:xfrm>
            <a:off x="3517560" y="3733920"/>
            <a:ext cx="432360" cy="457920"/>
          </a:xfrm>
          <a:prstGeom prst="straightConnector1">
            <a:avLst/>
          </a:prstGeom>
          <a:ln w="38160">
            <a:solidFill>
              <a:srgbClr val="333300"/>
            </a:solidFill>
            <a:miter/>
          </a:ln>
        </p:spPr>
      </p:cxnSp>
      <p:cxnSp>
        <p:nvCxnSpPr>
          <p:cNvPr id="343" name=""/>
          <p:cNvCxnSpPr>
            <a:stCxn id="338" idx="3"/>
            <a:endCxn id="339" idx="1"/>
          </p:cNvCxnSpPr>
          <p:nvPr/>
        </p:nvCxnSpPr>
        <p:spPr>
          <a:xfrm flipV="1">
            <a:off x="3517560" y="3047400"/>
            <a:ext cx="432360" cy="686520"/>
          </a:xfrm>
          <a:prstGeom prst="straightConnector1">
            <a:avLst/>
          </a:prstGeom>
          <a:ln w="38160">
            <a:solidFill>
              <a:srgbClr val="333300"/>
            </a:solidFill>
            <a:miter/>
          </a:ln>
        </p:spPr>
      </p:cxnSp>
      <p:cxnSp>
        <p:nvCxnSpPr>
          <p:cNvPr id="344" name=""/>
          <p:cNvCxnSpPr>
            <a:stCxn id="341" idx="1"/>
            <a:endCxn id="338" idx="3"/>
          </p:cNvCxnSpPr>
          <p:nvPr/>
        </p:nvCxnSpPr>
        <p:spPr>
          <a:xfrm flipH="1" flipV="1">
            <a:off x="3517200" y="3733200"/>
            <a:ext cx="432360" cy="1562760"/>
          </a:xfrm>
          <a:prstGeom prst="straightConnector1">
            <a:avLst/>
          </a:prstGeom>
          <a:ln w="38160">
            <a:solidFill>
              <a:srgbClr val="333300"/>
            </a:solidFill>
            <a:miter/>
          </a:ln>
        </p:spPr>
      </p:cxnSp>
      <p:sp>
        <p:nvSpPr>
          <p:cNvPr id="345" name=""/>
          <p:cNvSpPr txBox="1"/>
          <p:nvPr/>
        </p:nvSpPr>
        <p:spPr>
          <a:xfrm>
            <a:off x="1143000" y="76320"/>
            <a:ext cx="6858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800000">
                    <a:alpha val="95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VNI-Times"/>
              </a:rPr>
              <a:t>III.Nhöõng quy luaät cô baûn cuûa pheùp BC DV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800000">
                  <a:alpha val="95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VNI-Times"/>
              <a:ea typeface="VNI-Times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762120"/>
            <a:ext cx="8001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ff9900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NI-Times"/>
              </a:rPr>
              <a:t>1.QL thoáng nhaát &amp; ñaáu tranh cuûa caùc maët ñoåi laäp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ff9900"/>
                  </a:gs>
                  <a:gs pos="100000">
                    <a:srgbClr val="ffffcc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NI-Times"/>
              <a:ea typeface="VNI-Times"/>
            </a:endParaRPr>
          </a:p>
        </p:txBody>
      </p:sp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2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2000"/>
                            </p:stCondLst>
                            <p:childTnLst>
                              <p:par>
                                <p:cTn id="9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1239840"/>
            <a:ext cx="9144000" cy="92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1239840"/>
            <a:ext cx="9144000" cy="92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76320" y="5867280"/>
            <a:ext cx="4419360" cy="990720"/>
          </a:xfrm>
          <a:prstGeom prst="rect">
            <a:avLst/>
          </a:prstGeom>
          <a:solidFill>
            <a:srgbClr val="eaeaea"/>
          </a:soli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777777"/>
                </a:solidFill>
                <a:uFillTx/>
                <a:latin typeface="VNI-Times"/>
              </a:rPr>
              <a:t>Sô ñoà 2.20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Khaùi nieäm chaá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cuûa S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143000" y="76320"/>
            <a:ext cx="6553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ff9900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NI-Times"/>
              </a:rPr>
              <a:t>2.QL chuyeån hoùa töø nhöõng thay ñoåi veà löôïng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ff9900"/>
                  </a:gs>
                  <a:gs pos="100000">
                    <a:srgbClr val="ffffcc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NI-Times"/>
              <a:ea typeface="VNI-Times"/>
            </a:endParaRPr>
          </a:p>
        </p:txBody>
      </p:sp>
      <p:sp>
        <p:nvSpPr>
          <p:cNvPr id="353" name=""/>
          <p:cNvSpPr/>
          <p:nvPr/>
        </p:nvSpPr>
        <p:spPr>
          <a:xfrm>
            <a:off x="2057400" y="2895480"/>
            <a:ext cx="2057400" cy="1143000"/>
          </a:xfrm>
          <a:prstGeom prst="flowChartProcess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13500000"/>
          </a:gra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cc"/>
                </a:solidFill>
                <a:latin typeface="VNI-Aptima"/>
              </a:rPr>
              <a:t>Chaát cuû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cc"/>
                </a:solidFill>
                <a:latin typeface="VNI-Aptima"/>
              </a:rPr>
              <a:t>söï vaä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1447920"/>
            <a:ext cx="3505320" cy="990360"/>
          </a:xfrm>
          <a:prstGeom prst="flowChartProcess">
            <a:avLst/>
          </a:prstGeom>
          <a:solidFill>
            <a:srgbClr val="ffffcc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NI-Tekon"/>
              </a:rPr>
              <a:t>Tính quy ñònh   khaù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NI-Tekon"/>
              </a:rPr>
              <a:t>quan cuûa söï vaä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5" name=""/>
          <p:cNvCxnSpPr>
            <a:stCxn id="353" idx="0"/>
            <a:endCxn id="354" idx="2"/>
          </p:cNvCxnSpPr>
          <p:nvPr/>
        </p:nvCxnSpPr>
        <p:spPr>
          <a:xfrm flipH="1" flipV="1">
            <a:off x="2438280" y="2469960"/>
            <a:ext cx="648360" cy="413280"/>
          </a:xfrm>
          <a:prstGeom prst="straightConnector1">
            <a:avLst/>
          </a:prstGeom>
          <a:ln w="38160">
            <a:solidFill>
              <a:srgbClr val="333333"/>
            </a:solidFill>
            <a:miter/>
          </a:ln>
        </p:spPr>
      </p:cxnSp>
      <p:sp>
        <p:nvSpPr>
          <p:cNvPr id="356" name=""/>
          <p:cNvSpPr txBox="1"/>
          <p:nvPr/>
        </p:nvSpPr>
        <p:spPr>
          <a:xfrm>
            <a:off x="1143000" y="533520"/>
            <a:ext cx="6400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ff9900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dẫn tới những thay đổi về chất và ngược lại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ff9900"/>
                  </a:gs>
                  <a:gs pos="100000">
                    <a:srgbClr val="ffffcc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4495680"/>
            <a:ext cx="3581280" cy="1067040"/>
          </a:xfrm>
          <a:prstGeom prst="flowChartProcess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NI-Tekon"/>
              </a:rPr>
              <a:t>Toång hôïp caùc thuoä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NI-Tekon"/>
              </a:rPr>
              <a:t>tính noùi roõ SV ñoù laø gì</a:t>
            </a:r>
            <a:r>
              <a:rPr b="1" lang="en-US" sz="3000" spc="-1" strike="noStrike">
                <a:solidFill>
                  <a:srgbClr val="000066"/>
                </a:solidFill>
                <a:latin typeface="VNI-Teko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"/>
          <p:cNvCxnSpPr>
            <a:stCxn id="353" idx="2"/>
            <a:endCxn id="357" idx="0"/>
          </p:cNvCxnSpPr>
          <p:nvPr/>
        </p:nvCxnSpPr>
        <p:spPr>
          <a:xfrm flipH="1">
            <a:off x="2476080" y="4051080"/>
            <a:ext cx="610560" cy="432360"/>
          </a:xfrm>
          <a:prstGeom prst="straightConnector1">
            <a:avLst/>
          </a:prstGeom>
          <a:ln w="38160">
            <a:solidFill>
              <a:srgbClr val="333333"/>
            </a:solidFill>
            <a:miter/>
          </a:ln>
        </p:spPr>
      </p:cxnSp>
      <p:sp>
        <p:nvSpPr>
          <p:cNvPr id="359" name=""/>
          <p:cNvSpPr/>
          <p:nvPr/>
        </p:nvSpPr>
        <p:spPr>
          <a:xfrm>
            <a:off x="4952880" y="2895480"/>
            <a:ext cx="2133720" cy="1143000"/>
          </a:xfrm>
          <a:prstGeom prst="flowChartProcess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13500000"/>
          </a:gra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cc"/>
                </a:solidFill>
                <a:latin typeface="VNI-Aptima"/>
              </a:rPr>
              <a:t>Löôïng cuû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cc"/>
                </a:solidFill>
                <a:latin typeface="VNI-Aptima"/>
              </a:rPr>
              <a:t>söï vaä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876920" y="1447920"/>
            <a:ext cx="3657600" cy="990360"/>
          </a:xfrm>
          <a:prstGeom prst="flowChartProcess">
            <a:avLst/>
          </a:prstGeom>
          <a:solidFill>
            <a:srgbClr val="ccffcc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NI-Tekon"/>
              </a:rPr>
              <a:t>Tính quy  ñòn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NI-Tekon"/>
              </a:rPr>
              <a:t>cuûa söï vaä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876920" y="4495680"/>
            <a:ext cx="3657600" cy="1067040"/>
          </a:xfrm>
          <a:prstGeom prst="flowChartProcess">
            <a:avLst/>
          </a:prstGeom>
          <a:solidFill>
            <a:srgbClr val="ccffcc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NI-Tekon"/>
              </a:rPr>
              <a:t>Theå hieän soá löôïng, qu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NI-Tekon"/>
              </a:rPr>
              <a:t>moâ, trình ñoä, nhòp ñieäu</a:t>
            </a:r>
            <a:r>
              <a:rPr b="1" lang="en-US" sz="3000" spc="-1" strike="noStrike">
                <a:solidFill>
                  <a:srgbClr val="000066"/>
                </a:solidFill>
                <a:latin typeface="VNI-Teko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"/>
          <p:cNvCxnSpPr>
            <a:stCxn id="359" idx="0"/>
            <a:endCxn id="360" idx="2"/>
          </p:cNvCxnSpPr>
          <p:nvPr/>
        </p:nvCxnSpPr>
        <p:spPr>
          <a:xfrm flipV="1">
            <a:off x="6019560" y="2450520"/>
            <a:ext cx="686520" cy="432360"/>
          </a:xfrm>
          <a:prstGeom prst="straightConnector1">
            <a:avLst/>
          </a:prstGeom>
          <a:ln w="38160">
            <a:solidFill>
              <a:srgbClr val="333333"/>
            </a:solidFill>
            <a:miter/>
          </a:ln>
        </p:spPr>
      </p:cxnSp>
      <p:cxnSp>
        <p:nvCxnSpPr>
          <p:cNvPr id="363" name=""/>
          <p:cNvCxnSpPr>
            <a:stCxn id="359" idx="2"/>
            <a:endCxn id="361" idx="0"/>
          </p:cNvCxnSpPr>
          <p:nvPr/>
        </p:nvCxnSpPr>
        <p:spPr>
          <a:xfrm>
            <a:off x="6019560" y="4051080"/>
            <a:ext cx="686520" cy="432360"/>
          </a:xfrm>
          <a:prstGeom prst="straightConnector1">
            <a:avLst/>
          </a:prstGeom>
          <a:ln w="38160">
            <a:solidFill>
              <a:srgbClr val="333333"/>
            </a:solidFill>
            <a:miter/>
          </a:ln>
        </p:spPr>
      </p:cxnSp>
      <p:sp>
        <p:nvSpPr>
          <p:cNvPr id="364" name=""/>
          <p:cNvSpPr/>
          <p:nvPr/>
        </p:nvSpPr>
        <p:spPr>
          <a:xfrm>
            <a:off x="4876920" y="5867280"/>
            <a:ext cx="4419360" cy="990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777777"/>
                </a:solidFill>
                <a:uFillTx/>
                <a:latin typeface="VNI-Times"/>
              </a:rPr>
              <a:t>Sô ñoà 2.21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Khaùi nieäm löôï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cuûa S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0" y="1371600"/>
            <a:ext cx="0" cy="5486400"/>
          </a:xfrm>
          <a:prstGeom prst="line">
            <a:avLst/>
          </a:prstGeom>
          <a:ln cap="rnd" w="38160">
            <a:solidFill>
              <a:srgbClr val="cc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0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4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0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777777"/>
                </a:solidFill>
                <a:uFillTx/>
                <a:latin typeface="VNI-Times"/>
              </a:rPr>
              <a:t>Moâ hình 2.22:</a:t>
            </a:r>
            <a:r>
              <a:rPr b="1" i="1" lang="en-US" sz="3100" spc="-1" strike="noStrike">
                <a:solidFill>
                  <a:srgbClr val="777777"/>
                </a:solidFill>
                <a:latin typeface="VNI-Tekon"/>
              </a:rPr>
              <a:t>Löôïng – Chaát thoáng nhaát trong giôùi haïn Ñoä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62160" y="2171880"/>
            <a:ext cx="4952880" cy="2666880"/>
          </a:xfrm>
          <a:prstGeom prst="ellipse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2" name=""/>
          <p:cNvCxnSpPr>
            <a:stCxn id="371" idx="2"/>
            <a:endCxn id="371" idx="6"/>
          </p:cNvCxnSpPr>
          <p:nvPr/>
        </p:nvCxnSpPr>
        <p:spPr>
          <a:xfrm>
            <a:off x="2133360" y="3504960"/>
            <a:ext cx="5010840" cy="1080"/>
          </a:xfrm>
          <a:prstGeom prst="straightConnector1">
            <a:avLst/>
          </a:prstGeom>
          <a:ln w="38160">
            <a:solidFill>
              <a:srgbClr val="008000"/>
            </a:solidFill>
            <a:prstDash val="sysDot"/>
            <a:miter/>
            <a:headEnd len="med" type="triangle" w="lg"/>
            <a:tailEnd len="med" type="triangle" w="lg"/>
          </a:ln>
        </p:spPr>
      </p:cxnSp>
      <p:cxnSp>
        <p:nvCxnSpPr>
          <p:cNvPr id="373" name=""/>
          <p:cNvCxnSpPr/>
          <p:nvPr/>
        </p:nvCxnSpPr>
        <p:spPr>
          <a:xfrm>
            <a:off x="2133360" y="5409720"/>
            <a:ext cx="1524600" cy="1080"/>
          </a:xfrm>
          <a:prstGeom prst="straightConnector1">
            <a:avLst/>
          </a:prstGeom>
          <a:ln w="38160">
            <a:solidFill>
              <a:srgbClr val="008000"/>
            </a:solidFill>
            <a:prstDash val="sysDot"/>
            <a:miter/>
            <a:headEnd len="med" type="triangle" w="lg"/>
          </a:ln>
        </p:spPr>
      </p:cxnSp>
      <p:cxnSp>
        <p:nvCxnSpPr>
          <p:cNvPr id="374" name=""/>
          <p:cNvCxnSpPr/>
          <p:nvPr/>
        </p:nvCxnSpPr>
        <p:spPr>
          <a:xfrm>
            <a:off x="5715000" y="5334120"/>
            <a:ext cx="1448640" cy="2160"/>
          </a:xfrm>
          <a:prstGeom prst="straightConnector1">
            <a:avLst/>
          </a:prstGeom>
          <a:ln w="38160">
            <a:solidFill>
              <a:srgbClr val="008000"/>
            </a:solidFill>
            <a:prstDash val="sysDot"/>
            <a:miter/>
            <a:tailEnd len="med" type="triangle" w="lg"/>
          </a:ln>
        </p:spPr>
      </p:cxnSp>
      <p:cxnSp>
        <p:nvCxnSpPr>
          <p:cNvPr id="375" name=""/>
          <p:cNvCxnSpPr/>
          <p:nvPr/>
        </p:nvCxnSpPr>
        <p:spPr>
          <a:xfrm flipV="1">
            <a:off x="2133720" y="3352320"/>
            <a:ext cx="2160" cy="1982160"/>
          </a:xfrm>
          <a:prstGeom prst="straightConnector1">
            <a:avLst/>
          </a:prstGeom>
          <a:ln w="38160">
            <a:solidFill>
              <a:srgbClr val="008000"/>
            </a:solidFill>
            <a:prstDash val="sysDot"/>
            <a:miter/>
            <a:headEnd len="med" type="triangle" w="lg"/>
          </a:ln>
        </p:spPr>
      </p:cxnSp>
      <p:cxnSp>
        <p:nvCxnSpPr>
          <p:cNvPr id="376" name=""/>
          <p:cNvCxnSpPr/>
          <p:nvPr/>
        </p:nvCxnSpPr>
        <p:spPr>
          <a:xfrm flipH="1" flipV="1">
            <a:off x="7143120" y="3428640"/>
            <a:ext cx="19800" cy="1829520"/>
          </a:xfrm>
          <a:prstGeom prst="straightConnector1">
            <a:avLst/>
          </a:prstGeom>
          <a:ln w="38160">
            <a:solidFill>
              <a:srgbClr val="008000"/>
            </a:solidFill>
            <a:prstDash val="sysDot"/>
            <a:miter/>
            <a:headEnd len="med" type="triangle" w="lg"/>
          </a:ln>
        </p:spPr>
      </p:cxnSp>
      <p:sp>
        <p:nvSpPr>
          <p:cNvPr id="377" name=""/>
          <p:cNvSpPr/>
          <p:nvPr/>
        </p:nvSpPr>
        <p:spPr>
          <a:xfrm>
            <a:off x="3352680" y="4892760"/>
            <a:ext cx="253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NI-Aptima"/>
              </a:rPr>
              <a:t>Khoaûng giôùi haïn ñoä cuûa SV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38480" y="2666880"/>
            <a:ext cx="131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NI-Aptima"/>
              </a:rPr>
              <a:t>Söï vaät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842160" y="2971800"/>
            <a:ext cx="13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NI-Aptima"/>
              </a:rPr>
              <a:t>Ñieå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NI-Aptima"/>
              </a:rPr>
              <a:t>nuù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127160" y="3048120"/>
            <a:ext cx="13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NI-Aptima"/>
              </a:rPr>
              <a:t>Ñieå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NI-Aptima"/>
              </a:rPr>
              <a:t>nuù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143000" y="76320"/>
            <a:ext cx="6553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ff9900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NI-Times"/>
              </a:rPr>
              <a:t>2.QL chuyeån hoùa töø nhöõng thay ñoåi veà löôïng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ff9900"/>
                  </a:gs>
                  <a:gs pos="100000">
                    <a:srgbClr val="ffffcc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NI-Times"/>
              <a:ea typeface="VNI-Time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143000" y="533520"/>
            <a:ext cx="6400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ff9900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dẫn tới những thay đổi về chất và ngược lại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ff9900"/>
                  </a:gs>
                  <a:gs pos="100000">
                    <a:srgbClr val="ffffcc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500"/>
                            </p:stCondLst>
                            <p:childTnLst>
                              <p:par>
                                <p:cTn id="10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4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777777"/>
                </a:solidFill>
                <a:uFillTx/>
                <a:latin typeface="VNI-Times"/>
              </a:rPr>
              <a:t>Moâ hình 2.23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 </a:t>
            </a:r>
            <a:r>
              <a:rPr b="1" i="1" lang="en-US" sz="3600" spc="-1" strike="noStrike">
                <a:solidFill>
                  <a:srgbClr val="777777"/>
                </a:solidFill>
                <a:latin typeface="VNI-Tekon"/>
              </a:rPr>
              <a:t>Chaát ñoåi qua böôùc nhaû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219320" y="2209680"/>
            <a:ext cx="2590560" cy="2667240"/>
          </a:xfrm>
          <a:prstGeom prst="ellipse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"/>
          <p:cNvCxnSpPr/>
          <p:nvPr/>
        </p:nvCxnSpPr>
        <p:spPr>
          <a:xfrm flipH="1" flipV="1">
            <a:off x="3504600" y="3428640"/>
            <a:ext cx="37080" cy="2057760"/>
          </a:xfrm>
          <a:prstGeom prst="straightConnector1">
            <a:avLst/>
          </a:prstGeom>
          <a:ln w="38160">
            <a:solidFill>
              <a:srgbClr val="008000"/>
            </a:solidFill>
            <a:miter/>
          </a:ln>
        </p:spPr>
      </p:cxnSp>
      <p:sp>
        <p:nvSpPr>
          <p:cNvPr id="390" name=""/>
          <p:cNvSpPr/>
          <p:nvPr/>
        </p:nvSpPr>
        <p:spPr>
          <a:xfrm>
            <a:off x="5181480" y="2209680"/>
            <a:ext cx="2590920" cy="2667240"/>
          </a:xfrm>
          <a:prstGeom prst="ellipse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95840" y="2895480"/>
            <a:ext cx="1539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NI-Aptima"/>
              </a:rPr>
              <a:t>Ñieåm nuù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"/>
          <p:cNvCxnSpPr/>
          <p:nvPr/>
        </p:nvCxnSpPr>
        <p:spPr>
          <a:xfrm>
            <a:off x="1114200" y="3505320"/>
            <a:ext cx="2391480" cy="2160"/>
          </a:xfrm>
          <a:prstGeom prst="straightConnector1">
            <a:avLst/>
          </a:prstGeom>
          <a:ln w="38160">
            <a:solidFill>
              <a:srgbClr val="008000"/>
            </a:solidFill>
            <a:prstDash val="sysDot"/>
            <a:miter/>
            <a:tailEnd len="med" type="triangle" w="lg"/>
          </a:ln>
        </p:spPr>
      </p:cxnSp>
      <p:sp>
        <p:nvSpPr>
          <p:cNvPr id="393" name=""/>
          <p:cNvSpPr/>
          <p:nvPr/>
        </p:nvSpPr>
        <p:spPr>
          <a:xfrm>
            <a:off x="7620120" y="3352680"/>
            <a:ext cx="228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61920" y="33526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"/>
          <p:cNvCxnSpPr/>
          <p:nvPr/>
        </p:nvCxnSpPr>
        <p:spPr>
          <a:xfrm>
            <a:off x="380520" y="3504960"/>
            <a:ext cx="810360" cy="1080"/>
          </a:xfrm>
          <a:prstGeom prst="straightConnector1">
            <a:avLst/>
          </a:prstGeom>
          <a:ln w="38160">
            <a:solidFill>
              <a:srgbClr val="008000"/>
            </a:solidFill>
            <a:prstDash val="sysDot"/>
            <a:miter/>
          </a:ln>
        </p:spPr>
      </p:cxnSp>
      <p:cxnSp>
        <p:nvCxnSpPr>
          <p:cNvPr id="396" name=""/>
          <p:cNvCxnSpPr/>
          <p:nvPr/>
        </p:nvCxnSpPr>
        <p:spPr>
          <a:xfrm>
            <a:off x="7695720" y="3580920"/>
            <a:ext cx="810360" cy="1080"/>
          </a:xfrm>
          <a:prstGeom prst="straightConnector1">
            <a:avLst/>
          </a:prstGeom>
          <a:ln w="38160">
            <a:solidFill>
              <a:srgbClr val="008000"/>
            </a:solidFill>
            <a:prstDash val="sysDot"/>
            <a:miter/>
          </a:ln>
        </p:spPr>
      </p:cxnSp>
      <p:cxnSp>
        <p:nvCxnSpPr>
          <p:cNvPr id="397" name=""/>
          <p:cNvCxnSpPr/>
          <p:nvPr/>
        </p:nvCxnSpPr>
        <p:spPr>
          <a:xfrm>
            <a:off x="5486040" y="3505320"/>
            <a:ext cx="2212200" cy="78480"/>
          </a:xfrm>
          <a:prstGeom prst="straightConnector1">
            <a:avLst/>
          </a:prstGeom>
          <a:ln w="38160">
            <a:solidFill>
              <a:srgbClr val="008000"/>
            </a:solidFill>
            <a:prstDash val="sysDot"/>
            <a:miter/>
            <a:headEnd len="med" type="triangle" w="lg"/>
          </a:ln>
        </p:spPr>
      </p:cxnSp>
      <p:cxnSp>
        <p:nvCxnSpPr>
          <p:cNvPr id="398" name=""/>
          <p:cNvCxnSpPr/>
          <p:nvPr/>
        </p:nvCxnSpPr>
        <p:spPr>
          <a:xfrm>
            <a:off x="3504960" y="3505320"/>
            <a:ext cx="1981800" cy="2160"/>
          </a:xfrm>
          <a:prstGeom prst="straightConnector1">
            <a:avLst/>
          </a:prstGeom>
          <a:ln w="38160">
            <a:solidFill>
              <a:srgbClr val="008000"/>
            </a:solidFill>
            <a:miter/>
            <a:headEnd len="med" type="triangle" w="lg"/>
            <a:tailEnd len="med" type="triangle" w="lg"/>
          </a:ln>
        </p:spPr>
      </p:cxnSp>
      <p:sp>
        <p:nvSpPr>
          <p:cNvPr id="399" name=""/>
          <p:cNvSpPr/>
          <p:nvPr/>
        </p:nvSpPr>
        <p:spPr>
          <a:xfrm>
            <a:off x="3124080" y="556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NI-Aptima"/>
              </a:rPr>
              <a:t>0</a:t>
            </a:r>
            <a:r>
              <a:rPr b="1" lang="en-US" sz="2400" spc="-1" strike="noStrike" baseline="30000">
                <a:solidFill>
                  <a:srgbClr val="660066"/>
                </a:solidFill>
                <a:latin typeface="VNI-Aptima"/>
              </a:rPr>
              <a:t>o</a:t>
            </a:r>
            <a:r>
              <a:rPr b="1" lang="en-US" sz="2400" spc="-1" strike="noStrike">
                <a:solidFill>
                  <a:srgbClr val="660066"/>
                </a:solidFill>
                <a:latin typeface="VNI-Apti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029200" y="5562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NI-Aptima"/>
              </a:rPr>
              <a:t>100</a:t>
            </a:r>
            <a:r>
              <a:rPr b="1" lang="en-US" sz="2400" spc="-1" strike="noStrike" baseline="30000">
                <a:solidFill>
                  <a:srgbClr val="660066"/>
                </a:solidFill>
                <a:latin typeface="VNI-Aptima"/>
              </a:rPr>
              <a:t>o</a:t>
            </a:r>
            <a:r>
              <a:rPr b="1" lang="en-US" sz="2400" spc="-1" strike="noStrike">
                <a:solidFill>
                  <a:srgbClr val="660066"/>
                </a:solidFill>
                <a:latin typeface="VNI-Apti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1" name=""/>
          <p:cNvCxnSpPr/>
          <p:nvPr/>
        </p:nvCxnSpPr>
        <p:spPr>
          <a:xfrm>
            <a:off x="3581280" y="5409720"/>
            <a:ext cx="1905840" cy="1080"/>
          </a:xfrm>
          <a:prstGeom prst="straightConnector1">
            <a:avLst/>
          </a:prstGeom>
          <a:ln w="38160">
            <a:solidFill>
              <a:srgbClr val="008000"/>
            </a:solidFill>
            <a:miter/>
            <a:headEnd len="med" type="triangle" w="lg"/>
            <a:tailEnd len="med" type="triangle" w="lg"/>
          </a:ln>
        </p:spPr>
      </p:cxnSp>
      <p:sp>
        <p:nvSpPr>
          <p:cNvPr id="402" name=""/>
          <p:cNvSpPr/>
          <p:nvPr/>
        </p:nvSpPr>
        <p:spPr>
          <a:xfrm>
            <a:off x="3809880" y="4968720"/>
            <a:ext cx="13716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NI-Aptima"/>
              </a:rPr>
              <a:t>Ñoä nöôù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NI-Aptima"/>
              </a:rPr>
              <a:t>thöôø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" name=""/>
          <p:cNvCxnSpPr/>
          <p:nvPr/>
        </p:nvCxnSpPr>
        <p:spPr>
          <a:xfrm flipH="1" flipV="1">
            <a:off x="5485680" y="3428640"/>
            <a:ext cx="37080" cy="2057760"/>
          </a:xfrm>
          <a:prstGeom prst="straightConnector1">
            <a:avLst/>
          </a:prstGeom>
          <a:ln w="38160">
            <a:solidFill>
              <a:srgbClr val="008000"/>
            </a:solidFill>
            <a:miter/>
          </a:ln>
        </p:spPr>
      </p:cxnSp>
      <p:sp>
        <p:nvSpPr>
          <p:cNvPr id="404" name=""/>
          <p:cNvSpPr/>
          <p:nvPr/>
        </p:nvSpPr>
        <p:spPr>
          <a:xfrm>
            <a:off x="1752480" y="39625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VNI-Tekon"/>
              </a:rPr>
              <a:t>Nöôùc ña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429000" y="399096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VNI-Tekon"/>
              </a:rPr>
              <a:t>Nöôùc thöôø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VNI-Tekon"/>
              </a:rPr>
              <a:t>(loû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19920" y="3962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VNI-Tekon"/>
              </a:rPr>
              <a:t>Hôi nöôù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276720" y="2133720"/>
            <a:ext cx="2590560" cy="2666880"/>
          </a:xfrm>
          <a:prstGeom prst="ellipse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724280" y="2819520"/>
            <a:ext cx="1540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NI-Aptima"/>
              </a:rPr>
              <a:t>Ñieåm nuù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877920" y="6781680"/>
            <a:ext cx="1539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NI-Aptima"/>
              </a:rPr>
              <a:t>Ñieåm nuù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200400" y="2819520"/>
            <a:ext cx="3049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895480" y="2819520"/>
            <a:ext cx="1540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NI-Aptima"/>
              </a:rPr>
              <a:t>Ñieåm nuù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143000" y="76320"/>
            <a:ext cx="6553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ff9900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NI-Times"/>
              </a:rPr>
              <a:t>2.QL chuyeån hoùa töø nhöõng thay ñoåi veà löôïng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ff9900"/>
                  </a:gs>
                  <a:gs pos="100000">
                    <a:srgbClr val="ffffcc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NI-Times"/>
              <a:ea typeface="VNI-Times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143000" y="533520"/>
            <a:ext cx="6400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ff9900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dẫn tới những thay đổi về chất và ngược lại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ff9900"/>
                  </a:gs>
                  <a:gs pos="100000">
                    <a:srgbClr val="ffffcc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1" dur="3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4" dur="3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9" dur="3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2" dur="3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7000"/>
                            </p:stCondLst>
                            <p:childTnLst>
                              <p:par>
                                <p:cTn id="1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2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219320" y="6248520"/>
            <a:ext cx="6781680" cy="609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777777"/>
                </a:solidFill>
                <a:uFillTx/>
                <a:latin typeface="VNI-Times"/>
              </a:rPr>
              <a:t>Moâ hình 2.24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 </a:t>
            </a:r>
            <a:r>
              <a:rPr b="1" i="1" lang="en-US" sz="2700" spc="-1" strike="noStrike">
                <a:solidFill>
                  <a:srgbClr val="777777"/>
                </a:solidFill>
                <a:latin typeface="VNI-Tekon"/>
              </a:rPr>
              <a:t>Chuyeån hoaù löôïng ñoåi - chaát ñoå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219320" y="2209680"/>
            <a:ext cx="2590560" cy="2667240"/>
          </a:xfrm>
          <a:prstGeom prst="ellipse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3579840" y="4342680"/>
            <a:ext cx="2160" cy="1220040"/>
          </a:xfrm>
          <a:prstGeom prst="straightConnector1">
            <a:avLst/>
          </a:prstGeom>
          <a:ln w="38160">
            <a:solidFill>
              <a:srgbClr val="008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5181480" y="2209680"/>
            <a:ext cx="2590920" cy="2667240"/>
          </a:xfrm>
          <a:prstGeom prst="ellipse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961920" y="33526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"/>
          <p:cNvCxnSpPr/>
          <p:nvPr/>
        </p:nvCxnSpPr>
        <p:spPr>
          <a:xfrm>
            <a:off x="3581280" y="5409720"/>
            <a:ext cx="1905840" cy="1080"/>
          </a:xfrm>
          <a:prstGeom prst="straightConnector1">
            <a:avLst/>
          </a:prstGeom>
          <a:ln w="38160">
            <a:solidFill>
              <a:srgbClr val="008000"/>
            </a:solidFill>
            <a:miter/>
            <a:headEnd len="med" type="triangle" w="lg"/>
            <a:tailEnd len="med" type="triangle" w="lg"/>
          </a:ln>
        </p:spPr>
      </p:cxnSp>
      <p:sp>
        <p:nvSpPr>
          <p:cNvPr id="424" name=""/>
          <p:cNvSpPr/>
          <p:nvPr/>
        </p:nvSpPr>
        <p:spPr>
          <a:xfrm>
            <a:off x="4038480" y="5105520"/>
            <a:ext cx="99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NI-Aptima"/>
              </a:rPr>
              <a:t>Vaät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5" name=""/>
          <p:cNvCxnSpPr>
            <a:endCxn id="426" idx="5"/>
          </p:cNvCxnSpPr>
          <p:nvPr/>
        </p:nvCxnSpPr>
        <p:spPr>
          <a:xfrm flipH="1" flipV="1">
            <a:off x="5487480" y="4438440"/>
            <a:ext cx="37440" cy="1124640"/>
          </a:xfrm>
          <a:prstGeom prst="straightConnector1">
            <a:avLst/>
          </a:prstGeom>
          <a:ln w="38160">
            <a:solidFill>
              <a:srgbClr val="008000"/>
            </a:solidFill>
            <a:miter/>
          </a:ln>
        </p:spPr>
      </p:cxnSp>
      <p:sp>
        <p:nvSpPr>
          <p:cNvPr id="427" name=""/>
          <p:cNvSpPr/>
          <p:nvPr/>
        </p:nvSpPr>
        <p:spPr>
          <a:xfrm>
            <a:off x="4952880" y="5562720"/>
            <a:ext cx="1540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NI-Aptima"/>
              </a:rPr>
              <a:t>Ñieåm nuù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8" name=""/>
          <p:cNvCxnSpPr/>
          <p:nvPr/>
        </p:nvCxnSpPr>
        <p:spPr>
          <a:xfrm flipH="1" flipV="1">
            <a:off x="1218600" y="3428640"/>
            <a:ext cx="37080" cy="2057760"/>
          </a:xfrm>
          <a:prstGeom prst="straightConnector1">
            <a:avLst/>
          </a:prstGeom>
          <a:ln w="38160">
            <a:solidFill>
              <a:srgbClr val="008000"/>
            </a:solidFill>
            <a:miter/>
          </a:ln>
        </p:spPr>
      </p:cxnSp>
      <p:cxnSp>
        <p:nvCxnSpPr>
          <p:cNvPr id="429" name=""/>
          <p:cNvCxnSpPr/>
          <p:nvPr/>
        </p:nvCxnSpPr>
        <p:spPr>
          <a:xfrm flipH="1" flipV="1">
            <a:off x="7771680" y="3504960"/>
            <a:ext cx="37080" cy="2057760"/>
          </a:xfrm>
          <a:prstGeom prst="straightConnector1">
            <a:avLst/>
          </a:prstGeom>
          <a:ln w="38160">
            <a:solidFill>
              <a:srgbClr val="008000"/>
            </a:solidFill>
            <a:miter/>
          </a:ln>
        </p:spPr>
      </p:cxnSp>
      <p:cxnSp>
        <p:nvCxnSpPr>
          <p:cNvPr id="430" name=""/>
          <p:cNvCxnSpPr/>
          <p:nvPr/>
        </p:nvCxnSpPr>
        <p:spPr>
          <a:xfrm>
            <a:off x="1294920" y="5409720"/>
            <a:ext cx="2210760" cy="2520"/>
          </a:xfrm>
          <a:prstGeom prst="straightConnector1">
            <a:avLst/>
          </a:prstGeom>
          <a:ln w="38160">
            <a:solidFill>
              <a:srgbClr val="008000"/>
            </a:solidFill>
            <a:miter/>
            <a:headEnd len="med" type="triangle" w="lg"/>
            <a:tailEnd len="med" type="triangle" w="lg"/>
          </a:ln>
        </p:spPr>
      </p:cxnSp>
      <p:sp>
        <p:nvSpPr>
          <p:cNvPr id="431" name=""/>
          <p:cNvSpPr/>
          <p:nvPr/>
        </p:nvSpPr>
        <p:spPr>
          <a:xfrm>
            <a:off x="1905120" y="5105520"/>
            <a:ext cx="990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NI-Aptima"/>
              </a:rPr>
              <a:t>Vaät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2" name=""/>
          <p:cNvCxnSpPr/>
          <p:nvPr/>
        </p:nvCxnSpPr>
        <p:spPr>
          <a:xfrm>
            <a:off x="5562720" y="5409720"/>
            <a:ext cx="2210400" cy="1080"/>
          </a:xfrm>
          <a:prstGeom prst="straightConnector1">
            <a:avLst/>
          </a:prstGeom>
          <a:ln w="38160">
            <a:solidFill>
              <a:srgbClr val="008000"/>
            </a:solidFill>
            <a:miter/>
            <a:headEnd len="med" type="triangle" w="lg"/>
            <a:tailEnd len="med" type="triangle" w="lg"/>
          </a:ln>
        </p:spPr>
      </p:cxnSp>
      <p:sp>
        <p:nvSpPr>
          <p:cNvPr id="433" name=""/>
          <p:cNvSpPr/>
          <p:nvPr/>
        </p:nvSpPr>
        <p:spPr>
          <a:xfrm>
            <a:off x="6172200" y="5105520"/>
            <a:ext cx="99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NI-Aptima"/>
              </a:rPr>
              <a:t>Vaät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905120" y="2819520"/>
            <a:ext cx="99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NI-Apti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2819520"/>
            <a:ext cx="990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NI-Apti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038480" y="2743200"/>
            <a:ext cx="990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NI-Apti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276720" y="2133720"/>
            <a:ext cx="2590560" cy="2666880"/>
          </a:xfrm>
          <a:prstGeom prst="ellipse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rot="487800">
            <a:off x="3454560" y="2666520"/>
            <a:ext cx="380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487800">
            <a:off x="5484960" y="2671560"/>
            <a:ext cx="457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487800">
            <a:off x="3657600" y="3200040"/>
            <a:ext cx="380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rot="487800">
            <a:off x="5562720" y="3276360"/>
            <a:ext cx="380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1" name=""/>
          <p:cNvCxnSpPr/>
          <p:nvPr/>
        </p:nvCxnSpPr>
        <p:spPr>
          <a:xfrm>
            <a:off x="1162080" y="3543120"/>
            <a:ext cx="6611040" cy="38520"/>
          </a:xfrm>
          <a:prstGeom prst="straightConnector1">
            <a:avLst/>
          </a:prstGeom>
          <a:ln w="38160">
            <a:solidFill>
              <a:srgbClr val="008000"/>
            </a:solidFill>
            <a:prstDash val="sysDot"/>
            <a:miter/>
          </a:ln>
        </p:spPr>
      </p:cxnSp>
      <p:sp>
        <p:nvSpPr>
          <p:cNvPr id="442" name=""/>
          <p:cNvSpPr txBox="1"/>
          <p:nvPr/>
        </p:nvSpPr>
        <p:spPr>
          <a:xfrm>
            <a:off x="1143000" y="76320"/>
            <a:ext cx="6553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ff9900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NI-Times"/>
              </a:rPr>
              <a:t>2.QL chuyeån hoùa töø nhöõng thay ñoåi veà löôïng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ff9900"/>
                  </a:gs>
                  <a:gs pos="100000">
                    <a:srgbClr val="ffffcc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NI-Times"/>
              <a:ea typeface="VNI-Times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143000" y="533520"/>
            <a:ext cx="6400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ff9900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dẫn tới những thay đổi về chất và ngược lại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ff9900"/>
                  </a:gs>
                  <a:gs pos="100000">
                    <a:srgbClr val="ffffcc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5" dur="3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0" dur="3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7000"/>
                            </p:stCondLst>
                            <p:childTnLst>
                              <p:par>
                                <p:cTn id="1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27000"/>
                            </p:stCondLst>
                            <p:childTnLst>
                              <p:par>
                                <p:cTn id="1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8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0" y="38088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"/>
          <p:cNvSpPr/>
          <p:nvPr/>
        </p:nvSpPr>
        <p:spPr>
          <a:xfrm>
            <a:off x="1219320" y="5181480"/>
            <a:ext cx="2286000" cy="914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777777"/>
                </a:solidFill>
                <a:uFillTx/>
                <a:latin typeface="VNI-Times"/>
              </a:rPr>
              <a:t>Sô ñoà 2.25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YÙ nghóa P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62120" y="2514600"/>
            <a:ext cx="2438280" cy="2057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13500000"/>
          </a:gra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VNI-Times"/>
              </a:rPr>
              <a:t>YÙ nghó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VNI-Times"/>
              </a:rPr>
              <a:t>phöô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VNI-Times"/>
              </a:rPr>
              <a:t>phaùp luaä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809880" y="1295280"/>
            <a:ext cx="4724640" cy="1752840"/>
          </a:xfrm>
          <a:prstGeom prst="rect">
            <a:avLst/>
          </a:prstGeom>
          <a:solidFill>
            <a:srgbClr val="bbe0e3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VNI-Dom"/>
              </a:rPr>
              <a:t>Trong nhaän thöùc &amp; hoaït ñoä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VNI-Dom"/>
              </a:rPr>
              <a:t>thöïc tieãn, muoán thay ñoåi C thì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VNI-Dom"/>
              </a:rPr>
              <a:t>phaûi khoâng ngöøng tích luõy veà 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49" idx="3"/>
            <a:endCxn id="450" idx="1"/>
          </p:cNvCxnSpPr>
          <p:nvPr/>
        </p:nvCxnSpPr>
        <p:spPr>
          <a:xfrm flipV="1">
            <a:off x="3212640" y="2171520"/>
            <a:ext cx="585000" cy="1372320"/>
          </a:xfrm>
          <a:prstGeom prst="straightConnector1">
            <a:avLst/>
          </a:prstGeom>
          <a:ln w="38160">
            <a:solidFill>
              <a:srgbClr val="969696"/>
            </a:solidFill>
            <a:miter/>
          </a:ln>
        </p:spPr>
      </p:cxnSp>
      <p:sp>
        <p:nvSpPr>
          <p:cNvPr id="452" name=""/>
          <p:cNvSpPr/>
          <p:nvPr/>
        </p:nvSpPr>
        <p:spPr>
          <a:xfrm>
            <a:off x="3886200" y="3200400"/>
            <a:ext cx="4572000" cy="1752480"/>
          </a:xfrm>
          <a:prstGeom prst="rect">
            <a:avLst/>
          </a:prstGeom>
          <a:solidFill>
            <a:srgbClr val="bbe0e3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VNI-Dom"/>
              </a:rPr>
              <a:t>Khi tích luûy ñuû L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VNI-Dom"/>
              </a:rPr>
              <a:t>phaûi chuyeån sang thay ñoåi C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VNI-Dom"/>
              </a:rPr>
              <a:t>töø tieán hoùa sang caùch maï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809880" y="5105520"/>
            <a:ext cx="4648320" cy="1676160"/>
          </a:xfrm>
          <a:prstGeom prst="rect">
            <a:avLst/>
          </a:prstGeom>
          <a:solidFill>
            <a:srgbClr val="bbe0e3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VNI-Dom"/>
              </a:rPr>
              <a:t>Ñeå söï thay ñoåi L ñöa ñeá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VNI-Dom"/>
              </a:rPr>
              <a:t>thay ñoåi C phaûi bieát söû duï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VNI-Dom"/>
              </a:rPr>
              <a:t>linh hoaït caùc böôùc nhaû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4" name=""/>
          <p:cNvCxnSpPr>
            <a:stCxn id="449" idx="3"/>
            <a:endCxn id="452" idx="1"/>
          </p:cNvCxnSpPr>
          <p:nvPr/>
        </p:nvCxnSpPr>
        <p:spPr>
          <a:xfrm>
            <a:off x="3212640" y="3543120"/>
            <a:ext cx="661320" cy="533880"/>
          </a:xfrm>
          <a:prstGeom prst="straightConnector1">
            <a:avLst/>
          </a:prstGeom>
          <a:ln w="38160">
            <a:solidFill>
              <a:srgbClr val="969696"/>
            </a:solidFill>
            <a:miter/>
          </a:ln>
        </p:spPr>
      </p:cxnSp>
      <p:cxnSp>
        <p:nvCxnSpPr>
          <p:cNvPr id="455" name=""/>
          <p:cNvCxnSpPr>
            <a:stCxn id="449" idx="3"/>
            <a:endCxn id="453" idx="1"/>
          </p:cNvCxnSpPr>
          <p:nvPr/>
        </p:nvCxnSpPr>
        <p:spPr>
          <a:xfrm>
            <a:off x="3212640" y="3543120"/>
            <a:ext cx="585000" cy="2400840"/>
          </a:xfrm>
          <a:prstGeom prst="straightConnector1">
            <a:avLst/>
          </a:prstGeom>
          <a:ln w="38160">
            <a:solidFill>
              <a:srgbClr val="969696"/>
            </a:solidFill>
            <a:miter/>
          </a:ln>
        </p:spPr>
      </p:cxnSp>
      <p:sp>
        <p:nvSpPr>
          <p:cNvPr id="456" name=""/>
          <p:cNvSpPr txBox="1"/>
          <p:nvPr/>
        </p:nvSpPr>
        <p:spPr>
          <a:xfrm>
            <a:off x="1143000" y="76320"/>
            <a:ext cx="6553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ff9900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NI-Times"/>
              </a:rPr>
              <a:t>2.QL chuyeån hoùa töø nhöõng thay ñoåi veà löôïng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ff9900"/>
                  </a:gs>
                  <a:gs pos="100000">
                    <a:srgbClr val="ffffcc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NI-Times"/>
              <a:ea typeface="VNI-Times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143000" y="533520"/>
            <a:ext cx="6400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ff9900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dẫn tới những thay đổi về chất và ngược lại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ff9900"/>
                  </a:gs>
                  <a:gs pos="100000">
                    <a:srgbClr val="ffffcc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fill="hold">
                      <p:stCondLst>
                        <p:cond delay="0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afterEffect" fill="hold" presetClass="path" presetID="1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1 -0.04527 L 0.125 -0.16644 L 0.158 -0.04527 L 0.249 0 L 0.158 0.04527 L 0.125 0.16644 L 0.091 0.04527 L 0 0 Z">
                                      <p:cBhvr>
                                        <p:cTn id="1240" dur="2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7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1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4500"/>
                            </p:stCondLst>
                            <p:childTnLst>
                              <p:par>
                                <p:cTn id="126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5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27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7500"/>
                            </p:stCondLst>
                            <p:childTnLst>
                              <p:par>
                                <p:cTn id="12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9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8500"/>
                            </p:stCondLst>
                            <p:childTnLst>
                              <p:par>
                                <p:cTn id="12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5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8" name=""/>
          <p:cNvGraphicFramePr/>
          <p:nvPr/>
        </p:nvGraphicFramePr>
        <p:xfrm>
          <a:off x="0" y="533520"/>
          <a:ext cx="9144000" cy="647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64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33520" y="5943600"/>
            <a:ext cx="8076960" cy="685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777777"/>
                </a:solidFill>
                <a:uFillTx/>
                <a:latin typeface="VNI-Times"/>
              </a:rPr>
              <a:t>Moâ hình 2.26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 </a:t>
            </a:r>
            <a:r>
              <a:rPr b="1" i="1" lang="en-US" sz="2700" spc="-1" strike="noStrike">
                <a:solidFill>
                  <a:srgbClr val="777777"/>
                </a:solidFill>
                <a:latin typeface="VNI-Tekon"/>
              </a:rPr>
              <a:t> </a:t>
            </a:r>
            <a:r>
              <a:rPr b="1" i="1" lang="en-US" sz="3600" spc="-1" strike="noStrike">
                <a:solidFill>
                  <a:srgbClr val="777777"/>
                </a:solidFill>
                <a:latin typeface="VNI-Tekon"/>
              </a:rPr>
              <a:t>Phuû ñònh bieän chöù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362320" y="3048120"/>
            <a:ext cx="2743200" cy="2666880"/>
          </a:xfrm>
          <a:prstGeom prst="ellipse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419720" y="3048120"/>
            <a:ext cx="2819160" cy="2519280"/>
          </a:xfrm>
          <a:prstGeom prst="ellipse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961920" y="33526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888360" y="3962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267080" y="4343400"/>
            <a:ext cx="99072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181480" y="3962520"/>
            <a:ext cx="21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632480" y="3998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4419720" y="3581280"/>
            <a:ext cx="45720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4495680" y="3886200"/>
            <a:ext cx="457200" cy="79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4572000" y="4191120"/>
            <a:ext cx="533520" cy="79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4723920" y="4572000"/>
            <a:ext cx="38124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495680" y="4724280"/>
            <a:ext cx="38124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419720" y="4343400"/>
            <a:ext cx="60948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419720" y="4038480"/>
            <a:ext cx="685800" cy="64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572000" y="3809880"/>
            <a:ext cx="53352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219320" y="152280"/>
            <a:ext cx="576252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3816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VNI-Times"/>
              </a:rPr>
              <a:t>3. QUY LUAÄT PHUÛ ÑÒNH CUÛA PHUÛ ÑÒNH</a:t>
            </a:r>
            <a:endParaRPr b="0" lang="en-US" sz="2800" spc="1" strike="noStrike">
              <a:ln w="3816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VNI-Times"/>
              <a:ea typeface="VNI-Times"/>
            </a:endParaRPr>
          </a:p>
        </p:txBody>
      </p:sp>
      <p:sp>
        <p:nvSpPr>
          <p:cNvPr id="479" name=""/>
          <p:cNvSpPr/>
          <p:nvPr/>
        </p:nvSpPr>
        <p:spPr>
          <a:xfrm>
            <a:off x="1828800" y="1676520"/>
            <a:ext cx="5105520" cy="16178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NI-Bandit"/>
              </a:rPr>
              <a:t>ghi chu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NI-Duff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NI-Duff"/>
              </a:rPr>
              <a:t>Söï vaät A </a:t>
            </a:r>
            <a:r>
              <a:rPr b="1" i="1" lang="en-US" sz="1800" spc="-1" strike="noStrike">
                <a:solidFill>
                  <a:srgbClr val="000000"/>
                </a:solidFill>
                <a:latin typeface="VNI-Duff"/>
              </a:rPr>
              <a:t>- </a:t>
            </a:r>
            <a:r>
              <a:rPr b="1" i="1" lang="en-US" sz="2400" spc="-1" strike="noStrike">
                <a:solidFill>
                  <a:srgbClr val="000000"/>
                </a:solidFill>
                <a:latin typeface="VNI-Duff"/>
              </a:rPr>
              <a:t>Söï vaät B  keá thöøa söï vaät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267080" y="4343400"/>
            <a:ext cx="99072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181480" y="3962520"/>
            <a:ext cx="21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fill="hold">
                      <p:stCondLst>
                        <p:cond delay="0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7" dur="3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1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2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7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68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68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33520" y="5346720"/>
            <a:ext cx="8076960" cy="685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777777"/>
                </a:solidFill>
                <a:uFillTx/>
                <a:latin typeface="VNI-Times"/>
              </a:rPr>
              <a:t>Moâ hình 5.5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 </a:t>
            </a:r>
            <a:r>
              <a:rPr b="1" i="1" lang="en-US" sz="2700" spc="-1" strike="noStrike">
                <a:solidFill>
                  <a:srgbClr val="777777"/>
                </a:solidFill>
                <a:latin typeface="VNI-Tekon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Tính chu kyø phuû ñònh cuûa phuû ñò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961920" y="275580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632480" y="3402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0" y="-3816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3816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"/>
          <p:cNvSpPr/>
          <p:nvPr/>
        </p:nvSpPr>
        <p:spPr>
          <a:xfrm>
            <a:off x="3352680" y="3213000"/>
            <a:ext cx="2362320" cy="1752840"/>
          </a:xfrm>
          <a:prstGeom prst="flowChartProcess">
            <a:avLst/>
          </a:prstGeom>
          <a:solidFill>
            <a:srgbClr val="ff99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VNI-Broad"/>
              </a:rPr>
              <a:t>Phuû ñòn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3137040"/>
            <a:ext cx="2666880" cy="1904760"/>
          </a:xfrm>
          <a:prstGeom prst="flowChartProcess">
            <a:avLst/>
          </a:prstGeom>
          <a:solidFill>
            <a:srgbClr val="99ccff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VNI-Times"/>
              </a:rPr>
              <a:t>Khaúng ñòn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400800" y="3213000"/>
            <a:ext cx="2743200" cy="1752840"/>
          </a:xfrm>
          <a:prstGeom prst="flowChartProcess">
            <a:avLst/>
          </a:prstGeom>
          <a:solidFill>
            <a:srgbClr val="00ccff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VNI-Duff"/>
              </a:rPr>
              <a:t>Phuû ñònh cuû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VNI-Duff"/>
              </a:rPr>
              <a:t> </a:t>
            </a:r>
            <a:r>
              <a:rPr b="1" lang="en-US" sz="3400" spc="-1" strike="noStrike">
                <a:solidFill>
                  <a:srgbClr val="000066"/>
                </a:solidFill>
                <a:latin typeface="VNI-Duff"/>
              </a:rPr>
              <a:t>phuû ñòn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2" name=""/>
          <p:cNvCxnSpPr>
            <a:stCxn id="490" idx="3"/>
            <a:endCxn id="489" idx="1"/>
          </p:cNvCxnSpPr>
          <p:nvPr/>
        </p:nvCxnSpPr>
        <p:spPr>
          <a:xfrm>
            <a:off x="2679840" y="4088880"/>
            <a:ext cx="660600" cy="1080"/>
          </a:xfrm>
          <a:prstGeom prst="straightConnector1">
            <a:avLst/>
          </a:prstGeom>
          <a:ln w="255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493" name=""/>
          <p:cNvCxnSpPr>
            <a:stCxn id="489" idx="3"/>
            <a:endCxn id="491" idx="1"/>
          </p:cNvCxnSpPr>
          <p:nvPr/>
        </p:nvCxnSpPr>
        <p:spPr>
          <a:xfrm>
            <a:off x="5727240" y="4088880"/>
            <a:ext cx="661320" cy="1080"/>
          </a:xfrm>
          <a:prstGeom prst="straightConnector1">
            <a:avLst/>
          </a:prstGeom>
          <a:ln w="25560">
            <a:solidFill>
              <a:srgbClr val="000080"/>
            </a:solidFill>
            <a:miter/>
            <a:tailEnd len="med" type="triangle" w="med"/>
          </a:ln>
        </p:spPr>
      </p:cxnSp>
      <p:sp>
        <p:nvSpPr>
          <p:cNvPr id="494" name=""/>
          <p:cNvSpPr/>
          <p:nvPr/>
        </p:nvSpPr>
        <p:spPr>
          <a:xfrm>
            <a:off x="1676520" y="5346720"/>
            <a:ext cx="6095880" cy="685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777777"/>
                </a:solidFill>
                <a:uFillTx/>
                <a:latin typeface="VNI-Times"/>
              </a:rPr>
              <a:t>Sô ñoà 2.27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 </a:t>
            </a:r>
            <a:r>
              <a:rPr b="1" i="1" lang="en-US" sz="3600" spc="-1" strike="noStrike">
                <a:solidFill>
                  <a:srgbClr val="777777"/>
                </a:solidFill>
                <a:latin typeface="VNI-Tekon"/>
              </a:rPr>
              <a:t>Phuû ñònh cuûa phuû ñò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066680" y="1523880"/>
            <a:ext cx="7086600" cy="1800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35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NI-Dom"/>
              </a:rPr>
              <a:t>Hoaøn thaønh 1 chu kyø phaùt trieån ít nhaát phaûi qua 2 laàn phuû ñònh. ÔÛ laàn phuû ñònh thöù 2 ta goïi laø phuû ñònh cuûa phuû ñònh</a:t>
            </a:r>
            <a:r>
              <a:rPr b="0" lang="en-US" sz="2800" spc="-1" strike="noStrike">
                <a:solidFill>
                  <a:srgbClr val="cc3300"/>
                </a:solidFill>
                <a:latin typeface="VNI-Dom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14600" y="328932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00"/>
                </a:solidFill>
                <a:latin typeface="VNI-Times"/>
              </a:rPr>
              <a:t>PÑ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00"/>
                </a:solidFill>
                <a:latin typeface="VNI-Times"/>
              </a:rPr>
              <a:t>laà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771880" y="33606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00"/>
                </a:solidFill>
                <a:latin typeface="VNI-Times"/>
              </a:rPr>
              <a:t>PÑ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00"/>
                </a:solidFill>
                <a:latin typeface="VNI-Times"/>
              </a:rPr>
              <a:t>laàn</a:t>
            </a:r>
            <a:r>
              <a:rPr b="0" lang="en-US" sz="18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1" lang="en-US" sz="1000" spc="-1" strike="noStrike">
                <a:solidFill>
                  <a:srgbClr val="800000"/>
                </a:solidFill>
                <a:latin typeface="VNI-Times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90720" y="4280040"/>
            <a:ext cx="67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193280" y="428004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393320" y="4432320"/>
            <a:ext cx="7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(A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1219320" y="152280"/>
            <a:ext cx="576252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3816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VNI-Times"/>
              </a:rPr>
              <a:t>3. QUY LUAÄT PHUÛ ÑÒNH CUÛA PHUÛ ÑÒNH</a:t>
            </a:r>
            <a:endParaRPr b="0" lang="en-US" sz="2800" spc="1" strike="noStrike">
              <a:ln w="3816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VNI-Times"/>
              <a:ea typeface="VNI-Times"/>
            </a:endParaRPr>
          </a:p>
        </p:txBody>
      </p:sp>
    </p:spTree>
  </p:cSld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0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4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7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1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6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33520" y="5943600"/>
            <a:ext cx="8076960" cy="685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777777"/>
                </a:solidFill>
                <a:uFillTx/>
                <a:latin typeface="VNI-Times"/>
              </a:rPr>
              <a:t>Moâ hình 5.5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 </a:t>
            </a:r>
            <a:r>
              <a:rPr b="1" i="1" lang="en-US" sz="2700" spc="-1" strike="noStrike">
                <a:solidFill>
                  <a:srgbClr val="777777"/>
                </a:solidFill>
                <a:latin typeface="VNI-Tekon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Tính chu kyø phuû ñònh cuûa phuû ñò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961920" y="33526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632480" y="3998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" y="6172200"/>
            <a:ext cx="8686800" cy="685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777777"/>
                </a:solidFill>
                <a:uFillTx/>
                <a:latin typeface="VNI-Times"/>
              </a:rPr>
              <a:t>Moâ hình 2.28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 </a:t>
            </a:r>
            <a:r>
              <a:rPr b="1" i="1" lang="en-US" sz="2700" spc="-1" strike="noStrike">
                <a:solidFill>
                  <a:srgbClr val="777777"/>
                </a:solidFill>
                <a:latin typeface="VNI-Tekon"/>
              </a:rPr>
              <a:t> </a:t>
            </a:r>
            <a:r>
              <a:rPr b="1" i="1" lang="en-US" sz="3600" spc="-1" strike="noStrike">
                <a:solidFill>
                  <a:srgbClr val="777777"/>
                </a:solidFill>
                <a:latin typeface="VNI-Tekon"/>
              </a:rPr>
              <a:t>Tính chu kyø</a:t>
            </a:r>
            <a:r>
              <a:rPr b="1" i="1" lang="en-US" sz="2700" spc="-1" strike="noStrike">
                <a:solidFill>
                  <a:srgbClr val="777777"/>
                </a:solidFill>
                <a:latin typeface="VNI-Tekon"/>
              </a:rPr>
              <a:t> </a:t>
            </a:r>
            <a:r>
              <a:rPr b="1" i="1" lang="en-US" sz="3600" spc="-1" strike="noStrike">
                <a:solidFill>
                  <a:srgbClr val="777777"/>
                </a:solidFill>
                <a:latin typeface="VNI-Tekon"/>
              </a:rPr>
              <a:t>phuû ñònh cuûa phuû ñò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676520" y="5334120"/>
            <a:ext cx="53337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Broad"/>
              </a:rPr>
              <a:t>Söï vaät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1676520" y="1981080"/>
            <a:ext cx="0" cy="335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7010280" y="190476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3124080" y="2362320"/>
            <a:ext cx="2438640" cy="13716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3200400" y="3733920"/>
            <a:ext cx="2362320" cy="10666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4419360" y="1143000"/>
            <a:ext cx="75960" cy="41911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514600" y="2133720"/>
            <a:ext cx="3048120" cy="2895480"/>
          </a:xfrm>
          <a:prstGeom prst="ellipse">
            <a:avLst/>
          </a:prstGeom>
          <a:noFill/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895480" y="2514600"/>
            <a:ext cx="8384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914400" y="2362320"/>
            <a:ext cx="914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Duff"/>
              </a:rPr>
              <a:t>Coät trình ñoä phaùt trieå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653200" y="4800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640840" y="3505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668680" y="1981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7150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1219320"/>
            <a:ext cx="2557440" cy="1909800"/>
          </a:xfrm>
          <a:prstGeom prst="ellipse">
            <a:avLst/>
          </a:prstGeom>
          <a:noFill/>
          <a:ln w="38160">
            <a:solidFill>
              <a:srgbClr val="8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572000" y="1523880"/>
            <a:ext cx="60948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rot="20140800">
            <a:off x="2903040" y="1333440"/>
            <a:ext cx="1366920" cy="75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864600" y="1066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032600" y="2362320"/>
            <a:ext cx="968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Duff"/>
              </a:rPr>
              <a:t>Coät thôøi g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ekon"/>
              </a:rPr>
              <a:t>Chæ söï vaän ñoäng phaùt trieån cuûa söï va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438280" y="2362320"/>
            <a:ext cx="76212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2362320"/>
            <a:ext cx="152640" cy="1522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486400" y="3657600"/>
            <a:ext cx="152280" cy="1522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200400" y="4724280"/>
            <a:ext cx="152280" cy="152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1143000"/>
            <a:ext cx="152280" cy="1522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52280" y="0"/>
            <a:ext cx="5762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3816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VNI-Times"/>
              </a:rPr>
              <a:t>3. QUY LUAÄT PHUÛ ÑÒNH CUÛA PHUÛ ÑÒNH</a:t>
            </a:r>
            <a:endParaRPr b="0" lang="en-US" sz="2800" spc="1" strike="noStrike">
              <a:ln w="3816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VNI-Times"/>
              <a:ea typeface="VNI-Times"/>
            </a:endParaRPr>
          </a:p>
        </p:txBody>
      </p:sp>
    </p:spTree>
  </p:cSld>
  <p:timing>
    <p:tnLst>
      <p:par>
        <p:cTn id="1469" dur="indefinite" restart="never" nodeType="tmRoot">
          <p:childTnLst>
            <p:seq>
              <p:cTn id="1470" dur="indefinite" nodeType="mainSeq">
                <p:childTnLst>
                  <p:par>
                    <p:cTn id="1471" fill="hold">
                      <p:stCondLst>
                        <p:cond delay="0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5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0" dur="5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4" dur="5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743200"/>
            <a:ext cx="2666880" cy="1828800"/>
          </a:xfrm>
          <a:prstGeom prst="flowChartAlternateProcess">
            <a:avLst/>
          </a:prstGeom>
          <a:solidFill>
            <a:srgbClr val="9933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f2c2"/>
                </a:solidFill>
                <a:latin typeface="VNI-Vari"/>
              </a:rPr>
              <a:t>Caùc hình thöù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f2c2"/>
                </a:solidFill>
                <a:latin typeface="VNI-Vari"/>
              </a:rPr>
              <a:t>cô baûn cuû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f2c2"/>
                </a:solidFill>
                <a:latin typeface="VNI-Vari"/>
              </a:rPr>
              <a:t>pheùp 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5943600"/>
            <a:ext cx="7391520" cy="609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Times"/>
              </a:rPr>
              <a:t>Sô ñoà 2.1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Caùc hình thöùc cô baûn cuûa pheùp 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752480" y="304920"/>
            <a:ext cx="6705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VNI-Times"/>
              </a:rPr>
              <a:t>NHÖÕNG NGUYEÂN LYÙ VAØ QUY LUAÄT CÔ BAÛN CUÛA PHEÙP BCDV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VNI-Times"/>
              <a:ea typeface="VNI-Times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228600"/>
            <a:ext cx="144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.TMC-Ong Do"/>
                <a:ea typeface="Times New Roman"/>
              </a:rPr>
              <a:t>Baøi  2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.TMC-Ong Do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1447920"/>
            <a:ext cx="4114800" cy="1295280"/>
          </a:xfrm>
          <a:prstGeom prst="flowChartAlternateProcess">
            <a:avLst/>
          </a:prstGeom>
          <a:solidFill>
            <a:srgbClr val="9933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f2c2"/>
                </a:solidFill>
                <a:latin typeface="VNI-Ariston"/>
              </a:rPr>
              <a:t>Pheùp BC moäc maï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f2c2"/>
                </a:solidFill>
                <a:latin typeface="VNI-Ariston"/>
              </a:rPr>
              <a:t>chaát phaùt thôøi coå ñaï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f2c2"/>
                </a:solidFill>
                <a:latin typeface="VNI-Ariston"/>
              </a:rPr>
              <a:t>(Heracl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3048120"/>
            <a:ext cx="4114800" cy="1218960"/>
          </a:xfrm>
          <a:prstGeom prst="flowChartAlternateProcess">
            <a:avLst/>
          </a:prstGeom>
          <a:solidFill>
            <a:srgbClr val="9933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0f2c2"/>
                </a:solidFill>
                <a:latin typeface="VNI-Times"/>
              </a:rPr>
              <a:t>Pheùp BC DT tro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0f2c2"/>
                </a:solidFill>
                <a:latin typeface="VNI-Times"/>
              </a:rPr>
              <a:t>TRH coå ñieån Ñöùc(Hegh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4724280"/>
            <a:ext cx="4038480" cy="1143000"/>
          </a:xfrm>
          <a:prstGeom prst="flowChartAlternateProcess">
            <a:avLst/>
          </a:prstGeom>
          <a:solidFill>
            <a:srgbClr val="9933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f2c2"/>
                </a:solidFill>
                <a:latin typeface="VNI-Park"/>
              </a:rPr>
              <a:t>Pheùp BC DV cuûa  C.Maù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f2c2"/>
                </a:solidFill>
                <a:latin typeface="VNI-Park"/>
              </a:rPr>
              <a:t>vaø Ph.AÊng g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55" idx="3"/>
            <a:endCxn id="59" idx="1"/>
          </p:cNvCxnSpPr>
          <p:nvPr/>
        </p:nvCxnSpPr>
        <p:spPr>
          <a:xfrm flipV="1">
            <a:off x="3352680" y="2094840"/>
            <a:ext cx="915120" cy="15627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3" name=""/>
          <p:cNvCxnSpPr>
            <a:stCxn id="55" idx="3"/>
            <a:endCxn id="60" idx="1"/>
          </p:cNvCxnSpPr>
          <p:nvPr/>
        </p:nvCxnSpPr>
        <p:spPr>
          <a:xfrm>
            <a:off x="3352680" y="3657240"/>
            <a:ext cx="915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55" idx="3"/>
            <a:endCxn id="61" idx="1"/>
          </p:cNvCxnSpPr>
          <p:nvPr/>
        </p:nvCxnSpPr>
        <p:spPr>
          <a:xfrm>
            <a:off x="3352680" y="3657240"/>
            <a:ext cx="991440" cy="1639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5" name=""/>
          <p:cNvCxnSpPr>
            <a:stCxn id="59" idx="2"/>
            <a:endCxn id="60" idx="0"/>
          </p:cNvCxnSpPr>
          <p:nvPr/>
        </p:nvCxnSpPr>
        <p:spPr>
          <a:xfrm>
            <a:off x="6324120" y="2742840"/>
            <a:ext cx="1080" cy="305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60" idx="2"/>
            <a:endCxn id="61" idx="0"/>
          </p:cNvCxnSpPr>
          <p:nvPr/>
        </p:nvCxnSpPr>
        <p:spPr>
          <a:xfrm>
            <a:off x="6324480" y="4267080"/>
            <a:ext cx="3888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336960" y="1014480"/>
            <a:ext cx="502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NI-Duff"/>
              </a:rPr>
              <a:t>I. HAI NGUYEÂN LYÙ CUÛA PHEÙP BCD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4" name=""/>
          <p:cNvSpPr/>
          <p:nvPr/>
        </p:nvSpPr>
        <p:spPr>
          <a:xfrm>
            <a:off x="0" y="1676520"/>
            <a:ext cx="91440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VNI-Vari"/>
              </a:rPr>
              <a:t>Keát thuùc baøi 2</a:t>
            </a:r>
            <a:br>
              <a:rPr sz="5400"/>
            </a:br>
            <a:r>
              <a:rPr b="0" lang="en-US" sz="5400" spc="-1" strike="noStrike">
                <a:solidFill>
                  <a:srgbClr val="00ff00"/>
                </a:solidFill>
                <a:latin typeface="VNI-Broad"/>
              </a:rPr>
              <a:t>CAÛM ÔN SÖÏ </a:t>
            </a:r>
            <a:br>
              <a:rPr sz="5400"/>
            </a:br>
            <a:r>
              <a:rPr b="0" lang="en-US" sz="5400" spc="-1" strike="noStrike">
                <a:solidFill>
                  <a:srgbClr val="00ff00"/>
                </a:solidFill>
                <a:latin typeface="VNI-Broad"/>
              </a:rPr>
              <a:t>CHUÙ YÙ THEO DOÕI </a:t>
            </a:r>
            <a:br>
              <a:rPr sz="5400"/>
            </a:br>
            <a:r>
              <a:rPr b="0" lang="en-US" sz="5400" spc="-1" strike="noStrike">
                <a:solidFill>
                  <a:srgbClr val="00ff00"/>
                </a:solidFill>
                <a:latin typeface="VNI-Broad"/>
              </a:rPr>
              <a:t>CUÛA CAÙC BẠ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5" dur="indefinite" restart="never" nodeType="tmRoot">
          <p:childTnLst>
            <p:seq>
              <p:cTn id="1486" dur="indefinite" nodeType="mainSeq">
                <p:childTnLst>
                  <p:par>
                    <p:cTn id="1487" fill="hold">
                      <p:stCondLst>
                        <p:cond delay="0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6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4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5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9000"/>
                            </p:stCondLst>
                            <p:childTnLst>
                              <p:par>
                                <p:cTn id="1502" nodeType="afterEffect" fill="hold" presetClass="emph" presetID="2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503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04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05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506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71800" y="2057400"/>
            <a:ext cx="2743200" cy="685800"/>
          </a:xfrm>
          <a:prstGeom prst="flowChartAlternateProcess">
            <a:avLst/>
          </a:prstGeom>
          <a:solidFill>
            <a:srgbClr val="663300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0f2c2"/>
                </a:solidFill>
                <a:latin typeface="VNI-Thufap2"/>
              </a:rPr>
              <a:t> </a:t>
            </a:r>
            <a:r>
              <a:rPr b="0" lang="en-US" sz="3000" spc="-1" strike="noStrike">
                <a:solidFill>
                  <a:srgbClr val="f0f2c2"/>
                </a:solidFill>
                <a:latin typeface="VNI-Thufap2"/>
              </a:rPr>
              <a:t>Pheùp BC D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5943600"/>
            <a:ext cx="7391520" cy="609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Times"/>
              </a:rPr>
              <a:t>Sô ñoà 2.2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Hai nguyeân lyù cuûa pheùp BCD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3276720"/>
            <a:ext cx="3200400" cy="1143000"/>
          </a:xfrm>
          <a:prstGeom prst="flowChartAlternateProcess">
            <a:avLst/>
          </a:prstGeom>
          <a:solidFill>
            <a:srgbClr val="663300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0f2c2"/>
                </a:solidFill>
                <a:latin typeface="VNI-Times"/>
              </a:rPr>
              <a:t>Nguyeân lyù ve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0f2c2"/>
                </a:solidFill>
                <a:latin typeface="VNI-Times"/>
              </a:rPr>
              <a:t>söï phaùt trieå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5181480"/>
            <a:ext cx="2438640" cy="533520"/>
          </a:xfrm>
          <a:prstGeom prst="flowChartAlternateProcess">
            <a:avLst/>
          </a:prstGeom>
          <a:solidFill>
            <a:srgbClr val="663300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0f2c2"/>
                </a:solidFill>
                <a:latin typeface="VNI-Park"/>
              </a:rPr>
              <a:t>Quan ñieåm toaøn dieä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3352680"/>
            <a:ext cx="3200400" cy="1143000"/>
          </a:xfrm>
          <a:prstGeom prst="flowChartAlternateProcess">
            <a:avLst/>
          </a:prstGeom>
          <a:solidFill>
            <a:srgbClr val="663300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0f2c2"/>
                </a:solidFill>
                <a:latin typeface="VNI-Times"/>
              </a:rPr>
              <a:t>Nguyeân lyù veà moá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0f2c2"/>
                </a:solidFill>
                <a:latin typeface="VNI-Times"/>
              </a:rPr>
              <a:t>lieân heä phoå bieá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5181480"/>
            <a:ext cx="2590920" cy="533520"/>
          </a:xfrm>
          <a:prstGeom prst="flowChartAlternateProcess">
            <a:avLst/>
          </a:prstGeom>
          <a:solidFill>
            <a:srgbClr val="663300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0f2c2"/>
                </a:solidFill>
                <a:latin typeface="VNI-Park"/>
              </a:rPr>
              <a:t>Quan ñieåm phaùt trieå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15000" y="5181480"/>
            <a:ext cx="2971800" cy="533520"/>
          </a:xfrm>
          <a:prstGeom prst="flowChartAlternateProcess">
            <a:avLst/>
          </a:prstGeom>
          <a:solidFill>
            <a:srgbClr val="663300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0f2c2"/>
                </a:solidFill>
                <a:latin typeface="VNI-Park"/>
              </a:rPr>
              <a:t>Quan ñieåm LS – cuï theå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>
            <a:stCxn id="70" idx="2"/>
            <a:endCxn id="72" idx="0"/>
          </p:cNvCxnSpPr>
          <p:nvPr/>
        </p:nvCxnSpPr>
        <p:spPr>
          <a:xfrm>
            <a:off x="4343040" y="2743200"/>
            <a:ext cx="2057760" cy="5342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8" name=""/>
          <p:cNvSpPr/>
          <p:nvPr/>
        </p:nvSpPr>
        <p:spPr>
          <a:xfrm flipH="1">
            <a:off x="2133720" y="2743200"/>
            <a:ext cx="220968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3" idx="0"/>
            <a:endCxn id="76" idx="0"/>
          </p:cNvCxnSpPr>
          <p:nvPr/>
        </p:nvCxnSpPr>
        <p:spPr>
          <a:xfrm flipH="1" rot="16200000">
            <a:off x="4399560" y="2380680"/>
            <a:ext cx="2520" cy="56016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2514600" y="449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00800" y="4419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197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228600"/>
            <a:ext cx="144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.TMC-Ong Do"/>
                <a:ea typeface="Times New Roman"/>
              </a:rPr>
              <a:t>Baøi  2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.TMC-Ong Do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52480" y="304920"/>
            <a:ext cx="6705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VNI-Times"/>
              </a:rPr>
              <a:t>NHÖÕNG NGUYEÂN LYÙ VAØ QUY LUAÄT CÔ BAÛN CUÛA PHEÙP BCDV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VNI-Times"/>
              <a:ea typeface="VNI-Times"/>
            </a:endParaRPr>
          </a:p>
        </p:txBody>
      </p:sp>
      <p:sp>
        <p:nvSpPr>
          <p:cNvPr id="85" name=""/>
          <p:cNvSpPr/>
          <p:nvPr/>
        </p:nvSpPr>
        <p:spPr>
          <a:xfrm>
            <a:off x="414000" y="1011240"/>
            <a:ext cx="59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NI-Duff"/>
              </a:rPr>
              <a:t>I. HAI NGUYEÂN LYÙ CUÛA PHEÙP BCD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85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385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8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385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" dur="38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" dur="38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385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385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38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38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38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" dur="385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4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6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3657600"/>
            <a:ext cx="2057400" cy="685800"/>
          </a:xfrm>
          <a:prstGeom prst="bevel">
            <a:avLst>
              <a:gd name="adj" fmla="val 13657"/>
            </a:avLst>
          </a:prstGeom>
          <a:solidFill>
            <a:srgbClr val="6600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f2c2"/>
                </a:solidFill>
                <a:latin typeface="VNI-Revue"/>
              </a:rPr>
              <a:t>Moái lieân he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5867280"/>
            <a:ext cx="5105520" cy="609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Times"/>
              </a:rPr>
              <a:t>Sô ñoà 2.3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i="1" lang="en-US" sz="2400" spc="-1" strike="noStrike">
                <a:solidFill>
                  <a:srgbClr val="777777"/>
                </a:solidFill>
                <a:latin typeface="VNI-Univer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Moái lieân heä phoå bie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2590920"/>
            <a:ext cx="2971800" cy="685800"/>
          </a:xfrm>
          <a:prstGeom prst="bevel">
            <a:avLst>
              <a:gd name="adj" fmla="val 13657"/>
            </a:avLst>
          </a:prstGeom>
          <a:solidFill>
            <a:srgbClr val="6600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f2c2"/>
                </a:solidFill>
                <a:latin typeface="VNI-Revue"/>
              </a:rPr>
              <a:t>Quy ñònh laãn nh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3657600"/>
            <a:ext cx="2971800" cy="685800"/>
          </a:xfrm>
          <a:prstGeom prst="bevel">
            <a:avLst>
              <a:gd name="adj" fmla="val 13657"/>
            </a:avLst>
          </a:prstGeom>
          <a:solidFill>
            <a:srgbClr val="6600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f2c2"/>
                </a:solidFill>
                <a:latin typeface="VNI-Revue"/>
              </a:rPr>
              <a:t>Taùc ñoäng qua laï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4724280"/>
            <a:ext cx="2971800" cy="685800"/>
          </a:xfrm>
          <a:prstGeom prst="bevel">
            <a:avLst>
              <a:gd name="adj" fmla="val 13657"/>
            </a:avLst>
          </a:prstGeom>
          <a:solidFill>
            <a:srgbClr val="6600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f2c2"/>
                </a:solidFill>
                <a:latin typeface="VNI-Revue"/>
              </a:rPr>
              <a:t>Chuyeån hoaù laãn nh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3352680"/>
            <a:ext cx="3048120" cy="1295640"/>
          </a:xfrm>
          <a:prstGeom prst="bevel">
            <a:avLst>
              <a:gd name="adj" fmla="val 7292"/>
            </a:avLst>
          </a:prstGeom>
          <a:solidFill>
            <a:srgbClr val="6600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f2c2"/>
                </a:solidFill>
                <a:latin typeface="VNI-Revue"/>
              </a:rPr>
              <a:t>Giöõa caùc söï vaä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f2c2"/>
                </a:solidFill>
                <a:latin typeface="VNI-Revue"/>
              </a:rPr>
              <a:t>Giöõa caùc maët cuûa S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/>
          <p:nvPr/>
        </p:nvCxnSpPr>
        <p:spPr>
          <a:xfrm>
            <a:off x="5943600" y="3962160"/>
            <a:ext cx="2954880" cy="1080"/>
          </a:xfrm>
          <a:prstGeom prst="straightConnector1">
            <a:avLst/>
          </a:prstGeom>
          <a:ln w="38160">
            <a:solidFill>
              <a:srgbClr val="c0c0c0"/>
            </a:solidFill>
            <a:miter/>
          </a:ln>
        </p:spPr>
      </p:cxnSp>
      <p:cxnSp>
        <p:nvCxnSpPr>
          <p:cNvPr id="95" name=""/>
          <p:cNvCxnSpPr>
            <a:stCxn id="88" idx="0"/>
            <a:endCxn id="90" idx="0"/>
          </p:cNvCxnSpPr>
          <p:nvPr/>
        </p:nvCxnSpPr>
        <p:spPr>
          <a:xfrm flipV="1">
            <a:off x="2209320" y="2933280"/>
            <a:ext cx="38196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6" name=""/>
          <p:cNvCxnSpPr>
            <a:stCxn id="88" idx="1"/>
            <a:endCxn id="91" idx="0"/>
          </p:cNvCxnSpPr>
          <p:nvPr/>
        </p:nvCxnSpPr>
        <p:spPr>
          <a:xfrm>
            <a:off x="2209320" y="400032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/>
          <p:nvPr/>
        </p:nvCxnSpPr>
        <p:spPr>
          <a:xfrm>
            <a:off x="2209320" y="4038480"/>
            <a:ext cx="38196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" name=""/>
          <p:cNvCxnSpPr>
            <a:stCxn id="90" idx="1"/>
            <a:endCxn id="93" idx="0"/>
          </p:cNvCxnSpPr>
          <p:nvPr/>
        </p:nvCxnSpPr>
        <p:spPr>
          <a:xfrm>
            <a:off x="5562720" y="2933640"/>
            <a:ext cx="38160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" name=""/>
          <p:cNvCxnSpPr>
            <a:stCxn id="91" idx="1"/>
            <a:endCxn id="93" idx="1"/>
          </p:cNvCxnSpPr>
          <p:nvPr/>
        </p:nvCxnSpPr>
        <p:spPr>
          <a:xfrm>
            <a:off x="5562720" y="400032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" name=""/>
          <p:cNvCxnSpPr>
            <a:stCxn id="93" idx="2"/>
            <a:endCxn id="92" idx="0"/>
          </p:cNvCxnSpPr>
          <p:nvPr/>
        </p:nvCxnSpPr>
        <p:spPr>
          <a:xfrm flipH="1">
            <a:off x="5562360" y="4000320"/>
            <a:ext cx="38160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1" name=""/>
          <p:cNvSpPr txBox="1"/>
          <p:nvPr/>
        </p:nvSpPr>
        <p:spPr>
          <a:xfrm>
            <a:off x="1752480" y="304920"/>
            <a:ext cx="6705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VNI-Times"/>
              </a:rPr>
              <a:t>NHÖÕNG NGUYEÂN LYÙ VAØ QUY LUAÄT CÔ BAÛN CUÛA PHEÙP BCDV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VNI-Times"/>
              <a:ea typeface="VNI-Times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VNI-Revue"/>
                <a:ea typeface="Times New Roman"/>
              </a:rPr>
              <a:t>Baøi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.TMC-Ong Do"/>
                <a:ea typeface="Times New Roman"/>
              </a:rPr>
              <a:t>  2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.TMC-Ong Do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7280" y="1319040"/>
            <a:ext cx="752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NGUYÊN LÝ VỀ MỐI LIÊN HỆ PHỔ BIẾ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Khái niệ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3429000"/>
            <a:ext cx="2895480" cy="1143000"/>
          </a:xfrm>
          <a:prstGeom prst="bevel">
            <a:avLst>
              <a:gd name="adj" fmla="val 13657"/>
            </a:avLst>
          </a:prstGeom>
          <a:solidFill>
            <a:srgbClr val="6600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f2c2"/>
                </a:solidFill>
                <a:latin typeface="VNI-Times"/>
              </a:rPr>
              <a:t>Tính chaát cuû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f2c2"/>
                </a:solidFill>
                <a:latin typeface="VNI-Times"/>
              </a:rPr>
              <a:t>moái lieân he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5867280"/>
            <a:ext cx="5638680" cy="609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Times"/>
              </a:rPr>
              <a:t>Sô ñoà 2.4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i="1" lang="en-US" sz="2400" spc="-1" strike="noStrike">
                <a:solidFill>
                  <a:srgbClr val="777777"/>
                </a:solidFill>
                <a:latin typeface="VNI-Univer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Tính chaát cuûa moái lieân he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2590920"/>
            <a:ext cx="3200400" cy="685800"/>
          </a:xfrm>
          <a:prstGeom prst="bevel">
            <a:avLst>
              <a:gd name="adj" fmla="val 13657"/>
            </a:avLst>
          </a:prstGeom>
          <a:solidFill>
            <a:srgbClr val="6600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f2c2"/>
                </a:solidFill>
                <a:latin typeface="VNI-Duff"/>
              </a:rPr>
              <a:t>Tính khaùch qu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657600"/>
            <a:ext cx="3200400" cy="685800"/>
          </a:xfrm>
          <a:prstGeom prst="bevel">
            <a:avLst>
              <a:gd name="adj" fmla="val 13657"/>
            </a:avLst>
          </a:prstGeom>
          <a:solidFill>
            <a:srgbClr val="6600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f2c2"/>
                </a:solidFill>
                <a:latin typeface="VNI-Duff"/>
              </a:rPr>
              <a:t>Tính phoå bie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4724280"/>
            <a:ext cx="3124080" cy="685800"/>
          </a:xfrm>
          <a:prstGeom prst="bevel">
            <a:avLst>
              <a:gd name="adj" fmla="val 13657"/>
            </a:avLst>
          </a:prstGeom>
          <a:solidFill>
            <a:srgbClr val="6600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f2c2"/>
                </a:solidFill>
                <a:latin typeface="VNI-Duff"/>
              </a:rPr>
              <a:t>Tính ña daï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6" idx="0"/>
            <a:endCxn id="108" idx="0"/>
          </p:cNvCxnSpPr>
          <p:nvPr/>
        </p:nvCxnSpPr>
        <p:spPr>
          <a:xfrm flipV="1">
            <a:off x="4038120" y="2933280"/>
            <a:ext cx="76284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06" idx="1"/>
            <a:endCxn id="109" idx="0"/>
          </p:cNvCxnSpPr>
          <p:nvPr/>
        </p:nvCxnSpPr>
        <p:spPr>
          <a:xfrm>
            <a:off x="4038120" y="40003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" name=""/>
          <p:cNvCxnSpPr>
            <a:stCxn id="106" idx="2"/>
            <a:endCxn id="110" idx="0"/>
          </p:cNvCxnSpPr>
          <p:nvPr/>
        </p:nvCxnSpPr>
        <p:spPr>
          <a:xfrm>
            <a:off x="4038120" y="4000320"/>
            <a:ext cx="76284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4" name=""/>
          <p:cNvSpPr txBox="1"/>
          <p:nvPr/>
        </p:nvSpPr>
        <p:spPr>
          <a:xfrm>
            <a:off x="1752480" y="304920"/>
            <a:ext cx="6858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VNI-Times"/>
              </a:rPr>
              <a:t>NHÖÕNG NGUYEÂN LYÙ VAØ QUY LUAÄT CÔ BAÛN CUÛA PHEÙP BCDV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VNI-Times"/>
              <a:ea typeface="VNI-Times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7632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.TMC-Ong Do"/>
                <a:ea typeface="Times New Roman"/>
              </a:rPr>
              <a:t>Baøi  2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.TMC-Ong Do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2440" y="1739880"/>
            <a:ext cx="25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Duff"/>
              </a:rPr>
              <a:t>b. Tính chấ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1143000"/>
            <a:ext cx="6019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2000" y="1227240"/>
            <a:ext cx="50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NI-Duff"/>
              </a:rPr>
              <a:t>1. 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uyên lý về mối liên hệ phổ biế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2514600"/>
            <a:ext cx="3200400" cy="1447920"/>
          </a:xfrm>
          <a:prstGeom prst="bevel">
            <a:avLst>
              <a:gd name="adj" fmla="val 9069"/>
            </a:avLst>
          </a:prstGeom>
          <a:solidFill>
            <a:srgbClr val="6600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f2c2"/>
                </a:solidFill>
                <a:latin typeface="VNI-Helve"/>
              </a:rPr>
              <a:t>Tính ña daïng cuû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f2c2"/>
                </a:solidFill>
                <a:latin typeface="VNI-Helve"/>
              </a:rPr>
              <a:t>moái lieân he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5867280"/>
            <a:ext cx="6248160" cy="609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Times"/>
              </a:rPr>
              <a:t>Sô ñoà 2.5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i="1" lang="en-US" sz="2400" spc="-1" strike="noStrike">
                <a:solidFill>
                  <a:srgbClr val="777777"/>
                </a:solidFill>
                <a:latin typeface="VNI-Univer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Tính ña daïng cuûa moái lieân he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00600" y="762120"/>
            <a:ext cx="3200400" cy="838080"/>
          </a:xfrm>
          <a:prstGeom prst="bevel">
            <a:avLst>
              <a:gd name="adj" fmla="val 13657"/>
            </a:avLst>
          </a:prstGeom>
          <a:solidFill>
            <a:srgbClr val="6600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0f2c2"/>
              </a:buClr>
              <a:buFont typeface="VNI-Arist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f2c2"/>
                </a:solidFill>
                <a:latin typeface="VNI-Ariston"/>
              </a:rPr>
              <a:t> </a:t>
            </a:r>
            <a:r>
              <a:rPr b="1" lang="en-US" sz="2400" spc="-1" strike="noStrike">
                <a:solidFill>
                  <a:srgbClr val="f0f2c2"/>
                </a:solidFill>
                <a:latin typeface="VNI-Ariston"/>
              </a:rPr>
              <a:t>Moái lieân heä beân 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0f2c2"/>
              </a:buClr>
              <a:buFont typeface="VNI-Arist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f2c2"/>
                </a:solidFill>
                <a:latin typeface="VNI-Ariston"/>
              </a:rPr>
              <a:t>- Lieân heä beân ngoaø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0"/>
          </p:cNvCxnSpPr>
          <p:nvPr/>
        </p:nvCxnSpPr>
        <p:spPr>
          <a:xfrm flipV="1">
            <a:off x="3429000" y="1180800"/>
            <a:ext cx="137232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" name=""/>
          <p:cNvCxnSpPr>
            <a:stCxn id="121" idx="1"/>
          </p:cNvCxnSpPr>
          <p:nvPr/>
        </p:nvCxnSpPr>
        <p:spPr>
          <a:xfrm>
            <a:off x="3428640" y="3238200"/>
            <a:ext cx="1524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" name=""/>
          <p:cNvCxnSpPr>
            <a:stCxn id="121" idx="2"/>
          </p:cNvCxnSpPr>
          <p:nvPr/>
        </p:nvCxnSpPr>
        <p:spPr>
          <a:xfrm>
            <a:off x="3428640" y="3238200"/>
            <a:ext cx="160092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4800600" y="2895480"/>
            <a:ext cx="3200400" cy="838440"/>
          </a:xfrm>
          <a:prstGeom prst="bevel">
            <a:avLst>
              <a:gd name="adj" fmla="val 13657"/>
            </a:avLst>
          </a:prstGeom>
          <a:solidFill>
            <a:srgbClr val="6600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f2c2"/>
                </a:solidFill>
                <a:latin typeface="VNI-Ariston"/>
              </a:rPr>
              <a:t>- Lieân heä taát nhieâ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f2c2"/>
                </a:solidFill>
                <a:latin typeface="VNI-Ariston"/>
              </a:rPr>
              <a:t> </a:t>
            </a:r>
            <a:r>
              <a:rPr b="0" lang="en-US" sz="2400" spc="-1" strike="noStrike">
                <a:solidFill>
                  <a:srgbClr val="f0f2c2"/>
                </a:solidFill>
                <a:latin typeface="VNI-Ariston"/>
              </a:rPr>
              <a:t>-</a:t>
            </a:r>
            <a:r>
              <a:rPr b="1" lang="en-US" sz="2400" spc="-1" strike="noStrike">
                <a:solidFill>
                  <a:srgbClr val="f0f2c2"/>
                </a:solidFill>
                <a:latin typeface="VNI-Ariston"/>
              </a:rPr>
              <a:t> Lieân heä ngaãu nhieâ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3962520"/>
            <a:ext cx="3200400" cy="838080"/>
          </a:xfrm>
          <a:prstGeom prst="bevel">
            <a:avLst>
              <a:gd name="adj" fmla="val 13657"/>
            </a:avLst>
          </a:prstGeom>
          <a:solidFill>
            <a:srgbClr val="6600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f2c2"/>
                </a:solidFill>
                <a:latin typeface="VNI-Times"/>
              </a:rPr>
              <a:t>- Lieân heä tröïc tieá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f2c2"/>
                </a:solidFill>
                <a:latin typeface="VNI-Times"/>
              </a:rPr>
              <a:t> </a:t>
            </a:r>
            <a:r>
              <a:rPr b="1" lang="en-US" sz="2400" spc="-1" strike="noStrike">
                <a:solidFill>
                  <a:srgbClr val="f0f2c2"/>
                </a:solidFill>
                <a:latin typeface="VNI-Times"/>
              </a:rPr>
              <a:t>- Lieân heä giaùn tieá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5029200"/>
            <a:ext cx="3200400" cy="838080"/>
          </a:xfrm>
          <a:prstGeom prst="bevel">
            <a:avLst>
              <a:gd name="adj" fmla="val 13657"/>
            </a:avLst>
          </a:prstGeom>
          <a:solidFill>
            <a:srgbClr val="6600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f2c2"/>
                </a:solidFill>
                <a:latin typeface="VNI-Ariston"/>
              </a:rPr>
              <a:t>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1828800"/>
            <a:ext cx="3200400" cy="838080"/>
          </a:xfrm>
          <a:prstGeom prst="bevel">
            <a:avLst>
              <a:gd name="adj" fmla="val 13657"/>
            </a:avLst>
          </a:prstGeom>
          <a:solidFill>
            <a:srgbClr val="6600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f2c2"/>
                </a:solidFill>
                <a:latin typeface="VNI-Times"/>
              </a:rPr>
              <a:t>- Lieân heä chuû yeá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f2c2"/>
                </a:solidFill>
                <a:latin typeface="VNI-Times"/>
              </a:rPr>
              <a:t>- Lieân heä thöù yeá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1" idx="3"/>
            <a:endCxn id="129" idx="0"/>
          </p:cNvCxnSpPr>
          <p:nvPr/>
        </p:nvCxnSpPr>
        <p:spPr>
          <a:xfrm>
            <a:off x="3429000" y="3238560"/>
            <a:ext cx="1372320" cy="2210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" name=""/>
          <p:cNvCxnSpPr>
            <a:stCxn id="121" idx="4"/>
            <a:endCxn id="130" idx="0"/>
          </p:cNvCxnSpPr>
          <p:nvPr/>
        </p:nvCxnSpPr>
        <p:spPr>
          <a:xfrm flipV="1">
            <a:off x="3429000" y="2247480"/>
            <a:ext cx="137232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-27360" y="88920"/>
            <a:ext cx="59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NI-Duff"/>
              </a:rPr>
              <a:t>I. HAI NGUYEÂN LYÙ CUÛA PHEÙP BCD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4440" y="393840"/>
            <a:ext cx="50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NI-Duff"/>
              </a:rPr>
              <a:t>1. 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uyên lý về mối liên hệ phổ biế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19320" y="5867280"/>
            <a:ext cx="6248160" cy="609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Times"/>
              </a:rPr>
              <a:t>Sô ñoà 2.6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i="1" lang="en-US" sz="2400" spc="-1" strike="noStrike">
                <a:solidFill>
                  <a:srgbClr val="777777"/>
                </a:solidFill>
                <a:latin typeface="VNI-Univer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Toång quaùt veà moái lieân he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6320" y="835560"/>
            <a:ext cx="8915400" cy="4882680"/>
            <a:chOff x="76320" y="835560"/>
            <a:chExt cx="8915400" cy="4882680"/>
          </a:xfrm>
        </p:grpSpPr>
        <p:sp>
          <p:nvSpPr>
            <p:cNvPr id="137" name=""/>
            <p:cNvSpPr/>
            <p:nvPr/>
          </p:nvSpPr>
          <p:spPr>
            <a:xfrm>
              <a:off x="76320" y="2438280"/>
              <a:ext cx="2286000" cy="1524240"/>
            </a:xfrm>
            <a:prstGeom prst="bevel">
              <a:avLst>
                <a:gd name="adj" fmla="val 7125"/>
              </a:avLst>
            </a:prstGeom>
            <a:solidFill>
              <a:srgbClr val="6600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0f2c2"/>
                  </a:solidFill>
                  <a:latin typeface="VNI-Vivi"/>
                </a:rPr>
                <a:t>Nguyeân lyù veà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0f2c2"/>
                  </a:solidFill>
                  <a:latin typeface="VNI-Vivi"/>
                </a:rPr>
                <a:t>moái lieân heä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0f2c2"/>
                  </a:solidFill>
                  <a:latin typeface="VNI-Vivi"/>
                </a:rPr>
                <a:t>phoå bieá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14600" y="4114800"/>
              <a:ext cx="1676520" cy="838080"/>
            </a:xfrm>
            <a:prstGeom prst="bevel">
              <a:avLst>
                <a:gd name="adj" fmla="val 8523"/>
              </a:avLst>
            </a:prstGeom>
            <a:solidFill>
              <a:srgbClr val="6600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0f2c2"/>
                  </a:solidFill>
                  <a:latin typeface="VNI-Duff"/>
                </a:rPr>
                <a:t>Tính chaá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0f2c2"/>
                  </a:solidFill>
                  <a:latin typeface="VNI-Duff"/>
                </a:rPr>
                <a:t>cuûa lieân he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1143000"/>
              <a:ext cx="2438280" cy="533520"/>
            </a:xfrm>
            <a:prstGeom prst="bevel">
              <a:avLst>
                <a:gd name="adj" fmla="val 13657"/>
              </a:avLst>
            </a:prstGeom>
            <a:solidFill>
              <a:srgbClr val="6600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0f2c2"/>
                  </a:solidFill>
                  <a:latin typeface="VNI-Univer"/>
                </a:rPr>
                <a:t>Quy ñònh laãn nha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14600" y="1676520"/>
              <a:ext cx="1676520" cy="838080"/>
            </a:xfrm>
            <a:prstGeom prst="bevel">
              <a:avLst>
                <a:gd name="adj" fmla="val 8333"/>
              </a:avLst>
            </a:prstGeom>
            <a:solidFill>
              <a:srgbClr val="6600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0f2c2"/>
                  </a:solidFill>
                  <a:latin typeface="VNI-Duff"/>
                </a:rPr>
                <a:t>Khaùi nieä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0f2c2"/>
                  </a:solidFill>
                  <a:latin typeface="VNI-Duff"/>
                </a:rPr>
                <a:t>lieân he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0" y="1828800"/>
              <a:ext cx="2438280" cy="533520"/>
            </a:xfrm>
            <a:prstGeom prst="bevel">
              <a:avLst>
                <a:gd name="adj" fmla="val 13657"/>
              </a:avLst>
            </a:prstGeom>
            <a:solidFill>
              <a:srgbClr val="6600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0f2c2"/>
                  </a:solidFill>
                  <a:latin typeface="VNI-Univer"/>
                </a:rPr>
                <a:t>Taùc ñoäng laãn nha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0" y="2514600"/>
              <a:ext cx="2438280" cy="533520"/>
            </a:xfrm>
            <a:prstGeom prst="bevel">
              <a:avLst>
                <a:gd name="adj" fmla="val 13657"/>
              </a:avLst>
            </a:prstGeom>
            <a:solidFill>
              <a:srgbClr val="6600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0f2c2"/>
                  </a:solidFill>
                  <a:latin typeface="VNI-Univer"/>
                </a:rPr>
                <a:t>Chuyeån hoaù laãn nha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0" y="3581280"/>
              <a:ext cx="2438280" cy="533520"/>
            </a:xfrm>
            <a:prstGeom prst="bevel">
              <a:avLst>
                <a:gd name="adj" fmla="val 13657"/>
              </a:avLst>
            </a:prstGeom>
            <a:solidFill>
              <a:srgbClr val="6600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0f2c2"/>
                  </a:solidFill>
                  <a:latin typeface="VNI-Univer"/>
                </a:rPr>
                <a:t>Tính khaùch qu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72000" y="4267080"/>
              <a:ext cx="2438280" cy="533520"/>
            </a:xfrm>
            <a:prstGeom prst="bevel">
              <a:avLst>
                <a:gd name="adj" fmla="val 13657"/>
              </a:avLst>
            </a:prstGeom>
            <a:solidFill>
              <a:srgbClr val="6600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0f2c2"/>
                  </a:solidFill>
                  <a:latin typeface="VNI-Univer"/>
                </a:rPr>
                <a:t>Tính phoå bieá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72000" y="4952880"/>
              <a:ext cx="2438280" cy="533520"/>
            </a:xfrm>
            <a:prstGeom prst="bevel">
              <a:avLst>
                <a:gd name="adj" fmla="val 13657"/>
              </a:avLst>
            </a:prstGeom>
            <a:solidFill>
              <a:srgbClr val="6600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0f2c2"/>
                  </a:solidFill>
                  <a:latin typeface="VNI-Univer"/>
                </a:rPr>
                <a:t>Tính ña daï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" name=""/>
            <p:cNvCxnSpPr>
              <a:stCxn id="137" idx="0"/>
              <a:endCxn id="140" idx="0"/>
            </p:cNvCxnSpPr>
            <p:nvPr/>
          </p:nvCxnSpPr>
          <p:spPr>
            <a:xfrm flipV="1">
              <a:off x="2361960" y="2094840"/>
              <a:ext cx="153000" cy="11055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47" name=""/>
            <p:cNvCxnSpPr>
              <a:stCxn id="137" idx="1"/>
              <a:endCxn id="138" idx="0"/>
            </p:cNvCxnSpPr>
            <p:nvPr/>
          </p:nvCxnSpPr>
          <p:spPr>
            <a:xfrm>
              <a:off x="2361960" y="3200400"/>
              <a:ext cx="153000" cy="1334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48" name=""/>
            <p:cNvCxnSpPr>
              <a:stCxn id="140" idx="1"/>
              <a:endCxn id="139" idx="0"/>
            </p:cNvCxnSpPr>
            <p:nvPr/>
          </p:nvCxnSpPr>
          <p:spPr>
            <a:xfrm flipV="1">
              <a:off x="4191120" y="1409040"/>
              <a:ext cx="381600" cy="6865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49" name=""/>
            <p:cNvCxnSpPr>
              <a:stCxn id="140" idx="2"/>
              <a:endCxn id="141" idx="0"/>
            </p:cNvCxnSpPr>
            <p:nvPr/>
          </p:nvCxnSpPr>
          <p:spPr>
            <a:xfrm>
              <a:off x="4191120" y="2095200"/>
              <a:ext cx="38160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50" name=""/>
            <p:cNvCxnSpPr>
              <a:stCxn id="140" idx="3"/>
              <a:endCxn id="142" idx="0"/>
            </p:cNvCxnSpPr>
            <p:nvPr/>
          </p:nvCxnSpPr>
          <p:spPr>
            <a:xfrm>
              <a:off x="4191120" y="2095200"/>
              <a:ext cx="381600" cy="6865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51" name=""/>
            <p:cNvCxnSpPr>
              <a:stCxn id="138" idx="1"/>
              <a:endCxn id="143" idx="0"/>
            </p:cNvCxnSpPr>
            <p:nvPr/>
          </p:nvCxnSpPr>
          <p:spPr>
            <a:xfrm flipV="1">
              <a:off x="4191120" y="3847320"/>
              <a:ext cx="381600" cy="6865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52" name=""/>
            <p:cNvCxnSpPr>
              <a:stCxn id="138" idx="2"/>
              <a:endCxn id="144" idx="0"/>
            </p:cNvCxnSpPr>
            <p:nvPr/>
          </p:nvCxnSpPr>
          <p:spPr>
            <a:xfrm>
              <a:off x="4191120" y="4533480"/>
              <a:ext cx="38160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53" name=""/>
            <p:cNvCxnSpPr>
              <a:stCxn id="138" idx="3"/>
              <a:endCxn id="145" idx="0"/>
            </p:cNvCxnSpPr>
            <p:nvPr/>
          </p:nvCxnSpPr>
          <p:spPr>
            <a:xfrm>
              <a:off x="4191120" y="4533480"/>
              <a:ext cx="381600" cy="6865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sp>
          <p:nvSpPr>
            <p:cNvPr id="154" name=""/>
            <p:cNvSpPr/>
            <p:nvPr/>
          </p:nvSpPr>
          <p:spPr>
            <a:xfrm>
              <a:off x="7315200" y="2743200"/>
              <a:ext cx="1676520" cy="838080"/>
            </a:xfrm>
            <a:prstGeom prst="bevel">
              <a:avLst>
                <a:gd name="adj" fmla="val 8523"/>
              </a:avLst>
            </a:prstGeom>
            <a:solidFill>
              <a:srgbClr val="6600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0f2c2"/>
                  </a:solidFill>
                  <a:latin typeface="VNI-Souvir"/>
                </a:rPr>
                <a:t>Quan ñieåm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0f2c2"/>
                  </a:solidFill>
                  <a:latin typeface="VNI-Souvir"/>
                </a:rPr>
                <a:t>toaøn dieä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5" name=""/>
            <p:cNvCxnSpPr>
              <a:stCxn id="138" idx="4"/>
              <a:endCxn id="154" idx="0"/>
            </p:cNvCxnSpPr>
            <p:nvPr/>
          </p:nvCxnSpPr>
          <p:spPr>
            <a:xfrm flipH="1" flipV="1" rot="5400000">
              <a:off x="5065920" y="1866240"/>
              <a:ext cx="1372320" cy="4801320"/>
            </a:xfrm>
            <a:prstGeom prst="bentConnector3">
              <a:avLst>
                <a:gd name="adj1" fmla="val -55785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40" idx="4"/>
              <a:endCxn id="154" idx="1"/>
            </p:cNvCxnSpPr>
            <p:nvPr/>
          </p:nvCxnSpPr>
          <p:spPr>
            <a:xfrm flipH="1" rot="16200000">
              <a:off x="5219280" y="-191520"/>
              <a:ext cx="1067400" cy="4801320"/>
            </a:xfrm>
            <a:prstGeom prst="bentConnector3">
              <a:avLst>
                <a:gd name="adj1" fmla="val -78711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7" name=""/>
          <p:cNvSpPr/>
          <p:nvPr/>
        </p:nvSpPr>
        <p:spPr>
          <a:xfrm>
            <a:off x="434880" y="479520"/>
            <a:ext cx="20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KẾT LU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4440" y="177840"/>
            <a:ext cx="50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NI-Duff"/>
              </a:rPr>
              <a:t>1. 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uyên lý về mối liên hệ phổ biế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457200" y="3276720"/>
            <a:ext cx="3124080" cy="990360"/>
          </a:xfrm>
          <a:prstGeom prst="bevel">
            <a:avLst>
              <a:gd name="adj" fmla="val 8806"/>
            </a:avLst>
          </a:prstGeom>
          <a:solidFill>
            <a:srgbClr val="6600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f2c2"/>
                </a:solidFill>
                <a:latin typeface="Times New Roman"/>
              </a:rPr>
              <a:t>PHÁT TRIỂN L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f2c2"/>
                </a:solidFill>
                <a:latin typeface="Times New Roman"/>
              </a:rPr>
              <a:t>VẬN ĐỘ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5943600"/>
            <a:ext cx="5486400" cy="609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Times"/>
              </a:rPr>
              <a:t>Sô ñoà 2.7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Caùc xu höôùng vaän ñoä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91120" y="2057400"/>
            <a:ext cx="4038480" cy="990720"/>
          </a:xfrm>
          <a:prstGeom prst="bevel">
            <a:avLst>
              <a:gd name="adj" fmla="val 8806"/>
            </a:avLst>
          </a:prstGeom>
          <a:solidFill>
            <a:srgbClr val="6600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0f2c2"/>
                </a:solidFill>
                <a:latin typeface="Times New Roman"/>
              </a:rPr>
              <a:t>Từ thấp đến ca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91120" y="3276720"/>
            <a:ext cx="4038480" cy="990360"/>
          </a:xfrm>
          <a:prstGeom prst="bevel">
            <a:avLst>
              <a:gd name="adj" fmla="val 8806"/>
            </a:avLst>
          </a:prstGeom>
          <a:solidFill>
            <a:srgbClr val="6600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f2c2"/>
                </a:solidFill>
                <a:latin typeface="Times New Roman"/>
              </a:rPr>
              <a:t>Đơn giản đến phức tạ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91120" y="4495680"/>
            <a:ext cx="4038480" cy="990720"/>
          </a:xfrm>
          <a:prstGeom prst="bevel">
            <a:avLst>
              <a:gd name="adj" fmla="val 8806"/>
            </a:avLst>
          </a:prstGeom>
          <a:solidFill>
            <a:srgbClr val="6600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f2c2"/>
                </a:solidFill>
                <a:latin typeface="Times New Roman"/>
              </a:rPr>
              <a:t>Chưa hoàn thiện đến hoàn thiệ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"/>
          <p:cNvCxnSpPr>
            <a:stCxn id="161" idx="0"/>
            <a:endCxn id="164" idx="0"/>
          </p:cNvCxnSpPr>
          <p:nvPr/>
        </p:nvCxnSpPr>
        <p:spPr>
          <a:xfrm>
            <a:off x="3581280" y="377172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" name=""/>
          <p:cNvCxnSpPr>
            <a:stCxn id="161" idx="1"/>
            <a:endCxn id="165" idx="0"/>
          </p:cNvCxnSpPr>
          <p:nvPr/>
        </p:nvCxnSpPr>
        <p:spPr>
          <a:xfrm>
            <a:off x="3581280" y="3772080"/>
            <a:ext cx="61056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" name=""/>
          <p:cNvCxnSpPr>
            <a:stCxn id="161" idx="2"/>
            <a:endCxn id="163" idx="0"/>
          </p:cNvCxnSpPr>
          <p:nvPr/>
        </p:nvCxnSpPr>
        <p:spPr>
          <a:xfrm flipV="1">
            <a:off x="3581280" y="2552040"/>
            <a:ext cx="61056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9" name=""/>
          <p:cNvSpPr/>
          <p:nvPr/>
        </p:nvSpPr>
        <p:spPr>
          <a:xfrm>
            <a:off x="467640" y="533520"/>
            <a:ext cx="617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NGUYÊN LÝ VỀ SỰ PHÁT TRIỂ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Khái niệ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02:59:18Z</dcterms:created>
  <dc:creator>LY LUAN CHINH TRI</dc:creator>
  <dc:description/>
  <dc:language>en-US</dc:language>
  <cp:lastModifiedBy>Nguyen Huy Khanh</cp:lastModifiedBy>
  <dcterms:modified xsi:type="dcterms:W3CDTF">2010-08-21T05:16:58Z</dcterms:modified>
  <cp:revision>65</cp:revision>
  <dc:subject/>
  <dc:title>Moân hoïc:</dc:title>
</cp:coreProperties>
</file>