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3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Viool_Klassiek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14.jpeg" ContentType="image/jpeg"/>
  <Override PartName="/ppt/media/image45.jpeg" ContentType="image/jpeg"/>
  <Override PartName="/ppt/media/image62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42.jpeg" ContentType="image/jpeg"/>
  <Override PartName="/ppt/media/image59.jpeg" ContentType="image/jpeg"/>
  <Override PartName="/ppt/media/image41.jpeg" ContentType="image/jpeg"/>
  <Override PartName="/ppt/media/image63.gif" ContentType="image/gif"/>
  <Override PartName="/ppt/media/image26.jpeg" ContentType="image/jpeg"/>
  <Override PartName="/ppt/media/image61.png" ContentType="image/png"/>
  <Override PartName="/ppt/media/image5.jpeg" ContentType="image/jpeg"/>
  <Override PartName="/ppt/media/image50.jpeg" ContentType="image/jpeg"/>
  <Override PartName="/ppt/media/image6.jpeg" ContentType="image/jpeg"/>
  <Override PartName="/ppt/media/image51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E13-444F-497E-A1AB-9BEF98C7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EC1-BFDA-46EE-B14A-DE00243E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84C-09E3-4181-8308-873D948F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62C-767C-453A-A576-C5304D63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1A7C-008C-400F-BB23-52A97A3A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90A-03CE-4350-A001-23284522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B72-477C-4623-9B92-8A1D2FEE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3AC-AF2E-40B7-8D8F-D97D1E3D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B73-B983-40CA-BB2F-D4F471F8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4FC-D11C-4740-8B18-58544C77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91A-7CFB-45E3-A943-41E3F7C6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4DB-496F-45D3-A422-3CDC7EEF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6F79-A454-4424-A7E9-32A3F6501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Viool_Klassiek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image" Target="../media/image62.gif"/><Relationship Id="rId5" Type="http://schemas.openxmlformats.org/officeDocument/2006/relationships/image" Target="../media/image62.gif"/><Relationship Id="rId6" Type="http://schemas.openxmlformats.org/officeDocument/2006/relationships/image" Target="../media/image63.gif"/><Relationship Id="rId7" Type="http://schemas.openxmlformats.org/officeDocument/2006/relationships/image" Target="../media/image63.gif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72360" y="6613560"/>
            <a:ext cx="27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ffffff"/>
                </a:solidFill>
                <a:latin typeface="Arial"/>
              </a:rPr>
              <a:t>cvonck@zeelandnet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4:41:47Z</dcterms:created>
  <dc:creator>www.free-powerpoints.goedbegin.be</dc:creator>
  <dc:description/>
  <dc:language>en-US</dc:language>
  <cp:lastModifiedBy>Smets</cp:lastModifiedBy>
  <dcterms:modified xsi:type="dcterms:W3CDTF">2010-10-06T18:25:50Z</dcterms:modified>
  <cp:revision>2</cp:revision>
  <dc:subject/>
  <dc:title>subliem</dc:title>
</cp:coreProperties>
</file>