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Viool_Klassiek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42.jpeg" ContentType="image/jpeg"/>
  <Override PartName="/ppt/media/image59.jpeg" ContentType="image/jpeg"/>
  <Override PartName="/ppt/media/image41.jpeg" ContentType="image/jpeg"/>
  <Override PartName="/ppt/media/image63.gif" ContentType="image/gif"/>
  <Override PartName="/ppt/media/image26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4A1-0103-4EB4-98BF-CEA8B93D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0CA-0A0D-44BD-92E2-E87F7FEC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333-4D78-4464-93D5-4EC0AD66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451-5BD8-4B04-ACF2-AB899C38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D29-1E37-49C6-B93E-02DA1B23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8C0-3EA4-4C12-BC11-BC9A6B60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B0E-3E15-4E37-9C49-EB5B9277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70B-9FD8-4B4B-B49E-26B55B83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ECD-E48E-4896-B1EA-4340B91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A31-2427-4DE2-9575-3E495D5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294-4553-4817-99CD-07B104B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216-6D85-4052-B38A-005D7D18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02EA-87BB-4172-B87A-457D294C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Viool_Klassiek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image" Target="../media/image63.gif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2360" y="661356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4:41:47Z</dcterms:created>
  <dc:creator>www.free-powerpoints.goedbegin.be</dc:creator>
  <dc:description/>
  <dc:language>en-US</dc:language>
  <cp:lastModifiedBy>Smets</cp:lastModifiedBy>
  <dcterms:modified xsi:type="dcterms:W3CDTF">2010-10-06T18:25:50Z</dcterms:modified>
  <cp:revision>2</cp:revision>
  <dc:subject/>
  <dc:title>subliem</dc:title>
</cp:coreProperties>
</file>