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3DBC-D3D6-4912-A26E-ECFE33AE0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7BEC-14E9-4D8D-AB95-716D6396C46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BAF7-50D7-479A-8ABD-45D0EC618C3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746-8F1A-403D-8774-4D6E58EF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198-D25E-41B3-B74B-176F75BF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A1C-34D7-4856-894F-748C0B45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4BE-0B1A-42E9-B018-FC24EC6C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1EA-6815-4D40-89DC-1C4C8EA0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78D-E49B-4256-A258-2B0F77A1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DA6-1BE3-46E5-9B15-6077914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DD6-3442-4BA9-A365-C5A1C3EE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D22-1365-47C1-B00E-C6016F2A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DAB-B5DC-4EE2-A5DE-0DB5D59C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429-CBCE-4592-B6FF-56440027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A6B-8623-47BC-BC1E-E7FE310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C096-D112-47D0-B79F-A3763B750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bi.nlm.nih.gov/pmc/articles/PMC1715272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0" y="1440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2"/>
          <p:cNvSpPr/>
          <p:nvPr/>
        </p:nvSpPr>
        <p:spPr>
          <a:xfrm>
            <a:off x="2627280" y="4797360"/>
            <a:ext cx="6335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N-MENDELIAN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056760" y="543384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TYPICAL MENDELIAN 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505560" cy="479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5148360" y="3884760"/>
            <a:ext cx="39956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5327640" cy="3875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835280" y="4791240"/>
            <a:ext cx="496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5872320" y="1197000"/>
            <a:ext cx="300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PARENT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O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-6480" y="342900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herita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oth homolog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a chromosome pai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rom one 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par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s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omy: Inheritan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 copi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me homolog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ue 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rror in meiosis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par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etero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omy: Inherita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 different homolog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ne par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ugh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rror in meiosis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esum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at the conceptus w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riginally be trisomi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ss of a chromosom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ding to the ‘normal’ disomic st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isomic resc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consequences of UP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080" y="836640"/>
            <a:ext cx="8658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 child with a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utosomal recessiv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ondition (e.g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ystic fibrosi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 being born to a couple in whic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only one parent is a carrier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(with proven paterni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cbi.nlm.nih.gov/pmc/articles/PMC1715272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04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804000" y="1197000"/>
            <a:ext cx="19144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0520" y="1413000"/>
            <a:ext cx="9102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24000" y="4797360"/>
            <a:ext cx="86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637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49320"/>
            <a:ext cx="9144000" cy="6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ENOMIC IMPRIN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tosomal gen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oth cop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mall group of ge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despite be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toso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re be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pressed from just one alle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ithe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ater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tern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 of the g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anscriptional repres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one allele is the resul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mpri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inting of a gene is the outcom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fferential methy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two gene copies th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pendent upon the parent of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ENOMIC IMPRIN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4520" cy="6897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1828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der-Willi syndrome and Angelman syndr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8198" t="14434" r="79827" b="61102"/>
          <a:stretch/>
        </p:blipFill>
        <p:spPr>
          <a:xfrm>
            <a:off x="6019920" y="1494000"/>
            <a:ext cx="3124080" cy="536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-360" y="990360"/>
            <a:ext cx="70102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imprinted genes include the genes for Prader-Willi syndr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P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Angelman syndr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AS)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S and PWS, the condition arises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ss of gene expression from the normally active maternal or paternal gene copy, respectively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sul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rom a paternally inherited deletion affecting the PWS/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region on 15q could hav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that chi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herited the deletion from 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11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ader-Willi syndrome and Angelman syndr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465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148360" y="3884760"/>
            <a:ext cx="39956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20:10:17Z</dcterms:created>
  <dc:creator>msabry</dc:creator>
  <dc:description/>
  <dc:language>en-US</dc:language>
  <cp:lastModifiedBy>msabry</cp:lastModifiedBy>
  <dcterms:modified xsi:type="dcterms:W3CDTF">2012-12-10T21:00:07Z</dcterms:modified>
  <cp:revision>5</cp:revision>
  <dc:subject/>
  <dc:title>PowerPoint Presentation</dc:title>
</cp:coreProperties>
</file>