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343C-8229-4CC8-90F6-2BEF4DF5E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7193-46FA-40B8-8763-C217896FC6D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7430-5ED6-45A0-9242-4EA89971E25B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F74-8ECF-4350-B08D-B98D784E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270-0F1D-4389-A127-7194E759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6C1D-0EEB-4BF3-8834-0B7D8E8C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F25D-145E-493A-A1CB-1D78058F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4C4-ABA6-4337-BFDA-7F3494B6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7B3-E066-4D46-9D8C-6DA063AA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39AB-39CC-47FC-8D8E-C24C2B44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A90-7C36-4E0A-9E01-419F3771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144-3AA9-4819-99E2-B405A202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4F4-4E6A-4917-AB71-F5FB0CC7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587-20C9-4E0B-BEDA-D824CCD0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4C1-F5AC-4345-9A4B-7B1A70BD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E7EE-990A-4055-A54C-4D152EB88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cbi.nlm.nih.gov/pmc/articles/PMC1715272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Object 5"/>
          <p:cNvGraphicFramePr/>
          <p:nvPr/>
        </p:nvGraphicFramePr>
        <p:xfrm>
          <a:off x="0" y="1440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2"/>
          <p:cNvSpPr/>
          <p:nvPr/>
        </p:nvSpPr>
        <p:spPr>
          <a:xfrm>
            <a:off x="2627280" y="4797360"/>
            <a:ext cx="633564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ON-MENDELIAN INHERI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3056760" y="543384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ATYPICAL MENDELIAN INHERI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6505560" cy="4797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5148360" y="3884760"/>
            <a:ext cx="399564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4400" y="0"/>
            <a:ext cx="5327640" cy="38750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1835280" y="4791240"/>
            <a:ext cx="4968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5872320" y="1197000"/>
            <a:ext cx="300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IPARENTAL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SOM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-6480" y="3429000"/>
            <a:ext cx="9144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heritance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oth homologu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a chromosome pai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rom one pa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iparent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so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omy: Inheritance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wo copi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me homolog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due to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rror in meiosis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iparent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etero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omy: Inheritance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wo different homologu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ne paren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rough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rror in meiosis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esume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at the conceptus woul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riginally be trisomic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oss of a chromosom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ading to the ‘normal’ disomic sta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risomic rescu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me consequences of UP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080" y="836640"/>
            <a:ext cx="86583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 child with an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utosomal recessive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condition (e.g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cystic fibrosis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) being born to a couple in which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only one parent is a carrier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(with proven paternit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cbi.nlm.nih.gov/pmc/articles/PMC1715272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041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6804000" y="1197000"/>
            <a:ext cx="19144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0520" y="1413000"/>
            <a:ext cx="9102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324000" y="4797360"/>
            <a:ext cx="863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0" y="220680"/>
            <a:ext cx="9144000" cy="66373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49320"/>
            <a:ext cx="9144000" cy="65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GENOMIC IMPRIN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utosomal gen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xpres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oth cop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mall group of gen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despite be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utoso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re be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xpressed from just one alle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either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atern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tern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y of the ge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ranscriptional repres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one allele is the resul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mprin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inting of a gene is the outcom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fferential methy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two gene copies that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pendent upon the parent of ori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GENOMIC IMPRIN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4520" cy="6897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1828800" y="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ader-Willi syndrome and Angelman syndro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8198" t="14434" r="79827" b="61102"/>
          <a:stretch/>
        </p:blipFill>
        <p:spPr>
          <a:xfrm>
            <a:off x="6019920" y="1494000"/>
            <a:ext cx="3124080" cy="5364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-360" y="990360"/>
            <a:ext cx="701028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imprinted genes include the genes for Prader-Willi syndro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(P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Angelman syndro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(AS).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S and PWS, the condition arises from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oss of gene expression from the normally active maternal or paternal gene copy, respectively.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em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sult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rom a paternally inherited deletion affecting the PWS/A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tical region on 15q could have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hil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f that chi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herited the deletion from h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1116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ader-Willi syndrome and Angelman syndro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6227640" cy="4651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5148360" y="3884760"/>
            <a:ext cx="399564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20:10:17Z</dcterms:created>
  <dc:creator>msabry</dc:creator>
  <dc:description/>
  <dc:language>en-US</dc:language>
  <cp:lastModifiedBy>msabry</cp:lastModifiedBy>
  <dcterms:modified xsi:type="dcterms:W3CDTF">2012-12-10T21:00:07Z</dcterms:modified>
  <cp:revision>5</cp:revision>
  <dc:subject/>
  <dc:title>PowerPoint Presentation</dc:title>
</cp:coreProperties>
</file>