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2BE-C72A-4EB9-A4F0-92202A6B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91A-0FBD-4007-BE1C-0857567F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F27-4751-4282-B9A8-BFCB7064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ADE-D522-4A59-98C6-C8C4CD14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289-513A-4499-848E-FFC06992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037-139B-4176-93EA-5F169B2C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1ED-5E83-4533-BE48-9030B6AF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525-A5C0-47F5-839F-39B8C5E5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059-9488-4FC1-9784-33E1B82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A81-5CAF-41CA-8ED1-01CECB3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9E4-53F8-4B21-8704-C19956D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076-67EC-41EA-9280-C413B038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D3FF-DB23-4CD9-A1ED-6F31F997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760" y="0"/>
            <a:ext cx="573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ögel sind schon 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ögel sind schon 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e V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ögel, al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msel, Drossel, Fink und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 die ganze Vogels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ünschen dir ein frohes Ja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auter Heil und S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20680" y="4149720"/>
            <a:ext cx="384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birds, thrush, finch and sta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whole flock of 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you a happ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health and God’s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36:14Z</dcterms:created>
  <dc:creator>smarsh</dc:creator>
  <dc:description/>
  <dc:language>en-US</dc:language>
  <cp:lastModifiedBy>smarsh</cp:lastModifiedBy>
  <dcterms:modified xsi:type="dcterms:W3CDTF">2009-03-01T16:41:56Z</dcterms:modified>
  <cp:revision>1</cp:revision>
  <dc:subject/>
  <dc:title>Slide 1</dc:title>
</cp:coreProperties>
</file>