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3A3-D224-431E-B870-FA6EA774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DC4-0EBB-43BF-A9D0-253C476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95D-5859-45F6-B509-157945E5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C34-56EE-4E7D-BD90-2B122581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87A-4402-46F8-983C-D32FF0C5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08D-A556-443E-969C-D432DF9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BBC-D01C-43CA-A7A4-93B04E0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D7C-ADF5-416C-A75E-9E2CC63F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F7C-CF45-4447-90ED-64A381D2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A1E-7E63-406C-A6F2-9C025D9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4B5-4948-41A4-9CCD-0A6B9565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9EC-F1EC-4775-9CF4-395380CB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B071-D6A2-443C-8E84-307E7869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60" y="0"/>
            <a:ext cx="573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 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ögel sind schon 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 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ögel sind schon 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 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ögel, al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sel, Drossel, Fink und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 die ganze Vogels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nschen dir ein frohes Ja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auter Heil und S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0680" y="4149720"/>
            <a:ext cx="384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birds, thrush, finch and sta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whole flock of 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you a happ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health and God’s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36:14Z</dcterms:created>
  <dc:creator>smarsh</dc:creator>
  <dc:description/>
  <dc:language>en-US</dc:language>
  <cp:lastModifiedBy>smarsh</cp:lastModifiedBy>
  <dcterms:modified xsi:type="dcterms:W3CDTF">2009-03-01T16:41:56Z</dcterms:modified>
  <cp:revision>1</cp:revision>
  <dc:subject/>
  <dc:title>Slide 1</dc:title>
</cp:coreProperties>
</file>