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.jpeg" ContentType="image/jpeg"/>
  <Override PartName="/ppt/media/Englebert%20Humperdink%20-%20Am%20I%20That%20Easy%20To%20Forget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EDD-69DA-4845-91EB-7A94DC0F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7EB-619F-4ADD-8548-17BE9DD6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2B2-F70B-4C2A-AE44-80BAD10D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A6A-25D1-4542-9DED-0EA57489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86D-58ED-4F8E-AC17-6C3895F9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670-8DEB-4743-86DE-97CD36B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A56-2089-4B42-842F-7F098505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268-2D79-42AE-996C-309DA7FA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DC6-4D4F-4583-8056-AB677F7A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116-F7D3-4022-99AA-BC29E2B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22B-B17E-4804-9B30-3D074CBC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2AC-7A1A-4CDC-BA5B-1943926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A317-5786-43CF-BA02-02D3ED2E5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glebert%20Humperdink%20-%20Am%20I%20That%20Easy%20To%20Forge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67280" y="623736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Poor Richard"/>
              <a:ea typeface="Poor Richard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4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0066"/>
                </a:solidFill>
                <a:latin typeface="Poor Richard"/>
              </a:rPr>
              <a:t>Vriendsch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34080"/>
            <a:ext cx="35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0066"/>
                </a:solidFill>
                <a:latin typeface="Poor Richard"/>
              </a:rPr>
              <a:t>Muziek : Engelbert Humperdink Am I That Easy To fo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7705800" cy="502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765000"/>
            <a:ext cx="8064360" cy="547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1465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40720" y="638172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515772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Poor Richard"/>
              </a:rPr>
              <a:t>Want jouw begrip en het waar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50160" cy="511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620640"/>
            <a:ext cx="8280360" cy="554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85080" y="630864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537372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Poor Richard"/>
              </a:rPr>
              <a:t>Dat hoef je niet eens te 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0280"/>
            <a:ext cx="3564000" cy="6264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74b8e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58770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628640"/>
            <a:ext cx="208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Poor Richard"/>
              </a:rPr>
              <a:t>Maar vriendschap is ook durven los te laten , vervuld van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769440" cy="491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692280"/>
            <a:ext cx="7200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51640" y="630864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229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Als twee mensen ,twee handen op een buik zij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170760" cy="437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58920" y="1052640"/>
            <a:ext cx="6626160" cy="482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5218200"/>
            <a:ext cx="56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885080" y="623736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72428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En als wij wat van vriendschap willen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056720" cy="483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765000"/>
            <a:ext cx="7632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125360"/>
            <a:ext cx="410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 Chancery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797360"/>
            <a:ext cx="44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236000" y="63342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16178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Poor Richard"/>
              </a:rPr>
              <a:t>Wil ik dat je dit nooit mag verg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1254240"/>
            <a:ext cx="6553080" cy="430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42920" y="1052640"/>
            <a:ext cx="6985080" cy="47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028000" y="623736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4581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Poor Richard"/>
              </a:rPr>
              <a:t>Al wonen wij niet in één 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056720" cy="4599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125360"/>
            <a:ext cx="7488000" cy="504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740720" y="638172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37372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Poor Richard"/>
              </a:rPr>
              <a:t>Onze vriendschap zal ik eeuwig  be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272360" cy="4739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836640"/>
            <a:ext cx="7704000" cy="525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5229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28000" y="6165720"/>
            <a:ext cx="6951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40184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Poor Richard"/>
              </a:rPr>
              <a:t>Als geld in een klui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3528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2160" cy="423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1052640"/>
            <a:ext cx="7345440" cy="47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360" y="60930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4581360"/>
            <a:ext cx="669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Poor Richard"/>
              </a:rPr>
              <a:t>Vriendschap is iets  wat langzaam groeit en alle dagen mooier blo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404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1125360"/>
            <a:ext cx="3419640" cy="504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bacbe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1484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740720" y="638172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773360"/>
            <a:ext cx="223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Poor Richard"/>
              </a:rPr>
              <a:t>Geef mij het houvast in het leven en sta mij bij al het vertrouwen te g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956720" y="630864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5805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Poor Richard"/>
              </a:rPr>
              <a:t>Jouw  vriendschap is niet in woorden te be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20164200">
            <a:off x="6994440" y="607032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56" name=""/>
          <p:cNvSpPr/>
          <p:nvPr/>
        </p:nvSpPr>
        <p:spPr>
          <a:xfrm rot="19973400">
            <a:off x="1472400" y="283032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Poor Richard"/>
              </a:rPr>
              <a:t>En ik hoop dat het voor altijd zo mag bl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727236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907920"/>
            <a:ext cx="7704000" cy="511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85080" y="623736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458136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Poor Richard"/>
              </a:rPr>
              <a:t>Vriendschap is niet zomaar een w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1117440"/>
            <a:ext cx="7274160" cy="4764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765000"/>
            <a:ext cx="7848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478620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85080" y="6381720"/>
            <a:ext cx="695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494172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Je maakt tijd voor elkaar en dat wordt geh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6985080" cy="4330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1052640"/>
            <a:ext cx="7559640" cy="489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0720" y="623736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97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Poor Richard"/>
              </a:rPr>
              <a:t>Echte vriendschap , is wel het mooiste hier op 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561440" cy="4965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692280"/>
            <a:ext cx="8064720" cy="547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36000" y="6334200"/>
            <a:ext cx="695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oor Richard"/>
              </a:rPr>
              <a:t>Sylvi@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oor Richard"/>
              <a:ea typeface="Poor Richard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486900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Poor Richard"/>
              </a:rPr>
              <a:t>Als je het hebt dan voel je ook de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03:41Z</dcterms:created>
  <dc:creator>Sylvi@</dc:creator>
  <dc:description/>
  <dc:language>en-US</dc:language>
  <cp:lastModifiedBy>Smets</cp:lastModifiedBy>
  <dcterms:modified xsi:type="dcterms:W3CDTF">2008-10-07T18:47:37Z</dcterms:modified>
  <cp:revision>7</cp:revision>
  <dc:subject/>
  <dc:title>Dia 1</dc:title>
</cp:coreProperties>
</file>