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8.gif" ContentType="image/gif"/>
  <Override PartName="/ppt/media/image13.jpeg" ContentType="image/jpeg"/>
  <Override PartName="/ppt/media/image1.jpeg" ContentType="image/jpeg"/>
  <Override PartName="/ppt/media/Englebert%20Humperdink%20-%20Am%20I%20That%20Easy%20To%20Forget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EEB1-427A-4624-8245-B5750A2D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4F0-4593-4380-BDD4-EC0260D5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D048-1A3A-4B12-AF53-A518FEB9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533F-A3E6-4586-8D6E-7E515DD8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35F-B92D-41D8-9455-0816ADC1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6D3E-649D-468E-8CEF-219BC58C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48A-523D-4477-93FC-68389A82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98F8-876E-4FB3-AD9A-311615F5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7BB9-5943-4556-933B-95007A3D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792F-6E71-4D05-B678-A0FCF78F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309E-A6D9-421A-A896-291D8D87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A55A-63FE-466C-9041-63B3B4D5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53F7-2A8B-47E1-B0C2-FC1F43F59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nglebert%20Humperdink%20-%20Am%20I%20That%20Easy%20To%20Forge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067280" y="6237360"/>
            <a:ext cx="6951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Poor Richard"/>
              <a:ea typeface="Poor Richard"/>
            </a:endParaRPr>
          </a:p>
        </p:txBody>
      </p:sp>
      <p:sp>
        <p:nvSpPr>
          <p:cNvPr id="42" name=""/>
          <p:cNvSpPr/>
          <p:nvPr/>
        </p:nvSpPr>
        <p:spPr>
          <a:xfrm>
            <a:off x="5796000" y="549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0066"/>
                </a:solidFill>
                <a:latin typeface="Poor Richard"/>
              </a:rPr>
              <a:t>Vriendsch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734080"/>
            <a:ext cx="35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0066"/>
                </a:solidFill>
                <a:latin typeface="Poor Richard"/>
              </a:rPr>
              <a:t>Muziek : Engelbert Humperdink Am I That Easy To fo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7705800" cy="5021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8360" y="765000"/>
            <a:ext cx="8064360" cy="547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514656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740720" y="6381720"/>
            <a:ext cx="6951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515772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Poor Richard"/>
              </a:rPr>
              <a:t>Want jouw begrip en het waar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7850160" cy="5116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8360" y="620640"/>
            <a:ext cx="8280360" cy="554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885080" y="6308640"/>
            <a:ext cx="6955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82" name=""/>
          <p:cNvSpPr/>
          <p:nvPr/>
        </p:nvSpPr>
        <p:spPr>
          <a:xfrm>
            <a:off x="2195640" y="537372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Poor Richard"/>
              </a:rPr>
              <a:t>Dat hoef je niet eens te 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60280"/>
            <a:ext cx="3564000" cy="6264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74b8e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16000" y="5877000"/>
            <a:ext cx="6951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1628640"/>
            <a:ext cx="2087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Poor Richard"/>
              </a:rPr>
              <a:t>Maar vriendschap is ook durven los te laten , vervuld van p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87280" y="981000"/>
            <a:ext cx="6769440" cy="4918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71640" y="692280"/>
            <a:ext cx="7200720" cy="540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451640" y="6308640"/>
            <a:ext cx="6955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89" name=""/>
          <p:cNvSpPr/>
          <p:nvPr/>
        </p:nvSpPr>
        <p:spPr>
          <a:xfrm>
            <a:off x="1332000" y="522936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Poor Richard"/>
              </a:rPr>
              <a:t>Als twee mensen ,twee handen op een buik zijn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6170760" cy="4370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58920" y="1052640"/>
            <a:ext cx="6626160" cy="482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5218200"/>
            <a:ext cx="56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885080" y="6237360"/>
            <a:ext cx="6955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472428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Poor Richard"/>
              </a:rPr>
              <a:t>En als wij wat van vriendschap willen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7056720" cy="4832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11280" y="765000"/>
            <a:ext cx="7632720" cy="540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1125360"/>
            <a:ext cx="4105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ack Chancery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797360"/>
            <a:ext cx="446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236000" y="6334200"/>
            <a:ext cx="6951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100" name=""/>
          <p:cNvSpPr/>
          <p:nvPr/>
        </p:nvSpPr>
        <p:spPr>
          <a:xfrm>
            <a:off x="1763640" y="161784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Poor Richard"/>
              </a:rPr>
              <a:t>Wil ik dat je dit nooit mag verg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258920" y="1254240"/>
            <a:ext cx="6553080" cy="4302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42920" y="1052640"/>
            <a:ext cx="6985080" cy="475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028000" y="6237360"/>
            <a:ext cx="6951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458136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Poor Richard"/>
              </a:rPr>
              <a:t>Al wonen wij niet in één h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056720" cy="4599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4360" y="1125360"/>
            <a:ext cx="7488000" cy="504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740720" y="6381720"/>
            <a:ext cx="6951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373720"/>
            <a:ext cx="59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Poor Richard"/>
              </a:rPr>
              <a:t>Onze vriendschap zal ik eeuwig 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7272360" cy="4739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55640" y="836640"/>
            <a:ext cx="7704000" cy="525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03280" y="5229360"/>
            <a:ext cx="64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028000" y="6165720"/>
            <a:ext cx="69516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1401840"/>
            <a:ext cx="468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Poor Richard"/>
              </a:rPr>
              <a:t>Als geld in een kluis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835280" y="616572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" dur="5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6842160" cy="4230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71640" y="1052640"/>
            <a:ext cx="7345440" cy="475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596360" y="6093000"/>
            <a:ext cx="6951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4581360"/>
            <a:ext cx="6696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Poor Richard"/>
              </a:rPr>
              <a:t>Vriendschap is iets  wat langzaam groeit en alle dagen mooier bloe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40464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24360" y="1125360"/>
            <a:ext cx="3419640" cy="504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bacbe4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72360" y="14842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740720" y="6381720"/>
            <a:ext cx="6951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52" name=""/>
          <p:cNvSpPr/>
          <p:nvPr/>
        </p:nvSpPr>
        <p:spPr>
          <a:xfrm>
            <a:off x="6300720" y="1773360"/>
            <a:ext cx="223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Poor Richard"/>
              </a:rPr>
              <a:t>Geef mij het houvast in het leven en sta mij bij al het vertrouwen te gev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956720" y="6308640"/>
            <a:ext cx="6951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580536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Poor Richard"/>
              </a:rPr>
              <a:t>Jouw  vriendschap is niet in woorden te beschr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 rot="20164200">
            <a:off x="6994440" y="6070320"/>
            <a:ext cx="6955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56" name=""/>
          <p:cNvSpPr/>
          <p:nvPr/>
        </p:nvSpPr>
        <p:spPr>
          <a:xfrm rot="19973400">
            <a:off x="1472400" y="2830320"/>
            <a:ext cx="44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Poor Richard"/>
              </a:rPr>
              <a:t>En ik hoop dat het voor altijd zo mag bl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7272360" cy="4594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55640" y="907920"/>
            <a:ext cx="7704000" cy="5113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885080" y="6237360"/>
            <a:ext cx="6955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60" name=""/>
          <p:cNvSpPr/>
          <p:nvPr/>
        </p:nvSpPr>
        <p:spPr>
          <a:xfrm>
            <a:off x="2195640" y="4581360"/>
            <a:ext cx="54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Poor Richard"/>
              </a:rPr>
              <a:t>Vriendschap is niet zomaar een w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42920" y="1117440"/>
            <a:ext cx="7274160" cy="4764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55640" y="765000"/>
            <a:ext cx="7848720" cy="540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4786200"/>
            <a:ext cx="67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885080" y="6381720"/>
            <a:ext cx="6955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65" name=""/>
          <p:cNvSpPr/>
          <p:nvPr/>
        </p:nvSpPr>
        <p:spPr>
          <a:xfrm>
            <a:off x="1476360" y="4941720"/>
            <a:ext cx="61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Poor Richard"/>
              </a:rPr>
              <a:t>Je maakt tijd voor elkaar en dat wordt geho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6985080" cy="4330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4360" y="1052640"/>
            <a:ext cx="7559640" cy="489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740720" y="6237360"/>
            <a:ext cx="6951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479736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Poor Richard"/>
              </a:rPr>
              <a:t>Echte vriendschap , is wel het mooiste hier op aa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7561440" cy="4965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9640" y="692280"/>
            <a:ext cx="8064720" cy="547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236000" y="6334200"/>
            <a:ext cx="6951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486900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Poor Richard"/>
              </a:rPr>
              <a:t>Als je het hebt dan voel je ook de waa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2:03:41Z</dcterms:created>
  <dc:creator>Sylvi@</dc:creator>
  <dc:description/>
  <dc:language>en-US</dc:language>
  <cp:lastModifiedBy>Smets</cp:lastModifiedBy>
  <dcterms:modified xsi:type="dcterms:W3CDTF">2008-10-07T18:47:37Z</dcterms:modified>
  <cp:revision>7</cp:revision>
  <dc:subject/>
  <dc:title>Dia 1</dc:title>
</cp:coreProperties>
</file>