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9F4-D6D3-4AEF-8BAF-C0E38A08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76D-88E0-4E79-8560-96C64E42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ADA-B737-4A17-B103-A19D4A4E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E94-DB8A-4FC6-AB0C-9C69000E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39A-E009-47BB-A73E-C59D8A8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F32-23EC-43AB-BA7A-F8AD5D85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CEE-85B2-40C9-A1D0-2EA2673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069-CF3B-4F70-9192-034EC97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912-37DC-4B1D-8649-92070611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1EC-B27E-4C50-9F28-4F2A0BCB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788-69BA-4B20-BB1A-6B4F4D8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211-606C-4366-AE8C-CEF56849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ABD-AF69-4AB3-B008-C4AEFBADF14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6215040" cy="87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15920" y="1860480"/>
            <a:ext cx="33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Coloca    “EL”     o    “LA”    donde correspo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j041362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715000" y="2227320"/>
            <a:ext cx="1143000" cy="8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411944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276640" y="6764400"/>
            <a:ext cx="1223640" cy="88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0347793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19440" y="3632040"/>
            <a:ext cx="1825560" cy="12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j0347779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445000" y="5105520"/>
            <a:ext cx="1413000" cy="126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j0286982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989000" y="2112840"/>
            <a:ext cx="1297080" cy="997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2422440" y="3043080"/>
            <a:ext cx="71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LANCH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3716280" y="2178000"/>
            <a:ext cx="73080" cy="704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3" descr="j0413474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634000" y="3773520"/>
            <a:ext cx="12240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j034779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2133720" y="5195880"/>
            <a:ext cx="1224000" cy="1038240"/>
          </a:xfrm>
          <a:prstGeom prst="rect">
            <a:avLst/>
          </a:prstGeom>
          <a:ln w="0">
            <a:noFill/>
          </a:ln>
        </p:spPr>
      </p:pic>
      <p:sp>
        <p:nvSpPr>
          <p:cNvPr id="52" name="Line 15"/>
          <p:cNvSpPr/>
          <p:nvPr/>
        </p:nvSpPr>
        <p:spPr>
          <a:xfrm>
            <a:off x="0" y="1781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17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I.E.I.“Luis Enrique XVII”</a:t>
            </a:r>
            <a:br>
              <a:rPr sz="800"/>
            </a:b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Jr. Husares de Junín s/n Huaquillay</a:t>
            </a:r>
            <a:br>
              <a:rPr sz="800"/>
            </a:br>
            <a:r>
              <a:rPr b="0" i="1" lang="es-MX" sz="800" spc="-1" strike="noStrike">
                <a:solidFill>
                  <a:srgbClr val="1f497d"/>
                </a:solidFill>
                <a:latin typeface="Calibri"/>
              </a:rPr>
              <a:t>UGEL 04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0" y="252360"/>
            <a:ext cx="5661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i="1" lang="es-MX" sz="1800" spc="-1" strike="noStrike">
                <a:solidFill>
                  <a:srgbClr val="1f497d"/>
                </a:solidFill>
                <a:latin typeface="Calibri"/>
              </a:rPr>
              <a:t>PRACTICA CALIFIC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200"/>
            </a:b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NOMBRE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           :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PROFESORA          :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s-MX" sz="1200" spc="-1" strike="noStrike">
                <a:solidFill>
                  <a:srgbClr val="1f497d"/>
                </a:solidFill>
                <a:latin typeface="Calibri"/>
              </a:rPr>
              <a:t>CARMEN 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1916280" y="847800"/>
            <a:ext cx="33130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5877000" y="52560"/>
            <a:ext cx="792000" cy="93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877000" y="1114560"/>
            <a:ext cx="71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Calibri"/>
              </a:rPr>
              <a:t>NOT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0" y="297648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0" y="44388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0" y="58356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0" y="73627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3860640" y="304308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3860640" y="443880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3933720" y="590076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3860640" y="73627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0" descr="j0383858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5877000" y="6757920"/>
            <a:ext cx="936720" cy="7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j0347775"/>
          <p:cNvPicPr/>
          <p:nvPr/>
        </p:nvPicPr>
        <p:blipFill>
          <a:blip r:embed="rId9">
            <a:biLevel thresh="50000"/>
          </a:blip>
          <a:stretch/>
        </p:blipFill>
        <p:spPr>
          <a:xfrm>
            <a:off x="1916280" y="7904160"/>
            <a:ext cx="1812600" cy="138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j0090461"/>
          <p:cNvPicPr/>
          <p:nvPr/>
        </p:nvPicPr>
        <p:blipFill>
          <a:blip r:embed="rId10">
            <a:biLevel thresh="50000"/>
          </a:blip>
          <a:stretch/>
        </p:blipFill>
        <p:spPr>
          <a:xfrm>
            <a:off x="5661000" y="8078760"/>
            <a:ext cx="1197000" cy="1065240"/>
          </a:xfrm>
          <a:prstGeom prst="rect">
            <a:avLst/>
          </a:prstGeom>
          <a:ln w="0">
            <a:noFill/>
          </a:ln>
        </p:spPr>
      </p:pic>
      <p:sp>
        <p:nvSpPr>
          <p:cNvPr id="69" name="Line 34"/>
          <p:cNvSpPr/>
          <p:nvPr/>
        </p:nvSpPr>
        <p:spPr>
          <a:xfrm>
            <a:off x="0" y="87613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3933720" y="876132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59:15Z</dcterms:created>
  <dc:creator>WinuE</dc:creator>
  <dc:description/>
  <dc:language>en-US</dc:language>
  <cp:lastModifiedBy>WinuE</cp:lastModifiedBy>
  <dcterms:modified xsi:type="dcterms:W3CDTF">2009-08-19T01:10:30Z</dcterms:modified>
  <cp:revision>3</cp:revision>
  <dc:subject/>
  <dc:title>Diapositiva 1</dc:title>
</cp:coreProperties>
</file>