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B5F-D8AB-4C0A-9F40-65DB8A0D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582-6330-4DEB-9616-F05D85A6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AA0-9A8E-4E7E-B98A-1D7FA7C6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32B-F4E5-4E87-9CC5-A0A3C7F3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248-3F9E-47C6-A5D9-451508DA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0A0-1E8C-4C05-8F6C-89931E0F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6AE-7A37-41DC-A16A-31B84F73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AB6-5ED4-47AC-9F8E-57E09255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89D2-19C6-4E75-B160-009F2BC9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F1F-5E94-4EB2-8FA2-AC38D062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0BAC-4A7D-4BA4-8CA1-08A7E210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3D0-56A7-4757-9F54-222D3E96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D0F7-1BE6-4476-AC56-0296E95C340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6215040" cy="87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15920" y="1860480"/>
            <a:ext cx="33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Coloca    “EL”     o    “LA”    donde correspon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j0413626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715000" y="2227320"/>
            <a:ext cx="1143000" cy="8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j0411944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276640" y="6764400"/>
            <a:ext cx="1223640" cy="884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j0347793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819440" y="3632040"/>
            <a:ext cx="1825560" cy="120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j0347779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445000" y="5105520"/>
            <a:ext cx="1413000" cy="1261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j0286982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1989000" y="2112840"/>
            <a:ext cx="1297080" cy="997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2422440" y="3043080"/>
            <a:ext cx="71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LANCH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3716280" y="2178000"/>
            <a:ext cx="73080" cy="704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3" descr="j0413474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5634000" y="3773520"/>
            <a:ext cx="1224000" cy="73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j0347791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2133720" y="5195880"/>
            <a:ext cx="1224000" cy="1038240"/>
          </a:xfrm>
          <a:prstGeom prst="rect">
            <a:avLst/>
          </a:prstGeom>
          <a:ln w="0">
            <a:noFill/>
          </a:ln>
        </p:spPr>
      </p:pic>
      <p:sp>
        <p:nvSpPr>
          <p:cNvPr id="52" name="Line 15"/>
          <p:cNvSpPr/>
          <p:nvPr/>
        </p:nvSpPr>
        <p:spPr>
          <a:xfrm>
            <a:off x="0" y="17812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0" y="0"/>
            <a:ext cx="179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1f497d"/>
                </a:solidFill>
                <a:latin typeface="Calibri"/>
              </a:rPr>
              <a:t>I.E.I.“Luis Enrique XVII”</a:t>
            </a:r>
            <a:br>
              <a:rPr sz="800"/>
            </a:br>
            <a:r>
              <a:rPr b="0" i="1" lang="es-MX" sz="800" spc="-1" strike="noStrike">
                <a:solidFill>
                  <a:srgbClr val="1f497d"/>
                </a:solidFill>
                <a:latin typeface="Calibri"/>
              </a:rPr>
              <a:t>Jr. Husares de Junín s/n Huaquillay</a:t>
            </a:r>
            <a:br>
              <a:rPr sz="800"/>
            </a:br>
            <a:r>
              <a:rPr b="0" i="1" lang="es-MX" sz="800" spc="-1" strike="noStrike">
                <a:solidFill>
                  <a:srgbClr val="1f497d"/>
                </a:solidFill>
                <a:latin typeface="Calibri"/>
              </a:rPr>
              <a:t>UGEL 04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0" y="252360"/>
            <a:ext cx="56610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i="1" lang="es-MX" sz="1800" spc="-1" strike="noStrike">
                <a:solidFill>
                  <a:srgbClr val="1f497d"/>
                </a:solidFill>
                <a:latin typeface="Calibri"/>
              </a:rPr>
              <a:t>PRACTICA CALIFIC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200"/>
            </a:b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NOMBRE</a:t>
            </a: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           :</a:t>
            </a: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PROFESORA          :</a:t>
            </a: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CARMEN 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1916280" y="847800"/>
            <a:ext cx="33130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20"/>
          <p:cNvSpPr/>
          <p:nvPr/>
        </p:nvSpPr>
        <p:spPr>
          <a:xfrm>
            <a:off x="5877000" y="52560"/>
            <a:ext cx="792000" cy="93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5877000" y="111456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Calibri"/>
              </a:rPr>
              <a:t>NOT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22"/>
          <p:cNvSpPr/>
          <p:nvPr/>
        </p:nvSpPr>
        <p:spPr>
          <a:xfrm>
            <a:off x="0" y="297648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23"/>
          <p:cNvSpPr/>
          <p:nvPr/>
        </p:nvSpPr>
        <p:spPr>
          <a:xfrm>
            <a:off x="0" y="443880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24"/>
          <p:cNvSpPr/>
          <p:nvPr/>
        </p:nvSpPr>
        <p:spPr>
          <a:xfrm>
            <a:off x="0" y="583560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25"/>
          <p:cNvSpPr/>
          <p:nvPr/>
        </p:nvSpPr>
        <p:spPr>
          <a:xfrm>
            <a:off x="0" y="736272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26"/>
          <p:cNvSpPr/>
          <p:nvPr/>
        </p:nvSpPr>
        <p:spPr>
          <a:xfrm>
            <a:off x="3860640" y="304308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7"/>
          <p:cNvSpPr/>
          <p:nvPr/>
        </p:nvSpPr>
        <p:spPr>
          <a:xfrm>
            <a:off x="3860640" y="443880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28"/>
          <p:cNvSpPr/>
          <p:nvPr/>
        </p:nvSpPr>
        <p:spPr>
          <a:xfrm>
            <a:off x="3933720" y="590076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3860640" y="736272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0" descr="j0383858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877000" y="6757920"/>
            <a:ext cx="936720" cy="73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j0347775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1916280" y="7904160"/>
            <a:ext cx="1812600" cy="138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j0090461"/>
          <p:cNvPicPr/>
          <p:nvPr/>
        </p:nvPicPr>
        <p:blipFill>
          <a:blip r:embed="rId10">
            <a:biLevel thresh="50000"/>
          </a:blip>
          <a:stretch/>
        </p:blipFill>
        <p:spPr>
          <a:xfrm>
            <a:off x="5661000" y="8078760"/>
            <a:ext cx="1197000" cy="1065240"/>
          </a:xfrm>
          <a:prstGeom prst="rect">
            <a:avLst/>
          </a:prstGeom>
          <a:ln w="0">
            <a:noFill/>
          </a:ln>
        </p:spPr>
      </p:pic>
      <p:sp>
        <p:nvSpPr>
          <p:cNvPr id="69" name="Line 34"/>
          <p:cNvSpPr/>
          <p:nvPr/>
        </p:nvSpPr>
        <p:spPr>
          <a:xfrm>
            <a:off x="0" y="876132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35"/>
          <p:cNvSpPr/>
          <p:nvPr/>
        </p:nvSpPr>
        <p:spPr>
          <a:xfrm>
            <a:off x="3933720" y="876132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59:15Z</dcterms:created>
  <dc:creator>WinuE</dc:creator>
  <dc:description/>
  <dc:language>en-US</dc:language>
  <cp:lastModifiedBy>WinuE</cp:lastModifiedBy>
  <dcterms:modified xsi:type="dcterms:W3CDTF">2009-08-19T01:10:30Z</dcterms:modified>
  <cp:revision>3</cp:revision>
  <dc:subject/>
  <dc:title>Diapositiva 1</dc:title>
</cp:coreProperties>
</file>